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71B-A1C0-448D-8AFA-8EDA2C28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991-10D7-4E1F-BF4B-15A43610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A1A-C697-4CA0-8D64-34AC1080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910-E8CB-4CC1-8065-6FAD64BA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0F8A7-CF1B-422C-B58B-CC3C65D6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84935-104C-469B-9375-D3629FF9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946D6-FBEF-4B36-BC0E-123B5310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34E50-4E7D-4A8B-8DE5-D3D09481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997CF-CE8E-46F4-9E7A-49CCBA8F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1F7F1-9ADA-4926-BAB4-FF99E566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E8C04-6A81-4DD5-81B7-FD2192E9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967-83D7-40BE-975F-580FBBCC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C12A7-BA4E-4065-90B1-34A0BF77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CA5E2-BFF0-47B4-BBC6-614ABFA7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6D450-B518-4111-BF12-44172383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6D489-10FA-4B7B-BA86-18052746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C10FB-7740-41B3-BF2D-7F10AE0B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8AB-D488-40B8-9973-B55EC49C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3EA-9C61-4B00-920F-A3EE9C94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509-B1AD-4BB1-9597-3B9119B7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5DF-20AE-46E0-9BE8-C2DCABAC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07C-BEBB-4263-A5C0-8972487F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429-9B46-49E7-94DE-C80DCC77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340-D862-40B7-A3F9-98B58024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D71C-AF22-4F1C-A217-786189EEA6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CCCA-49A3-40E1-A770-FA371DAF36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pener: How many diagonals does each polygon have?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draw a picture if it will help yo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qu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Octag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Hexag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Ci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732040" y="1633680"/>
            <a:ext cx="1839960" cy="1063440"/>
          </a:xfrm>
          <a:custGeom>
            <a:avLst/>
            <a:gdLst/>
            <a:ahLst/>
            <a:rect l="l" t="t" r="r" b="b"/>
            <a:pathLst>
              <a:path w="5111" h="2953">
                <a:moveTo>
                  <a:pt x="8210" y="6970"/>
                </a:moveTo>
                <a:cubicBezTo>
                  <a:pt x="8210" y="7078"/>
                  <a:pt x="8210" y="7185"/>
                  <a:pt x="8210" y="7293"/>
                </a:cubicBezTo>
                <a:cubicBezTo>
                  <a:pt x="8199" y="7262"/>
                  <a:pt x="8198" y="7249"/>
                  <a:pt x="8186" y="7218"/>
                </a:cubicBezTo>
                <a:cubicBezTo>
                  <a:pt x="8152" y="7128"/>
                  <a:pt x="8124" y="7033"/>
                  <a:pt x="8086" y="6945"/>
                </a:cubicBezTo>
                <a:cubicBezTo>
                  <a:pt x="8046" y="6854"/>
                  <a:pt x="7994" y="6767"/>
                  <a:pt x="7962" y="6672"/>
                </a:cubicBezTo>
                <a:cubicBezTo>
                  <a:pt x="7944" y="6619"/>
                  <a:pt x="7929" y="6562"/>
                  <a:pt x="7913" y="6499"/>
                </a:cubicBezTo>
                <a:cubicBezTo>
                  <a:pt x="7892" y="6418"/>
                  <a:pt x="7862" y="6335"/>
                  <a:pt x="7838" y="6251"/>
                </a:cubicBezTo>
                <a:cubicBezTo>
                  <a:pt x="7823" y="6200"/>
                  <a:pt x="7801" y="6147"/>
                  <a:pt x="7789" y="6102"/>
                </a:cubicBezTo>
                <a:cubicBezTo>
                  <a:pt x="7774" y="6047"/>
                  <a:pt x="7779" y="5983"/>
                  <a:pt x="7764" y="5928"/>
                </a:cubicBezTo>
                <a:cubicBezTo>
                  <a:pt x="7751" y="5879"/>
                  <a:pt x="7740" y="5867"/>
                  <a:pt x="7739" y="5804"/>
                </a:cubicBezTo>
                <a:cubicBezTo>
                  <a:pt x="7737" y="5702"/>
                  <a:pt x="7732" y="5606"/>
                  <a:pt x="7714" y="5507"/>
                </a:cubicBezTo>
                <a:cubicBezTo>
                  <a:pt x="7692" y="5389"/>
                  <a:pt x="7651" y="5270"/>
                  <a:pt x="7615" y="5159"/>
                </a:cubicBezTo>
                <a:cubicBezTo>
                  <a:pt x="7605" y="5127"/>
                  <a:pt x="7600" y="5096"/>
                  <a:pt x="7590" y="5060"/>
                </a:cubicBezTo>
                <a:cubicBezTo>
                  <a:pt x="7652" y="5074"/>
                  <a:pt x="7697" y="5075"/>
                  <a:pt x="7764" y="5085"/>
                </a:cubicBezTo>
                <a:cubicBezTo>
                  <a:pt x="7843" y="5097"/>
                  <a:pt x="7935" y="5128"/>
                  <a:pt x="8012" y="5135"/>
                </a:cubicBezTo>
                <a:cubicBezTo>
                  <a:pt x="8098" y="5143"/>
                  <a:pt x="8175" y="5154"/>
                  <a:pt x="8260" y="5159"/>
                </a:cubicBezTo>
                <a:cubicBezTo>
                  <a:pt x="8343" y="5164"/>
                  <a:pt x="8432" y="5178"/>
                  <a:pt x="8508" y="5184"/>
                </a:cubicBezTo>
                <a:cubicBezTo>
                  <a:pt x="8620" y="5192"/>
                  <a:pt x="8724" y="5166"/>
                  <a:pt x="8830" y="5159"/>
                </a:cubicBezTo>
                <a:cubicBezTo>
                  <a:pt x="8921" y="5153"/>
                  <a:pt x="9018" y="5141"/>
                  <a:pt x="9103" y="5135"/>
                </a:cubicBezTo>
                <a:cubicBezTo>
                  <a:pt x="9209" y="5127"/>
                  <a:pt x="9326" y="5117"/>
                  <a:pt x="9426" y="5110"/>
                </a:cubicBezTo>
                <a:cubicBezTo>
                  <a:pt x="9515" y="5104"/>
                  <a:pt x="9640" y="5081"/>
                  <a:pt x="9723" y="5085"/>
                </a:cubicBezTo>
                <a:cubicBezTo>
                  <a:pt x="9802" y="5089"/>
                  <a:pt x="9788" y="5079"/>
                  <a:pt x="9823" y="5135"/>
                </a:cubicBezTo>
                <a:cubicBezTo>
                  <a:pt x="9843" y="5167"/>
                  <a:pt x="9832" y="5227"/>
                  <a:pt x="9847" y="5259"/>
                </a:cubicBezTo>
                <a:cubicBezTo>
                  <a:pt x="9864" y="5296"/>
                  <a:pt x="9885" y="5317"/>
                  <a:pt x="9897" y="5358"/>
                </a:cubicBezTo>
                <a:cubicBezTo>
                  <a:pt x="9907" y="5392"/>
                  <a:pt x="9944" y="5448"/>
                  <a:pt x="9947" y="5457"/>
                </a:cubicBezTo>
                <a:cubicBezTo>
                  <a:pt x="9971" y="5521"/>
                  <a:pt x="9982" y="5568"/>
                  <a:pt x="10021" y="5631"/>
                </a:cubicBezTo>
                <a:cubicBezTo>
                  <a:pt x="10054" y="5685"/>
                  <a:pt x="10072" y="5728"/>
                  <a:pt x="10096" y="5779"/>
                </a:cubicBezTo>
                <a:cubicBezTo>
                  <a:pt x="10120" y="5831"/>
                  <a:pt x="10138" y="5903"/>
                  <a:pt x="10170" y="5953"/>
                </a:cubicBezTo>
                <a:cubicBezTo>
                  <a:pt x="10232" y="6050"/>
                  <a:pt x="10283" y="6150"/>
                  <a:pt x="10344" y="6251"/>
                </a:cubicBezTo>
                <a:cubicBezTo>
                  <a:pt x="10382" y="6314"/>
                  <a:pt x="10437" y="6384"/>
                  <a:pt x="10468" y="6449"/>
                </a:cubicBezTo>
                <a:cubicBezTo>
                  <a:pt x="10497" y="6509"/>
                  <a:pt x="10512" y="6592"/>
                  <a:pt x="10542" y="6648"/>
                </a:cubicBezTo>
                <a:cubicBezTo>
                  <a:pt x="10577" y="6714"/>
                  <a:pt x="10588" y="6784"/>
                  <a:pt x="10616" y="6846"/>
                </a:cubicBezTo>
                <a:cubicBezTo>
                  <a:pt x="10637" y="6893"/>
                  <a:pt x="10649" y="6918"/>
                  <a:pt x="10666" y="6970"/>
                </a:cubicBezTo>
                <a:cubicBezTo>
                  <a:pt x="10679" y="7012"/>
                  <a:pt x="10704" y="7050"/>
                  <a:pt x="10716" y="7094"/>
                </a:cubicBezTo>
                <a:cubicBezTo>
                  <a:pt x="10726" y="7131"/>
                  <a:pt x="10729" y="7160"/>
                  <a:pt x="10740" y="7193"/>
                </a:cubicBezTo>
                <a:cubicBezTo>
                  <a:pt x="10636" y="7193"/>
                  <a:pt x="10539" y="7177"/>
                  <a:pt x="10443" y="7169"/>
                </a:cubicBezTo>
                <a:cubicBezTo>
                  <a:pt x="10283" y="7156"/>
                  <a:pt x="10122" y="7181"/>
                  <a:pt x="9971" y="7193"/>
                </a:cubicBezTo>
                <a:cubicBezTo>
                  <a:pt x="9898" y="7199"/>
                  <a:pt x="9833" y="7206"/>
                  <a:pt x="9773" y="7218"/>
                </a:cubicBezTo>
                <a:cubicBezTo>
                  <a:pt x="9726" y="7227"/>
                  <a:pt x="9670" y="7238"/>
                  <a:pt x="9624" y="7243"/>
                </a:cubicBezTo>
                <a:cubicBezTo>
                  <a:pt x="9559" y="7251"/>
                  <a:pt x="9490" y="7263"/>
                  <a:pt x="9426" y="7268"/>
                </a:cubicBezTo>
                <a:cubicBezTo>
                  <a:pt x="9353" y="7273"/>
                  <a:pt x="9263" y="7288"/>
                  <a:pt x="9203" y="7293"/>
                </a:cubicBezTo>
                <a:cubicBezTo>
                  <a:pt x="9114" y="7301"/>
                  <a:pt x="9014" y="7311"/>
                  <a:pt x="8930" y="7317"/>
                </a:cubicBezTo>
                <a:cubicBezTo>
                  <a:pt x="8788" y="7328"/>
                  <a:pt x="8635" y="7304"/>
                  <a:pt x="8508" y="7293"/>
                </a:cubicBezTo>
                <a:cubicBezTo>
                  <a:pt x="8450" y="7288"/>
                  <a:pt x="8379" y="7272"/>
                  <a:pt x="8334" y="7268"/>
                </a:cubicBezTo>
                <a:cubicBezTo>
                  <a:pt x="8286" y="7264"/>
                  <a:pt x="8155" y="7283"/>
                  <a:pt x="8186" y="7268"/>
                </a:cubicBezTo>
                <a:cubicBezTo>
                  <a:pt x="8219" y="7260"/>
                  <a:pt x="8252" y="7251"/>
                  <a:pt x="8285" y="7243"/>
                </a:cubicBezTo>
              </a:path>
              <a:path w="5111" h="2953">
                <a:moveTo>
                  <a:pt x="7789" y="5110"/>
                </a:moveTo>
                <a:cubicBezTo>
                  <a:pt x="7766" y="5087"/>
                  <a:pt x="7762" y="5079"/>
                  <a:pt x="7739" y="5085"/>
                </a:cubicBezTo>
                <a:cubicBezTo>
                  <a:pt x="7762" y="5120"/>
                  <a:pt x="7739" y="5102"/>
                  <a:pt x="7789" y="5110"/>
                </a:cubicBezTo>
                <a:cubicBezTo>
                  <a:pt x="7796" y="5138"/>
                  <a:pt x="7798" y="5138"/>
                  <a:pt x="7813" y="5159"/>
                </a:cubicBezTo>
                <a:cubicBezTo>
                  <a:pt x="7861" y="5171"/>
                  <a:pt x="7837" y="5164"/>
                  <a:pt x="7863" y="5184"/>
                </a:cubicBezTo>
                <a:cubicBezTo>
                  <a:pt x="7898" y="5196"/>
                  <a:pt x="7930" y="5192"/>
                  <a:pt x="7962" y="5209"/>
                </a:cubicBezTo>
                <a:cubicBezTo>
                  <a:pt x="7998" y="5228"/>
                  <a:pt x="8025" y="5244"/>
                  <a:pt x="8062" y="5259"/>
                </a:cubicBezTo>
                <a:cubicBezTo>
                  <a:pt x="8085" y="5292"/>
                  <a:pt x="8062" y="5275"/>
                  <a:pt x="8111" y="5283"/>
                </a:cubicBezTo>
                <a:cubicBezTo>
                  <a:pt x="8127" y="5296"/>
                  <a:pt x="8156" y="5315"/>
                  <a:pt x="8186" y="5333"/>
                </a:cubicBezTo>
                <a:cubicBezTo>
                  <a:pt x="8244" y="5367"/>
                  <a:pt x="8299" y="5431"/>
                  <a:pt x="8359" y="5457"/>
                </a:cubicBezTo>
                <a:cubicBezTo>
                  <a:pt x="8418" y="5482"/>
                  <a:pt x="8472" y="5494"/>
                  <a:pt x="8533" y="5531"/>
                </a:cubicBezTo>
                <a:cubicBezTo>
                  <a:pt x="8593" y="5568"/>
                  <a:pt x="8643" y="5598"/>
                  <a:pt x="8706" y="5631"/>
                </a:cubicBezTo>
                <a:cubicBezTo>
                  <a:pt x="8729" y="5653"/>
                  <a:pt x="8734" y="5661"/>
                  <a:pt x="8756" y="5655"/>
                </a:cubicBezTo>
                <a:cubicBezTo>
                  <a:pt x="8764" y="5669"/>
                  <a:pt x="8768" y="5717"/>
                  <a:pt x="8781" y="5730"/>
                </a:cubicBezTo>
                <a:cubicBezTo>
                  <a:pt x="8803" y="5754"/>
                  <a:pt x="8850" y="5786"/>
                  <a:pt x="8880" y="5804"/>
                </a:cubicBezTo>
                <a:cubicBezTo>
                  <a:pt x="8888" y="5804"/>
                  <a:pt x="8897" y="5804"/>
                  <a:pt x="8905" y="5804"/>
                </a:cubicBezTo>
                <a:cubicBezTo>
                  <a:pt x="8923" y="5822"/>
                  <a:pt x="8951" y="5833"/>
                  <a:pt x="8979" y="5854"/>
                </a:cubicBezTo>
                <a:cubicBezTo>
                  <a:pt x="9012" y="5878"/>
                  <a:pt x="9065" y="5921"/>
                  <a:pt x="9103" y="5953"/>
                </a:cubicBezTo>
                <a:cubicBezTo>
                  <a:pt x="9121" y="5968"/>
                  <a:pt x="9144" y="5988"/>
                  <a:pt x="9178" y="6003"/>
                </a:cubicBezTo>
                <a:cubicBezTo>
                  <a:pt x="9198" y="6022"/>
                  <a:pt x="9242" y="6067"/>
                  <a:pt x="9277" y="6102"/>
                </a:cubicBezTo>
                <a:cubicBezTo>
                  <a:pt x="9323" y="6148"/>
                  <a:pt x="9376" y="6182"/>
                  <a:pt x="9426" y="6226"/>
                </a:cubicBezTo>
                <a:cubicBezTo>
                  <a:pt x="9464" y="6259"/>
                  <a:pt x="9539" y="6311"/>
                  <a:pt x="9575" y="6350"/>
                </a:cubicBezTo>
                <a:cubicBezTo>
                  <a:pt x="9610" y="6388"/>
                  <a:pt x="9648" y="6436"/>
                  <a:pt x="9699" y="6474"/>
                </a:cubicBezTo>
                <a:cubicBezTo>
                  <a:pt x="9759" y="6518"/>
                  <a:pt x="9788" y="6552"/>
                  <a:pt x="9847" y="6598"/>
                </a:cubicBezTo>
                <a:cubicBezTo>
                  <a:pt x="9892" y="6633"/>
                  <a:pt x="9949" y="6665"/>
                  <a:pt x="9996" y="6697"/>
                </a:cubicBezTo>
                <a:cubicBezTo>
                  <a:pt x="10046" y="6730"/>
                  <a:pt x="10092" y="6766"/>
                  <a:pt x="10145" y="6796"/>
                </a:cubicBezTo>
                <a:cubicBezTo>
                  <a:pt x="10222" y="6840"/>
                  <a:pt x="10306" y="6885"/>
                  <a:pt x="10368" y="6921"/>
                </a:cubicBezTo>
                <a:cubicBezTo>
                  <a:pt x="10385" y="6931"/>
                  <a:pt x="10430" y="6957"/>
                  <a:pt x="10468" y="6970"/>
                </a:cubicBezTo>
                <a:cubicBezTo>
                  <a:pt x="10502" y="6997"/>
                  <a:pt x="10538" y="7020"/>
                  <a:pt x="10592" y="7045"/>
                </a:cubicBezTo>
                <a:cubicBezTo>
                  <a:pt x="10614" y="7067"/>
                  <a:pt x="10619" y="7075"/>
                  <a:pt x="10641" y="7069"/>
                </a:cubicBezTo>
                <a:cubicBezTo>
                  <a:pt x="10664" y="7104"/>
                  <a:pt x="10641" y="7086"/>
                  <a:pt x="10691" y="7094"/>
                </a:cubicBezTo>
                <a:cubicBezTo>
                  <a:pt x="10711" y="7110"/>
                  <a:pt x="10722" y="7131"/>
                  <a:pt x="10765" y="7144"/>
                </a:cubicBezTo>
                <a:cubicBezTo>
                  <a:pt x="10773" y="7144"/>
                  <a:pt x="10782" y="7144"/>
                  <a:pt x="10790" y="7144"/>
                </a:cubicBezTo>
                <a:cubicBezTo>
                  <a:pt x="10813" y="7179"/>
                  <a:pt x="10790" y="7161"/>
                  <a:pt x="10840" y="7169"/>
                </a:cubicBezTo>
                <a:cubicBezTo>
                  <a:pt x="10858" y="7178"/>
                  <a:pt x="10847" y="7186"/>
                  <a:pt x="10889" y="7193"/>
                </a:cubicBezTo>
              </a:path>
              <a:path w="5111" h="2953">
                <a:moveTo>
                  <a:pt x="7962" y="5507"/>
                </a:moveTo>
                <a:cubicBezTo>
                  <a:pt x="7954" y="5507"/>
                  <a:pt x="7946" y="5507"/>
                  <a:pt x="7938" y="5507"/>
                </a:cubicBezTo>
              </a:path>
              <a:path w="5111" h="2953">
                <a:moveTo>
                  <a:pt x="9550" y="4539"/>
                </a:moveTo>
                <a:lnTo>
                  <a:pt x="9550" y="4539"/>
                </a:lnTo>
              </a:path>
              <a:path w="5111" h="2953">
                <a:moveTo>
                  <a:pt x="9897" y="5184"/>
                </a:moveTo>
                <a:cubicBezTo>
                  <a:pt x="9864" y="5168"/>
                  <a:pt x="9839" y="5133"/>
                  <a:pt x="9798" y="5135"/>
                </a:cubicBezTo>
                <a:cubicBezTo>
                  <a:pt x="9757" y="5137"/>
                  <a:pt x="9736" y="5138"/>
                  <a:pt x="9723" y="5184"/>
                </a:cubicBezTo>
                <a:cubicBezTo>
                  <a:pt x="9715" y="5212"/>
                  <a:pt x="9694" y="5292"/>
                  <a:pt x="9748" y="5308"/>
                </a:cubicBezTo>
                <a:cubicBezTo>
                  <a:pt x="9811" y="5327"/>
                  <a:pt x="9810" y="5211"/>
                  <a:pt x="9798" y="5184"/>
                </a:cubicBezTo>
                <a:cubicBezTo>
                  <a:pt x="9780" y="5143"/>
                  <a:pt x="9784" y="5176"/>
                  <a:pt x="9748" y="5135"/>
                </a:cubicBezTo>
                <a:cubicBezTo>
                  <a:pt x="9709" y="5174"/>
                  <a:pt x="9707" y="5163"/>
                  <a:pt x="9674" y="5209"/>
                </a:cubicBezTo>
                <a:cubicBezTo>
                  <a:pt x="9734" y="5218"/>
                  <a:pt x="9706" y="5251"/>
                  <a:pt x="9748" y="5209"/>
                </a:cubicBezTo>
                <a:cubicBezTo>
                  <a:pt x="9768" y="5189"/>
                  <a:pt x="9742" y="5187"/>
                  <a:pt x="9748" y="5159"/>
                </a:cubicBezTo>
                <a:cubicBezTo>
                  <a:pt x="9729" y="5194"/>
                  <a:pt x="9696" y="5235"/>
                  <a:pt x="9674" y="5283"/>
                </a:cubicBezTo>
                <a:cubicBezTo>
                  <a:pt x="9660" y="5313"/>
                  <a:pt x="9663" y="5353"/>
                  <a:pt x="9649" y="5383"/>
                </a:cubicBezTo>
                <a:cubicBezTo>
                  <a:pt x="9645" y="5390"/>
                  <a:pt x="9612" y="5431"/>
                  <a:pt x="9599" y="5457"/>
                </a:cubicBezTo>
                <a:cubicBezTo>
                  <a:pt x="9580" y="5497"/>
                  <a:pt x="9549" y="5539"/>
                  <a:pt x="9525" y="5581"/>
                </a:cubicBezTo>
                <a:cubicBezTo>
                  <a:pt x="9501" y="5622"/>
                  <a:pt x="9500" y="5647"/>
                  <a:pt x="9475" y="5705"/>
                </a:cubicBezTo>
                <a:cubicBezTo>
                  <a:pt x="9462" y="5735"/>
                  <a:pt x="9464" y="5775"/>
                  <a:pt x="9451" y="5804"/>
                </a:cubicBezTo>
                <a:cubicBezTo>
                  <a:pt x="9422" y="5869"/>
                  <a:pt x="9366" y="5942"/>
                  <a:pt x="9327" y="6003"/>
                </a:cubicBezTo>
                <a:cubicBezTo>
                  <a:pt x="9294" y="6054"/>
                  <a:pt x="9277" y="6108"/>
                  <a:pt x="9252" y="6152"/>
                </a:cubicBezTo>
                <a:cubicBezTo>
                  <a:pt x="9234" y="6184"/>
                  <a:pt x="9180" y="6267"/>
                  <a:pt x="9153" y="6300"/>
                </a:cubicBezTo>
                <a:cubicBezTo>
                  <a:pt x="9119" y="6342"/>
                  <a:pt x="9089" y="6384"/>
                  <a:pt x="9054" y="6424"/>
                </a:cubicBezTo>
                <a:cubicBezTo>
                  <a:pt x="8991" y="6498"/>
                  <a:pt x="8942" y="6574"/>
                  <a:pt x="8880" y="6648"/>
                </a:cubicBezTo>
                <a:cubicBezTo>
                  <a:pt x="8802" y="6741"/>
                  <a:pt x="8801" y="6774"/>
                  <a:pt x="8756" y="6871"/>
                </a:cubicBezTo>
                <a:cubicBezTo>
                  <a:pt x="8726" y="6935"/>
                  <a:pt x="8684" y="6972"/>
                  <a:pt x="8657" y="7020"/>
                </a:cubicBezTo>
                <a:cubicBezTo>
                  <a:pt x="8628" y="7071"/>
                  <a:pt x="8598" y="7136"/>
                  <a:pt x="8558" y="7193"/>
                </a:cubicBezTo>
                <a:cubicBezTo>
                  <a:pt x="8526" y="7239"/>
                  <a:pt x="8494" y="7299"/>
                  <a:pt x="8458" y="7342"/>
                </a:cubicBezTo>
                <a:cubicBezTo>
                  <a:pt x="8420" y="7387"/>
                  <a:pt x="8364" y="7436"/>
                  <a:pt x="8334" y="7466"/>
                </a:cubicBezTo>
                <a:cubicBezTo>
                  <a:pt x="8334" y="7491"/>
                  <a:pt x="8334" y="7499"/>
                  <a:pt x="8334" y="7466"/>
                </a:cubicBezTo>
              </a:path>
              <a:path w="5111" h="2953">
                <a:moveTo>
                  <a:pt x="11534" y="5581"/>
                </a:moveTo>
                <a:cubicBezTo>
                  <a:pt x="11551" y="5616"/>
                  <a:pt x="11579" y="5557"/>
                  <a:pt x="11609" y="5531"/>
                </a:cubicBezTo>
                <a:cubicBezTo>
                  <a:pt x="11684" y="5467"/>
                  <a:pt x="11657" y="5432"/>
                  <a:pt x="11757" y="5432"/>
                </a:cubicBezTo>
                <a:cubicBezTo>
                  <a:pt x="11782" y="5432"/>
                  <a:pt x="11790" y="5432"/>
                  <a:pt x="11807" y="5432"/>
                </a:cubicBezTo>
                <a:cubicBezTo>
                  <a:pt x="11807" y="5484"/>
                  <a:pt x="11819" y="5514"/>
                  <a:pt x="11832" y="5556"/>
                </a:cubicBezTo>
                <a:cubicBezTo>
                  <a:pt x="11850" y="5617"/>
                  <a:pt x="11829" y="5724"/>
                  <a:pt x="11807" y="5779"/>
                </a:cubicBezTo>
                <a:cubicBezTo>
                  <a:pt x="11783" y="5840"/>
                  <a:pt x="11727" y="5905"/>
                  <a:pt x="11683" y="5953"/>
                </a:cubicBezTo>
                <a:cubicBezTo>
                  <a:pt x="11620" y="6020"/>
                  <a:pt x="11591" y="6080"/>
                  <a:pt x="11584" y="6176"/>
                </a:cubicBezTo>
                <a:cubicBezTo>
                  <a:pt x="11578" y="6258"/>
                  <a:pt x="11584" y="6342"/>
                  <a:pt x="11584" y="6424"/>
                </a:cubicBezTo>
                <a:cubicBezTo>
                  <a:pt x="11619" y="6368"/>
                  <a:pt x="11612" y="6296"/>
                  <a:pt x="11633" y="6226"/>
                </a:cubicBezTo>
                <a:cubicBezTo>
                  <a:pt x="11646" y="6184"/>
                  <a:pt x="11670" y="6118"/>
                  <a:pt x="11733" y="6152"/>
                </a:cubicBezTo>
                <a:cubicBezTo>
                  <a:pt x="11782" y="6179"/>
                  <a:pt x="11795" y="6244"/>
                  <a:pt x="11832" y="6276"/>
                </a:cubicBezTo>
                <a:cubicBezTo>
                  <a:pt x="11892" y="6327"/>
                  <a:pt x="11974" y="6287"/>
                  <a:pt x="12030" y="6251"/>
                </a:cubicBezTo>
                <a:cubicBezTo>
                  <a:pt x="12060" y="6221"/>
                  <a:pt x="12071" y="6207"/>
                  <a:pt x="12080" y="6176"/>
                </a:cubicBezTo>
              </a:path>
              <a:path w="5111" h="2953">
                <a:moveTo>
                  <a:pt x="11485" y="6772"/>
                </a:moveTo>
                <a:cubicBezTo>
                  <a:pt x="11565" y="6787"/>
                  <a:pt x="11648" y="6809"/>
                  <a:pt x="11733" y="6796"/>
                </a:cubicBezTo>
                <a:cubicBezTo>
                  <a:pt x="11897" y="6771"/>
                  <a:pt x="12032" y="6713"/>
                  <a:pt x="12179" y="6648"/>
                </a:cubicBezTo>
                <a:cubicBezTo>
                  <a:pt x="12346" y="6573"/>
                  <a:pt x="12536" y="6533"/>
                  <a:pt x="12626" y="6350"/>
                </a:cubicBezTo>
                <a:cubicBezTo>
                  <a:pt x="12711" y="6176"/>
                  <a:pt x="12714" y="5962"/>
                  <a:pt x="12675" y="5779"/>
                </a:cubicBezTo>
                <a:cubicBezTo>
                  <a:pt x="12650" y="5660"/>
                  <a:pt x="12612" y="5509"/>
                  <a:pt x="12551" y="5407"/>
                </a:cubicBezTo>
                <a:cubicBezTo>
                  <a:pt x="12494" y="5312"/>
                  <a:pt x="12399" y="5238"/>
                  <a:pt x="12303" y="5184"/>
                </a:cubicBezTo>
                <a:cubicBezTo>
                  <a:pt x="12171" y="5110"/>
                  <a:pt x="12003" y="5044"/>
                  <a:pt x="11857" y="5035"/>
                </a:cubicBezTo>
                <a:cubicBezTo>
                  <a:pt x="11747" y="5028"/>
                  <a:pt x="11634" y="5033"/>
                  <a:pt x="11534" y="5085"/>
                </a:cubicBezTo>
                <a:cubicBezTo>
                  <a:pt x="11422" y="5144"/>
                  <a:pt x="11335" y="5232"/>
                  <a:pt x="11237" y="5308"/>
                </a:cubicBezTo>
                <a:cubicBezTo>
                  <a:pt x="11140" y="5384"/>
                  <a:pt x="11103" y="5440"/>
                  <a:pt x="11063" y="5556"/>
                </a:cubicBezTo>
                <a:cubicBezTo>
                  <a:pt x="11027" y="5659"/>
                  <a:pt x="10996" y="5768"/>
                  <a:pt x="11013" y="5879"/>
                </a:cubicBezTo>
                <a:cubicBezTo>
                  <a:pt x="11035" y="6017"/>
                  <a:pt x="11085" y="6208"/>
                  <a:pt x="11162" y="6325"/>
                </a:cubicBezTo>
                <a:cubicBezTo>
                  <a:pt x="11214" y="6405"/>
                  <a:pt x="11303" y="6471"/>
                  <a:pt x="11361" y="6548"/>
                </a:cubicBezTo>
                <a:cubicBezTo>
                  <a:pt x="11409" y="6612"/>
                  <a:pt x="11435" y="6635"/>
                  <a:pt x="11509" y="6672"/>
                </a:cubicBezTo>
                <a:cubicBezTo>
                  <a:pt x="11589" y="6712"/>
                  <a:pt x="11626" y="6707"/>
                  <a:pt x="11708" y="6722"/>
                </a:cubicBezTo>
                <a:cubicBezTo>
                  <a:pt x="11777" y="6735"/>
                  <a:pt x="11834" y="6745"/>
                  <a:pt x="11906" y="6747"/>
                </a:cubicBezTo>
                <a:cubicBezTo>
                  <a:pt x="11962" y="6748"/>
                  <a:pt x="12012" y="6764"/>
                  <a:pt x="12055" y="677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60800" y="3170160"/>
            <a:ext cx="4643280" cy="1231920"/>
          </a:xfrm>
          <a:custGeom>
            <a:avLst/>
            <a:gdLst/>
            <a:ahLst/>
            <a:rect l="l" t="t" r="r" b="b"/>
            <a:pathLst>
              <a:path w="12899" h="3424">
                <a:moveTo>
                  <a:pt x="8930" y="10096"/>
                </a:moveTo>
                <a:cubicBezTo>
                  <a:pt x="8930" y="10088"/>
                  <a:pt x="8930" y="10079"/>
                  <a:pt x="8930" y="10071"/>
                </a:cubicBezTo>
                <a:cubicBezTo>
                  <a:pt x="8866" y="10092"/>
                  <a:pt x="8920" y="10273"/>
                  <a:pt x="8930" y="10319"/>
                </a:cubicBezTo>
                <a:cubicBezTo>
                  <a:pt x="8970" y="10510"/>
                  <a:pt x="8997" y="10694"/>
                  <a:pt x="9004" y="10889"/>
                </a:cubicBezTo>
                <a:cubicBezTo>
                  <a:pt x="9005" y="10922"/>
                  <a:pt x="9004" y="10972"/>
                  <a:pt x="9004" y="10939"/>
                </a:cubicBezTo>
              </a:path>
              <a:path w="12899" h="3424">
                <a:moveTo>
                  <a:pt x="8979" y="10071"/>
                </a:moveTo>
                <a:cubicBezTo>
                  <a:pt x="9007" y="10010"/>
                  <a:pt x="9027" y="9974"/>
                  <a:pt x="9079" y="9922"/>
                </a:cubicBezTo>
                <a:cubicBezTo>
                  <a:pt x="9158" y="9842"/>
                  <a:pt x="9231" y="9739"/>
                  <a:pt x="9302" y="9649"/>
                </a:cubicBezTo>
                <a:cubicBezTo>
                  <a:pt x="9366" y="9567"/>
                  <a:pt x="9418" y="9481"/>
                  <a:pt x="9475" y="9401"/>
                </a:cubicBezTo>
                <a:cubicBezTo>
                  <a:pt x="9551" y="9294"/>
                  <a:pt x="9707" y="9135"/>
                  <a:pt x="9798" y="9054"/>
                </a:cubicBezTo>
                <a:cubicBezTo>
                  <a:pt x="9838" y="9034"/>
                  <a:pt x="9844" y="9025"/>
                  <a:pt x="9872" y="9029"/>
                </a:cubicBezTo>
              </a:path>
              <a:path w="12899" h="3424">
                <a:moveTo>
                  <a:pt x="9897" y="9004"/>
                </a:moveTo>
                <a:cubicBezTo>
                  <a:pt x="9944" y="8973"/>
                  <a:pt x="9984" y="8956"/>
                  <a:pt x="10046" y="8954"/>
                </a:cubicBezTo>
                <a:cubicBezTo>
                  <a:pt x="10118" y="8951"/>
                  <a:pt x="10178" y="8938"/>
                  <a:pt x="10244" y="8930"/>
                </a:cubicBezTo>
                <a:cubicBezTo>
                  <a:pt x="10324" y="8920"/>
                  <a:pt x="10417" y="8913"/>
                  <a:pt x="10492" y="8905"/>
                </a:cubicBezTo>
                <a:cubicBezTo>
                  <a:pt x="10564" y="8897"/>
                  <a:pt x="10657" y="8936"/>
                  <a:pt x="10716" y="8930"/>
                </a:cubicBezTo>
                <a:cubicBezTo>
                  <a:pt x="10795" y="8922"/>
                  <a:pt x="10874" y="8930"/>
                  <a:pt x="10964" y="8930"/>
                </a:cubicBezTo>
                <a:cubicBezTo>
                  <a:pt x="11077" y="8930"/>
                  <a:pt x="11176" y="8909"/>
                  <a:pt x="11286" y="8905"/>
                </a:cubicBezTo>
                <a:cubicBezTo>
                  <a:pt x="11366" y="8902"/>
                  <a:pt x="11467" y="8892"/>
                  <a:pt x="11509" y="8880"/>
                </a:cubicBezTo>
                <a:cubicBezTo>
                  <a:pt x="11517" y="8880"/>
                  <a:pt x="11526" y="8880"/>
                  <a:pt x="11534" y="8880"/>
                </a:cubicBezTo>
              </a:path>
              <a:path w="12899" h="3424">
                <a:moveTo>
                  <a:pt x="11534" y="8880"/>
                </a:moveTo>
                <a:cubicBezTo>
                  <a:pt x="11534" y="8952"/>
                  <a:pt x="11580" y="8936"/>
                  <a:pt x="11609" y="9004"/>
                </a:cubicBezTo>
                <a:cubicBezTo>
                  <a:pt x="11631" y="9056"/>
                  <a:pt x="11685" y="9067"/>
                  <a:pt x="11733" y="9103"/>
                </a:cubicBezTo>
                <a:cubicBezTo>
                  <a:pt x="11777" y="9136"/>
                  <a:pt x="11808" y="9178"/>
                  <a:pt x="11857" y="9203"/>
                </a:cubicBezTo>
                <a:cubicBezTo>
                  <a:pt x="11905" y="9227"/>
                  <a:pt x="11950" y="9291"/>
                  <a:pt x="12005" y="9327"/>
                </a:cubicBezTo>
                <a:cubicBezTo>
                  <a:pt x="12070" y="9370"/>
                  <a:pt x="12116" y="9431"/>
                  <a:pt x="12179" y="9475"/>
                </a:cubicBezTo>
                <a:cubicBezTo>
                  <a:pt x="12227" y="9509"/>
                  <a:pt x="12275" y="9562"/>
                  <a:pt x="12328" y="9575"/>
                </a:cubicBezTo>
                <a:cubicBezTo>
                  <a:pt x="12328" y="9628"/>
                  <a:pt x="12340" y="9611"/>
                  <a:pt x="12353" y="9649"/>
                </a:cubicBezTo>
              </a:path>
              <a:path w="12899" h="3424">
                <a:moveTo>
                  <a:pt x="12353" y="9748"/>
                </a:moveTo>
                <a:cubicBezTo>
                  <a:pt x="12353" y="9737"/>
                  <a:pt x="12353" y="9632"/>
                  <a:pt x="12353" y="9699"/>
                </a:cubicBezTo>
                <a:cubicBezTo>
                  <a:pt x="12353" y="9820"/>
                  <a:pt x="12359" y="9932"/>
                  <a:pt x="12378" y="10046"/>
                </a:cubicBezTo>
                <a:cubicBezTo>
                  <a:pt x="12390" y="10116"/>
                  <a:pt x="12399" y="10175"/>
                  <a:pt x="12402" y="10244"/>
                </a:cubicBezTo>
                <a:cubicBezTo>
                  <a:pt x="12405" y="10306"/>
                  <a:pt x="12427" y="10326"/>
                  <a:pt x="12427" y="10393"/>
                </a:cubicBezTo>
                <a:cubicBezTo>
                  <a:pt x="12427" y="10442"/>
                  <a:pt x="12470" y="10501"/>
                  <a:pt x="12477" y="10517"/>
                </a:cubicBezTo>
                <a:cubicBezTo>
                  <a:pt x="12490" y="10547"/>
                  <a:pt x="12499" y="10569"/>
                  <a:pt x="12502" y="10592"/>
                </a:cubicBezTo>
                <a:cubicBezTo>
                  <a:pt x="12508" y="10637"/>
                  <a:pt x="12486" y="10652"/>
                  <a:pt x="12526" y="10666"/>
                </a:cubicBezTo>
              </a:path>
              <a:path w="12899" h="3424">
                <a:moveTo>
                  <a:pt x="12526" y="10716"/>
                </a:moveTo>
                <a:cubicBezTo>
                  <a:pt x="12549" y="10693"/>
                  <a:pt x="12557" y="10689"/>
                  <a:pt x="12551" y="10666"/>
                </a:cubicBezTo>
                <a:cubicBezTo>
                  <a:pt x="12502" y="10715"/>
                  <a:pt x="12433" y="10780"/>
                  <a:pt x="12402" y="10840"/>
                </a:cubicBezTo>
                <a:cubicBezTo>
                  <a:pt x="12355" y="10931"/>
                  <a:pt x="12298" y="11008"/>
                  <a:pt x="12229" y="11088"/>
                </a:cubicBezTo>
                <a:cubicBezTo>
                  <a:pt x="12163" y="11164"/>
                  <a:pt x="12094" y="11233"/>
                  <a:pt x="12030" y="11311"/>
                </a:cubicBezTo>
                <a:cubicBezTo>
                  <a:pt x="11987" y="11363"/>
                  <a:pt x="11972" y="11433"/>
                  <a:pt x="11931" y="11485"/>
                </a:cubicBezTo>
                <a:cubicBezTo>
                  <a:pt x="11907" y="11516"/>
                  <a:pt x="11888" y="11571"/>
                  <a:pt x="11857" y="11609"/>
                </a:cubicBezTo>
                <a:cubicBezTo>
                  <a:pt x="11850" y="11618"/>
                  <a:pt x="11801" y="11689"/>
                  <a:pt x="11857" y="11633"/>
                </a:cubicBezTo>
              </a:path>
              <a:path w="12899" h="3424">
                <a:moveTo>
                  <a:pt x="11757" y="11584"/>
                </a:moveTo>
                <a:cubicBezTo>
                  <a:pt x="11691" y="11600"/>
                  <a:pt x="11626" y="11616"/>
                  <a:pt x="11559" y="11633"/>
                </a:cubicBezTo>
                <a:cubicBezTo>
                  <a:pt x="11483" y="11652"/>
                  <a:pt x="11387" y="11695"/>
                  <a:pt x="11311" y="11708"/>
                </a:cubicBezTo>
                <a:cubicBezTo>
                  <a:pt x="11236" y="11721"/>
                  <a:pt x="11161" y="11746"/>
                  <a:pt x="11088" y="11757"/>
                </a:cubicBezTo>
                <a:cubicBezTo>
                  <a:pt x="11001" y="11770"/>
                  <a:pt x="10952" y="11799"/>
                  <a:pt x="10864" y="11832"/>
                </a:cubicBezTo>
                <a:cubicBezTo>
                  <a:pt x="10759" y="11871"/>
                  <a:pt x="10671" y="11885"/>
                  <a:pt x="10567" y="11931"/>
                </a:cubicBezTo>
                <a:cubicBezTo>
                  <a:pt x="10512" y="11955"/>
                  <a:pt x="10453" y="11983"/>
                  <a:pt x="10393" y="11981"/>
                </a:cubicBezTo>
                <a:cubicBezTo>
                  <a:pt x="10346" y="11979"/>
                  <a:pt x="10318" y="11943"/>
                  <a:pt x="10294" y="11931"/>
                </a:cubicBezTo>
                <a:cubicBezTo>
                  <a:pt x="10260" y="11915"/>
                  <a:pt x="10227" y="11897"/>
                  <a:pt x="10195" y="11881"/>
                </a:cubicBezTo>
                <a:cubicBezTo>
                  <a:pt x="10144" y="11856"/>
                  <a:pt x="10122" y="11816"/>
                  <a:pt x="10071" y="11782"/>
                </a:cubicBezTo>
                <a:cubicBezTo>
                  <a:pt x="10023" y="11750"/>
                  <a:pt x="9974" y="11698"/>
                  <a:pt x="9922" y="11658"/>
                </a:cubicBezTo>
                <a:cubicBezTo>
                  <a:pt x="9893" y="11635"/>
                  <a:pt x="9835" y="11605"/>
                  <a:pt x="9798" y="11584"/>
                </a:cubicBezTo>
                <a:cubicBezTo>
                  <a:pt x="9710" y="11535"/>
                  <a:pt x="9694" y="11474"/>
                  <a:pt x="9624" y="11410"/>
                </a:cubicBezTo>
                <a:cubicBezTo>
                  <a:pt x="9586" y="11375"/>
                  <a:pt x="9540" y="11333"/>
                  <a:pt x="9500" y="11286"/>
                </a:cubicBezTo>
                <a:cubicBezTo>
                  <a:pt x="9477" y="11259"/>
                  <a:pt x="9450" y="11224"/>
                  <a:pt x="9426" y="11187"/>
                </a:cubicBezTo>
                <a:cubicBezTo>
                  <a:pt x="9413" y="11167"/>
                  <a:pt x="9350" y="11118"/>
                  <a:pt x="9327" y="11088"/>
                </a:cubicBezTo>
                <a:cubicBezTo>
                  <a:pt x="9294" y="11044"/>
                  <a:pt x="9273" y="11018"/>
                  <a:pt x="9227" y="10988"/>
                </a:cubicBezTo>
                <a:cubicBezTo>
                  <a:pt x="9189" y="10964"/>
                  <a:pt x="9179" y="10957"/>
                  <a:pt x="9153" y="10939"/>
                </a:cubicBezTo>
                <a:cubicBezTo>
                  <a:pt x="9128" y="10939"/>
                  <a:pt x="9120" y="10939"/>
                  <a:pt x="9128" y="10914"/>
                </a:cubicBezTo>
              </a:path>
              <a:path w="12899" h="3424">
                <a:moveTo>
                  <a:pt x="8855" y="10294"/>
                </a:moveTo>
                <a:cubicBezTo>
                  <a:pt x="8813" y="10238"/>
                  <a:pt x="8837" y="10249"/>
                  <a:pt x="8855" y="10195"/>
                </a:cubicBezTo>
                <a:cubicBezTo>
                  <a:pt x="8859" y="10183"/>
                  <a:pt x="8906" y="10140"/>
                  <a:pt x="8930" y="10170"/>
                </a:cubicBezTo>
                <a:cubicBezTo>
                  <a:pt x="8962" y="10210"/>
                  <a:pt x="9007" y="10343"/>
                  <a:pt x="9029" y="10393"/>
                </a:cubicBezTo>
                <a:cubicBezTo>
                  <a:pt x="9078" y="10503"/>
                  <a:pt x="9071" y="10633"/>
                  <a:pt x="9128" y="10740"/>
                </a:cubicBezTo>
                <a:cubicBezTo>
                  <a:pt x="9148" y="10778"/>
                  <a:pt x="9173" y="10821"/>
                  <a:pt x="9178" y="10864"/>
                </a:cubicBezTo>
                <a:cubicBezTo>
                  <a:pt x="9180" y="10886"/>
                  <a:pt x="9209" y="10956"/>
                  <a:pt x="9227" y="10988"/>
                </a:cubicBezTo>
                <a:cubicBezTo>
                  <a:pt x="9250" y="11011"/>
                  <a:pt x="9258" y="11015"/>
                  <a:pt x="9252" y="11038"/>
                </a:cubicBezTo>
              </a:path>
              <a:path w="12899" h="3424">
                <a:moveTo>
                  <a:pt x="15404" y="9153"/>
                </a:moveTo>
                <a:cubicBezTo>
                  <a:pt x="15404" y="9178"/>
                  <a:pt x="15404" y="9202"/>
                  <a:pt x="15404" y="9227"/>
                </a:cubicBezTo>
                <a:cubicBezTo>
                  <a:pt x="15365" y="9228"/>
                  <a:pt x="15379" y="9178"/>
                  <a:pt x="15429" y="9103"/>
                </a:cubicBezTo>
                <a:cubicBezTo>
                  <a:pt x="15473" y="9037"/>
                  <a:pt x="15578" y="8954"/>
                  <a:pt x="15652" y="9004"/>
                </a:cubicBezTo>
                <a:cubicBezTo>
                  <a:pt x="15767" y="9081"/>
                  <a:pt x="15730" y="9266"/>
                  <a:pt x="15701" y="9376"/>
                </a:cubicBezTo>
                <a:cubicBezTo>
                  <a:pt x="15637" y="9620"/>
                  <a:pt x="15456" y="9779"/>
                  <a:pt x="15304" y="9971"/>
                </a:cubicBezTo>
                <a:cubicBezTo>
                  <a:pt x="15259" y="10027"/>
                  <a:pt x="15194" y="10119"/>
                  <a:pt x="15156" y="10170"/>
                </a:cubicBezTo>
                <a:cubicBezTo>
                  <a:pt x="15166" y="10062"/>
                  <a:pt x="15182" y="10013"/>
                  <a:pt x="15255" y="9922"/>
                </a:cubicBezTo>
                <a:cubicBezTo>
                  <a:pt x="15340" y="9817"/>
                  <a:pt x="15435" y="9712"/>
                  <a:pt x="15577" y="9773"/>
                </a:cubicBezTo>
                <a:cubicBezTo>
                  <a:pt x="15690" y="9822"/>
                  <a:pt x="15745" y="9971"/>
                  <a:pt x="15801" y="10071"/>
                </a:cubicBezTo>
                <a:cubicBezTo>
                  <a:pt x="15869" y="10192"/>
                  <a:pt x="15908" y="10087"/>
                  <a:pt x="15974" y="10021"/>
                </a:cubicBezTo>
              </a:path>
              <a:path w="12899" h="3424">
                <a:moveTo>
                  <a:pt x="16371" y="9178"/>
                </a:moveTo>
                <a:cubicBezTo>
                  <a:pt x="16253" y="9165"/>
                  <a:pt x="16270" y="9159"/>
                  <a:pt x="16222" y="9302"/>
                </a:cubicBezTo>
                <a:cubicBezTo>
                  <a:pt x="16160" y="9484"/>
                  <a:pt x="16139" y="9708"/>
                  <a:pt x="16197" y="9897"/>
                </a:cubicBezTo>
                <a:cubicBezTo>
                  <a:pt x="16246" y="10057"/>
                  <a:pt x="16388" y="10091"/>
                  <a:pt x="16520" y="9996"/>
                </a:cubicBezTo>
                <a:cubicBezTo>
                  <a:pt x="16663" y="9893"/>
                  <a:pt x="16768" y="9676"/>
                  <a:pt x="16768" y="9500"/>
                </a:cubicBezTo>
                <a:cubicBezTo>
                  <a:pt x="16768" y="9327"/>
                  <a:pt x="16644" y="9173"/>
                  <a:pt x="16495" y="9103"/>
                </a:cubicBezTo>
                <a:cubicBezTo>
                  <a:pt x="16363" y="9041"/>
                  <a:pt x="16301" y="9004"/>
                  <a:pt x="16222" y="9128"/>
                </a:cubicBezTo>
              </a:path>
              <a:path w="12899" h="3424">
                <a:moveTo>
                  <a:pt x="9947" y="9004"/>
                </a:moveTo>
                <a:cubicBezTo>
                  <a:pt x="9937" y="9035"/>
                  <a:pt x="9899" y="9070"/>
                  <a:pt x="9922" y="9128"/>
                </a:cubicBezTo>
                <a:cubicBezTo>
                  <a:pt x="9941" y="9178"/>
                  <a:pt x="9949" y="9170"/>
                  <a:pt x="9996" y="9178"/>
                </a:cubicBezTo>
                <a:cubicBezTo>
                  <a:pt x="9996" y="9101"/>
                  <a:pt x="9998" y="9082"/>
                  <a:pt x="9947" y="9029"/>
                </a:cubicBezTo>
                <a:cubicBezTo>
                  <a:pt x="9871" y="9067"/>
                  <a:pt x="9871" y="9145"/>
                  <a:pt x="9897" y="9227"/>
                </a:cubicBezTo>
                <a:cubicBezTo>
                  <a:pt x="9926" y="9318"/>
                  <a:pt x="9983" y="9280"/>
                  <a:pt x="9996" y="9203"/>
                </a:cubicBezTo>
                <a:cubicBezTo>
                  <a:pt x="10003" y="9161"/>
                  <a:pt x="9934" y="9059"/>
                  <a:pt x="9922" y="9103"/>
                </a:cubicBezTo>
                <a:cubicBezTo>
                  <a:pt x="9922" y="9128"/>
                  <a:pt x="9922" y="9153"/>
                  <a:pt x="9922" y="9178"/>
                </a:cubicBezTo>
                <a:cubicBezTo>
                  <a:pt x="9938" y="9258"/>
                  <a:pt x="9939" y="9210"/>
                  <a:pt x="9971" y="9153"/>
                </a:cubicBezTo>
                <a:cubicBezTo>
                  <a:pt x="9956" y="9059"/>
                  <a:pt x="9931" y="9119"/>
                  <a:pt x="9897" y="9178"/>
                </a:cubicBezTo>
              </a:path>
              <a:path w="12899" h="3424">
                <a:moveTo>
                  <a:pt x="9872" y="9376"/>
                </a:moveTo>
                <a:cubicBezTo>
                  <a:pt x="9914" y="9376"/>
                  <a:pt x="9905" y="9376"/>
                  <a:pt x="9947" y="9376"/>
                </a:cubicBezTo>
                <a:cubicBezTo>
                  <a:pt x="9992" y="9376"/>
                  <a:pt x="10012" y="9392"/>
                  <a:pt x="10046" y="9401"/>
                </a:cubicBezTo>
                <a:cubicBezTo>
                  <a:pt x="10075" y="9401"/>
                  <a:pt x="10118" y="9401"/>
                  <a:pt x="10170" y="9401"/>
                </a:cubicBezTo>
                <a:cubicBezTo>
                  <a:pt x="10293" y="9401"/>
                  <a:pt x="10426" y="9384"/>
                  <a:pt x="10542" y="9426"/>
                </a:cubicBezTo>
                <a:cubicBezTo>
                  <a:pt x="10615" y="9453"/>
                  <a:pt x="10658" y="9451"/>
                  <a:pt x="10740" y="9451"/>
                </a:cubicBezTo>
                <a:cubicBezTo>
                  <a:pt x="10885" y="9451"/>
                  <a:pt x="11024" y="9458"/>
                  <a:pt x="11162" y="9475"/>
                </a:cubicBezTo>
                <a:cubicBezTo>
                  <a:pt x="11349" y="9499"/>
                  <a:pt x="11550" y="9477"/>
                  <a:pt x="11733" y="9500"/>
                </a:cubicBezTo>
                <a:cubicBezTo>
                  <a:pt x="11797" y="9508"/>
                  <a:pt x="11821" y="9499"/>
                  <a:pt x="11881" y="9525"/>
                </a:cubicBezTo>
                <a:cubicBezTo>
                  <a:pt x="11923" y="9543"/>
                  <a:pt x="11960" y="9535"/>
                  <a:pt x="12005" y="9550"/>
                </a:cubicBezTo>
                <a:cubicBezTo>
                  <a:pt x="12073" y="9573"/>
                  <a:pt x="12134" y="9612"/>
                  <a:pt x="12204" y="9624"/>
                </a:cubicBezTo>
                <a:cubicBezTo>
                  <a:pt x="12254" y="9632"/>
                  <a:pt x="12308" y="9624"/>
                  <a:pt x="12229" y="9624"/>
                </a:cubicBezTo>
                <a:cubicBezTo>
                  <a:pt x="12204" y="9624"/>
                  <a:pt x="12179" y="9624"/>
                  <a:pt x="12154" y="9624"/>
                </a:cubicBezTo>
              </a:path>
              <a:path w="12899" h="3424">
                <a:moveTo>
                  <a:pt x="9947" y="8979"/>
                </a:moveTo>
                <a:cubicBezTo>
                  <a:pt x="9973" y="9056"/>
                  <a:pt x="9934" y="9010"/>
                  <a:pt x="9996" y="9079"/>
                </a:cubicBezTo>
                <a:cubicBezTo>
                  <a:pt x="10068" y="9159"/>
                  <a:pt x="10131" y="9177"/>
                  <a:pt x="10220" y="9227"/>
                </a:cubicBezTo>
                <a:cubicBezTo>
                  <a:pt x="10284" y="9263"/>
                  <a:pt x="10321" y="9301"/>
                  <a:pt x="10393" y="9327"/>
                </a:cubicBezTo>
                <a:cubicBezTo>
                  <a:pt x="10455" y="9350"/>
                  <a:pt x="10515" y="9375"/>
                  <a:pt x="10567" y="9401"/>
                </a:cubicBezTo>
                <a:cubicBezTo>
                  <a:pt x="10636" y="9435"/>
                  <a:pt x="10697" y="9468"/>
                  <a:pt x="10765" y="9500"/>
                </a:cubicBezTo>
                <a:cubicBezTo>
                  <a:pt x="10822" y="9527"/>
                  <a:pt x="10897" y="9566"/>
                  <a:pt x="10939" y="9599"/>
                </a:cubicBezTo>
                <a:cubicBezTo>
                  <a:pt x="11011" y="9655"/>
                  <a:pt x="11040" y="9653"/>
                  <a:pt x="11112" y="9699"/>
                </a:cubicBezTo>
                <a:cubicBezTo>
                  <a:pt x="11164" y="9732"/>
                  <a:pt x="11216" y="9781"/>
                  <a:pt x="11261" y="9823"/>
                </a:cubicBezTo>
                <a:cubicBezTo>
                  <a:pt x="11296" y="9856"/>
                  <a:pt x="11341" y="9865"/>
                  <a:pt x="11385" y="9897"/>
                </a:cubicBezTo>
                <a:cubicBezTo>
                  <a:pt x="11448" y="9942"/>
                  <a:pt x="11498" y="9998"/>
                  <a:pt x="11559" y="10046"/>
                </a:cubicBezTo>
                <a:cubicBezTo>
                  <a:pt x="11606" y="10083"/>
                  <a:pt x="11661" y="10107"/>
                  <a:pt x="11708" y="10145"/>
                </a:cubicBezTo>
                <a:cubicBezTo>
                  <a:pt x="11772" y="10197"/>
                  <a:pt x="11820" y="10246"/>
                  <a:pt x="11881" y="10294"/>
                </a:cubicBezTo>
                <a:cubicBezTo>
                  <a:pt x="11941" y="10341"/>
                  <a:pt x="12013" y="10356"/>
                  <a:pt x="12080" y="10393"/>
                </a:cubicBezTo>
                <a:cubicBezTo>
                  <a:pt x="12164" y="10439"/>
                  <a:pt x="12234" y="10498"/>
                  <a:pt x="12303" y="10567"/>
                </a:cubicBezTo>
                <a:cubicBezTo>
                  <a:pt x="12332" y="10596"/>
                  <a:pt x="12411" y="10687"/>
                  <a:pt x="12452" y="10716"/>
                </a:cubicBezTo>
                <a:cubicBezTo>
                  <a:pt x="12502" y="10751"/>
                  <a:pt x="12561" y="10789"/>
                  <a:pt x="12601" y="10815"/>
                </a:cubicBezTo>
                <a:cubicBezTo>
                  <a:pt x="12623" y="10837"/>
                  <a:pt x="12628" y="10846"/>
                  <a:pt x="12650" y="10840"/>
                </a:cubicBezTo>
              </a:path>
              <a:path w="12899" h="3424">
                <a:moveTo>
                  <a:pt x="10071" y="9153"/>
                </a:moveTo>
                <a:cubicBezTo>
                  <a:pt x="10046" y="9145"/>
                  <a:pt x="10021" y="9136"/>
                  <a:pt x="9996" y="9128"/>
                </a:cubicBezTo>
              </a:path>
              <a:path w="12899" h="3424">
                <a:moveTo>
                  <a:pt x="9922" y="9103"/>
                </a:moveTo>
                <a:cubicBezTo>
                  <a:pt x="9938" y="9148"/>
                  <a:pt x="9922" y="9178"/>
                  <a:pt x="9996" y="9252"/>
                </a:cubicBezTo>
                <a:cubicBezTo>
                  <a:pt x="10079" y="9335"/>
                  <a:pt x="10144" y="9436"/>
                  <a:pt x="10220" y="9525"/>
                </a:cubicBezTo>
                <a:cubicBezTo>
                  <a:pt x="10282" y="9597"/>
                  <a:pt x="10364" y="9670"/>
                  <a:pt x="10418" y="9748"/>
                </a:cubicBezTo>
                <a:cubicBezTo>
                  <a:pt x="10473" y="9828"/>
                  <a:pt x="10533" y="9895"/>
                  <a:pt x="10592" y="9971"/>
                </a:cubicBezTo>
                <a:cubicBezTo>
                  <a:pt x="10646" y="10040"/>
                  <a:pt x="10675" y="10103"/>
                  <a:pt x="10740" y="10170"/>
                </a:cubicBezTo>
                <a:cubicBezTo>
                  <a:pt x="10793" y="10225"/>
                  <a:pt x="10831" y="10286"/>
                  <a:pt x="10889" y="10344"/>
                </a:cubicBezTo>
                <a:cubicBezTo>
                  <a:pt x="10945" y="10400"/>
                  <a:pt x="11007" y="10438"/>
                  <a:pt x="11063" y="10492"/>
                </a:cubicBezTo>
                <a:cubicBezTo>
                  <a:pt x="11120" y="10547"/>
                  <a:pt x="11163" y="10609"/>
                  <a:pt x="11212" y="10666"/>
                </a:cubicBezTo>
                <a:cubicBezTo>
                  <a:pt x="11265" y="10727"/>
                  <a:pt x="11336" y="10759"/>
                  <a:pt x="11385" y="10815"/>
                </a:cubicBezTo>
                <a:cubicBezTo>
                  <a:pt x="11442" y="10880"/>
                  <a:pt x="11495" y="10950"/>
                  <a:pt x="11559" y="11013"/>
                </a:cubicBezTo>
                <a:cubicBezTo>
                  <a:pt x="11615" y="11068"/>
                  <a:pt x="11676" y="11107"/>
                  <a:pt x="11733" y="11162"/>
                </a:cubicBezTo>
                <a:cubicBezTo>
                  <a:pt x="11792" y="11219"/>
                  <a:pt x="11796" y="11273"/>
                  <a:pt x="11832" y="11336"/>
                </a:cubicBezTo>
                <a:cubicBezTo>
                  <a:pt x="11861" y="11387"/>
                  <a:pt x="11887" y="11435"/>
                  <a:pt x="11906" y="11485"/>
                </a:cubicBezTo>
                <a:cubicBezTo>
                  <a:pt x="11912" y="11501"/>
                  <a:pt x="11956" y="11586"/>
                  <a:pt x="11931" y="11534"/>
                </a:cubicBezTo>
                <a:cubicBezTo>
                  <a:pt x="11870" y="11473"/>
                  <a:pt x="11842" y="11418"/>
                  <a:pt x="11832" y="11336"/>
                </a:cubicBezTo>
              </a:path>
              <a:path w="12899" h="3424">
                <a:moveTo>
                  <a:pt x="10021" y="9203"/>
                </a:moveTo>
                <a:cubicBezTo>
                  <a:pt x="10027" y="9287"/>
                  <a:pt x="10031" y="9369"/>
                  <a:pt x="10046" y="9451"/>
                </a:cubicBezTo>
                <a:cubicBezTo>
                  <a:pt x="10070" y="9576"/>
                  <a:pt x="10091" y="9701"/>
                  <a:pt x="10120" y="9823"/>
                </a:cubicBezTo>
                <a:cubicBezTo>
                  <a:pt x="10152" y="9957"/>
                  <a:pt x="10168" y="10087"/>
                  <a:pt x="10195" y="10220"/>
                </a:cubicBezTo>
                <a:cubicBezTo>
                  <a:pt x="10219" y="10335"/>
                  <a:pt x="10219" y="10455"/>
                  <a:pt x="10244" y="10567"/>
                </a:cubicBezTo>
                <a:cubicBezTo>
                  <a:pt x="10264" y="10658"/>
                  <a:pt x="10285" y="10747"/>
                  <a:pt x="10294" y="10840"/>
                </a:cubicBezTo>
                <a:cubicBezTo>
                  <a:pt x="10303" y="10933"/>
                  <a:pt x="10335" y="11020"/>
                  <a:pt x="10344" y="11112"/>
                </a:cubicBezTo>
                <a:cubicBezTo>
                  <a:pt x="10353" y="11196"/>
                  <a:pt x="10361" y="11278"/>
                  <a:pt x="10368" y="11361"/>
                </a:cubicBezTo>
                <a:cubicBezTo>
                  <a:pt x="10374" y="11430"/>
                  <a:pt x="10376" y="11516"/>
                  <a:pt x="10393" y="11584"/>
                </a:cubicBezTo>
                <a:cubicBezTo>
                  <a:pt x="10413" y="11662"/>
                  <a:pt x="10416" y="11723"/>
                  <a:pt x="10418" y="11807"/>
                </a:cubicBezTo>
                <a:cubicBezTo>
                  <a:pt x="10420" y="11872"/>
                  <a:pt x="10436" y="11920"/>
                  <a:pt x="10443" y="11981"/>
                </a:cubicBezTo>
                <a:cubicBezTo>
                  <a:pt x="10445" y="12003"/>
                  <a:pt x="10454" y="12163"/>
                  <a:pt x="10443" y="12105"/>
                </a:cubicBezTo>
                <a:cubicBezTo>
                  <a:pt x="10435" y="12047"/>
                  <a:pt x="10426" y="11989"/>
                  <a:pt x="10418" y="11931"/>
                </a:cubicBezTo>
              </a:path>
              <a:path w="12899" h="3424">
                <a:moveTo>
                  <a:pt x="9773" y="9153"/>
                </a:moveTo>
                <a:cubicBezTo>
                  <a:pt x="9808" y="9127"/>
                  <a:pt x="9804" y="9128"/>
                  <a:pt x="9847" y="9128"/>
                </a:cubicBezTo>
              </a:path>
              <a:path w="12899" h="3424">
                <a:moveTo>
                  <a:pt x="9922" y="9128"/>
                </a:moveTo>
                <a:cubicBezTo>
                  <a:pt x="9938" y="9202"/>
                  <a:pt x="9931" y="9172"/>
                  <a:pt x="9922" y="9252"/>
                </a:cubicBezTo>
                <a:cubicBezTo>
                  <a:pt x="9917" y="9301"/>
                  <a:pt x="9893" y="9382"/>
                  <a:pt x="9872" y="9426"/>
                </a:cubicBezTo>
                <a:cubicBezTo>
                  <a:pt x="9846" y="9481"/>
                  <a:pt x="9818" y="9521"/>
                  <a:pt x="9798" y="9575"/>
                </a:cubicBezTo>
                <a:cubicBezTo>
                  <a:pt x="9779" y="9627"/>
                  <a:pt x="9745" y="9702"/>
                  <a:pt x="9723" y="9748"/>
                </a:cubicBezTo>
                <a:cubicBezTo>
                  <a:pt x="9701" y="9796"/>
                  <a:pt x="9670" y="9849"/>
                  <a:pt x="9649" y="9897"/>
                </a:cubicBezTo>
                <a:cubicBezTo>
                  <a:pt x="9623" y="9958"/>
                  <a:pt x="9612" y="10007"/>
                  <a:pt x="9599" y="10071"/>
                </a:cubicBezTo>
                <a:cubicBezTo>
                  <a:pt x="9588" y="10122"/>
                  <a:pt x="9566" y="10190"/>
                  <a:pt x="9550" y="10244"/>
                </a:cubicBezTo>
                <a:cubicBezTo>
                  <a:pt x="9533" y="10301"/>
                  <a:pt x="9521" y="10363"/>
                  <a:pt x="9500" y="10418"/>
                </a:cubicBezTo>
                <a:cubicBezTo>
                  <a:pt x="9482" y="10465"/>
                  <a:pt x="9468" y="10518"/>
                  <a:pt x="9451" y="10567"/>
                </a:cubicBezTo>
                <a:cubicBezTo>
                  <a:pt x="9432" y="10624"/>
                  <a:pt x="9422" y="10685"/>
                  <a:pt x="9401" y="10740"/>
                </a:cubicBezTo>
                <a:cubicBezTo>
                  <a:pt x="9379" y="10798"/>
                  <a:pt x="9369" y="10835"/>
                  <a:pt x="9351" y="10889"/>
                </a:cubicBezTo>
                <a:cubicBezTo>
                  <a:pt x="9331" y="10950"/>
                  <a:pt x="9303" y="10962"/>
                  <a:pt x="9277" y="11013"/>
                </a:cubicBezTo>
                <a:cubicBezTo>
                  <a:pt x="9263" y="11041"/>
                  <a:pt x="9249" y="11117"/>
                  <a:pt x="9227" y="11137"/>
                </a:cubicBezTo>
                <a:cubicBezTo>
                  <a:pt x="9219" y="11137"/>
                  <a:pt x="9211" y="11137"/>
                  <a:pt x="9203" y="11137"/>
                </a:cubicBezTo>
              </a:path>
              <a:path w="12899" h="3424">
                <a:moveTo>
                  <a:pt x="11559" y="8830"/>
                </a:moveTo>
                <a:cubicBezTo>
                  <a:pt x="11559" y="8822"/>
                  <a:pt x="11559" y="8814"/>
                  <a:pt x="11559" y="8806"/>
                </a:cubicBezTo>
                <a:cubicBezTo>
                  <a:pt x="11483" y="8866"/>
                  <a:pt x="11485" y="8849"/>
                  <a:pt x="11485" y="8954"/>
                </a:cubicBezTo>
                <a:cubicBezTo>
                  <a:pt x="11485" y="9106"/>
                  <a:pt x="11621" y="8929"/>
                  <a:pt x="11633" y="8905"/>
                </a:cubicBezTo>
                <a:cubicBezTo>
                  <a:pt x="11666" y="8838"/>
                  <a:pt x="11656" y="8867"/>
                  <a:pt x="11609" y="8830"/>
                </a:cubicBezTo>
                <a:cubicBezTo>
                  <a:pt x="11542" y="8804"/>
                  <a:pt x="11490" y="8837"/>
                  <a:pt x="11509" y="8930"/>
                </a:cubicBezTo>
                <a:cubicBezTo>
                  <a:pt x="11532" y="9043"/>
                  <a:pt x="11617" y="8972"/>
                  <a:pt x="11633" y="8905"/>
                </a:cubicBezTo>
                <a:cubicBezTo>
                  <a:pt x="11633" y="8897"/>
                  <a:pt x="11633" y="8888"/>
                  <a:pt x="11633" y="8880"/>
                </a:cubicBezTo>
                <a:cubicBezTo>
                  <a:pt x="11587" y="8845"/>
                  <a:pt x="11547" y="8866"/>
                  <a:pt x="11559" y="8954"/>
                </a:cubicBezTo>
                <a:cubicBezTo>
                  <a:pt x="11567" y="9016"/>
                  <a:pt x="11606" y="9003"/>
                  <a:pt x="11584" y="8930"/>
                </a:cubicBezTo>
                <a:cubicBezTo>
                  <a:pt x="11545" y="8799"/>
                  <a:pt x="11534" y="8967"/>
                  <a:pt x="11534" y="9004"/>
                </a:cubicBezTo>
              </a:path>
              <a:path w="12899" h="3424">
                <a:moveTo>
                  <a:pt x="14362" y="10840"/>
                </a:moveTo>
                <a:cubicBezTo>
                  <a:pt x="14266" y="10840"/>
                  <a:pt x="14181" y="10854"/>
                  <a:pt x="14089" y="10864"/>
                </a:cubicBezTo>
                <a:cubicBezTo>
                  <a:pt x="14008" y="10873"/>
                  <a:pt x="13931" y="10873"/>
                  <a:pt x="13940" y="10988"/>
                </a:cubicBezTo>
                <a:cubicBezTo>
                  <a:pt x="13947" y="11070"/>
                  <a:pt x="13965" y="11150"/>
                  <a:pt x="13965" y="11237"/>
                </a:cubicBezTo>
                <a:cubicBezTo>
                  <a:pt x="14047" y="11220"/>
                  <a:pt x="14103" y="11153"/>
                  <a:pt x="14188" y="11137"/>
                </a:cubicBezTo>
                <a:cubicBezTo>
                  <a:pt x="14336" y="11110"/>
                  <a:pt x="14411" y="11259"/>
                  <a:pt x="14387" y="11385"/>
                </a:cubicBezTo>
                <a:cubicBezTo>
                  <a:pt x="14358" y="11537"/>
                  <a:pt x="14228" y="11683"/>
                  <a:pt x="14064" y="11683"/>
                </a:cubicBezTo>
                <a:cubicBezTo>
                  <a:pt x="13939" y="11683"/>
                  <a:pt x="13962" y="11645"/>
                  <a:pt x="14015" y="11584"/>
                </a:cubicBezTo>
              </a:path>
              <a:path w="12899" h="3424">
                <a:moveTo>
                  <a:pt x="14759" y="11013"/>
                </a:moveTo>
                <a:cubicBezTo>
                  <a:pt x="14827" y="11150"/>
                  <a:pt x="14866" y="11282"/>
                  <a:pt x="14883" y="11435"/>
                </a:cubicBezTo>
                <a:cubicBezTo>
                  <a:pt x="14883" y="11493"/>
                  <a:pt x="14883" y="11501"/>
                  <a:pt x="14883" y="11534"/>
                </a:cubicBezTo>
              </a:path>
              <a:path w="12899" h="3424">
                <a:moveTo>
                  <a:pt x="14709" y="11286"/>
                </a:moveTo>
                <a:cubicBezTo>
                  <a:pt x="14801" y="11220"/>
                  <a:pt x="14910" y="11191"/>
                  <a:pt x="15007" y="11137"/>
                </a:cubicBezTo>
                <a:cubicBezTo>
                  <a:pt x="15015" y="11129"/>
                  <a:pt x="15024" y="11120"/>
                  <a:pt x="15032" y="11112"/>
                </a:cubicBezTo>
              </a:path>
              <a:path w="12899" h="3424">
                <a:moveTo>
                  <a:pt x="11633" y="8880"/>
                </a:moveTo>
                <a:cubicBezTo>
                  <a:pt x="11616" y="8896"/>
                  <a:pt x="11591" y="8929"/>
                  <a:pt x="11559" y="8954"/>
                </a:cubicBezTo>
                <a:cubicBezTo>
                  <a:pt x="11505" y="8996"/>
                  <a:pt x="11443" y="9043"/>
                  <a:pt x="11385" y="9079"/>
                </a:cubicBezTo>
                <a:cubicBezTo>
                  <a:pt x="11341" y="9106"/>
                  <a:pt x="11316" y="9145"/>
                  <a:pt x="11286" y="9178"/>
                </a:cubicBezTo>
                <a:cubicBezTo>
                  <a:pt x="11258" y="9209"/>
                  <a:pt x="11201" y="9258"/>
                  <a:pt x="11187" y="9277"/>
                </a:cubicBezTo>
                <a:cubicBezTo>
                  <a:pt x="11147" y="9332"/>
                  <a:pt x="11157" y="9317"/>
                  <a:pt x="11088" y="9351"/>
                </a:cubicBezTo>
                <a:cubicBezTo>
                  <a:pt x="11072" y="9359"/>
                  <a:pt x="11002" y="9402"/>
                  <a:pt x="10964" y="9426"/>
                </a:cubicBezTo>
                <a:cubicBezTo>
                  <a:pt x="10922" y="9453"/>
                  <a:pt x="10881" y="9478"/>
                  <a:pt x="10840" y="9500"/>
                </a:cubicBezTo>
                <a:cubicBezTo>
                  <a:pt x="10791" y="9526"/>
                  <a:pt x="10724" y="9553"/>
                  <a:pt x="10666" y="9575"/>
                </a:cubicBezTo>
                <a:cubicBezTo>
                  <a:pt x="10614" y="9594"/>
                  <a:pt x="10573" y="9624"/>
                  <a:pt x="10517" y="9649"/>
                </a:cubicBezTo>
                <a:cubicBezTo>
                  <a:pt x="10458" y="9676"/>
                  <a:pt x="10382" y="9698"/>
                  <a:pt x="10319" y="9723"/>
                </a:cubicBezTo>
                <a:cubicBezTo>
                  <a:pt x="10236" y="9756"/>
                  <a:pt x="10156" y="9794"/>
                  <a:pt x="10071" y="9823"/>
                </a:cubicBezTo>
                <a:cubicBezTo>
                  <a:pt x="9980" y="9854"/>
                  <a:pt x="9892" y="9899"/>
                  <a:pt x="9798" y="9922"/>
                </a:cubicBezTo>
                <a:cubicBezTo>
                  <a:pt x="9694" y="9947"/>
                  <a:pt x="9602" y="9983"/>
                  <a:pt x="9500" y="10021"/>
                </a:cubicBezTo>
                <a:cubicBezTo>
                  <a:pt x="9448" y="10041"/>
                  <a:pt x="9379" y="10083"/>
                  <a:pt x="9327" y="10096"/>
                </a:cubicBezTo>
                <a:cubicBezTo>
                  <a:pt x="9279" y="10108"/>
                  <a:pt x="9226" y="10108"/>
                  <a:pt x="9178" y="10120"/>
                </a:cubicBezTo>
                <a:cubicBezTo>
                  <a:pt x="9115" y="10136"/>
                  <a:pt x="9072" y="10141"/>
                  <a:pt x="9004" y="10145"/>
                </a:cubicBezTo>
                <a:cubicBezTo>
                  <a:pt x="8996" y="10145"/>
                  <a:pt x="8987" y="10145"/>
                  <a:pt x="8979" y="10145"/>
                </a:cubicBezTo>
              </a:path>
              <a:path w="12899" h="3424">
                <a:moveTo>
                  <a:pt x="11609" y="8930"/>
                </a:moveTo>
                <a:cubicBezTo>
                  <a:pt x="11577" y="8977"/>
                  <a:pt x="11558" y="9032"/>
                  <a:pt x="11509" y="9079"/>
                </a:cubicBezTo>
                <a:cubicBezTo>
                  <a:pt x="11410" y="9174"/>
                  <a:pt x="11274" y="9276"/>
                  <a:pt x="11162" y="9351"/>
                </a:cubicBezTo>
                <a:cubicBezTo>
                  <a:pt x="11029" y="9440"/>
                  <a:pt x="10896" y="9528"/>
                  <a:pt x="10765" y="9624"/>
                </a:cubicBezTo>
                <a:cubicBezTo>
                  <a:pt x="10646" y="9712"/>
                  <a:pt x="10538" y="9812"/>
                  <a:pt x="10418" y="9897"/>
                </a:cubicBezTo>
                <a:cubicBezTo>
                  <a:pt x="10341" y="9952"/>
                  <a:pt x="10287" y="10014"/>
                  <a:pt x="10220" y="10071"/>
                </a:cubicBezTo>
                <a:cubicBezTo>
                  <a:pt x="10118" y="10158"/>
                  <a:pt x="10007" y="10271"/>
                  <a:pt x="9897" y="10344"/>
                </a:cubicBezTo>
                <a:cubicBezTo>
                  <a:pt x="9812" y="10400"/>
                  <a:pt x="9750" y="10411"/>
                  <a:pt x="9674" y="10492"/>
                </a:cubicBezTo>
                <a:cubicBezTo>
                  <a:pt x="9613" y="10557"/>
                  <a:pt x="9564" y="10626"/>
                  <a:pt x="9500" y="10691"/>
                </a:cubicBezTo>
                <a:cubicBezTo>
                  <a:pt x="9420" y="10773"/>
                  <a:pt x="9346" y="10848"/>
                  <a:pt x="9277" y="10939"/>
                </a:cubicBezTo>
                <a:cubicBezTo>
                  <a:pt x="9230" y="11000"/>
                  <a:pt x="9182" y="11056"/>
                  <a:pt x="9128" y="11112"/>
                </a:cubicBezTo>
                <a:cubicBezTo>
                  <a:pt x="9088" y="11154"/>
                  <a:pt x="9071" y="11186"/>
                  <a:pt x="9029" y="11237"/>
                </a:cubicBezTo>
                <a:cubicBezTo>
                  <a:pt x="8948" y="11336"/>
                  <a:pt x="9117" y="11082"/>
                  <a:pt x="9203" y="10988"/>
                </a:cubicBezTo>
              </a:path>
              <a:path w="12899" h="3424">
                <a:moveTo>
                  <a:pt x="11534" y="8880"/>
                </a:moveTo>
                <a:cubicBezTo>
                  <a:pt x="11559" y="8855"/>
                  <a:pt x="11567" y="8847"/>
                  <a:pt x="11584" y="8830"/>
                </a:cubicBezTo>
                <a:cubicBezTo>
                  <a:pt x="11572" y="8888"/>
                  <a:pt x="11572" y="8946"/>
                  <a:pt x="11559" y="9004"/>
                </a:cubicBezTo>
                <a:cubicBezTo>
                  <a:pt x="11531" y="9129"/>
                  <a:pt x="11441" y="9260"/>
                  <a:pt x="11385" y="9376"/>
                </a:cubicBezTo>
                <a:cubicBezTo>
                  <a:pt x="11331" y="9488"/>
                  <a:pt x="11256" y="9610"/>
                  <a:pt x="11212" y="9723"/>
                </a:cubicBezTo>
                <a:cubicBezTo>
                  <a:pt x="11163" y="9849"/>
                  <a:pt x="11105" y="9966"/>
                  <a:pt x="11063" y="10096"/>
                </a:cubicBezTo>
                <a:cubicBezTo>
                  <a:pt x="11032" y="10191"/>
                  <a:pt x="11012" y="10275"/>
                  <a:pt x="10988" y="10368"/>
                </a:cubicBezTo>
                <a:cubicBezTo>
                  <a:pt x="10966" y="10453"/>
                  <a:pt x="10918" y="10530"/>
                  <a:pt x="10889" y="10616"/>
                </a:cubicBezTo>
                <a:cubicBezTo>
                  <a:pt x="10853" y="10723"/>
                  <a:pt x="10810" y="10814"/>
                  <a:pt x="10765" y="10914"/>
                </a:cubicBezTo>
                <a:cubicBezTo>
                  <a:pt x="10725" y="11002"/>
                  <a:pt x="10718" y="11117"/>
                  <a:pt x="10691" y="11212"/>
                </a:cubicBezTo>
                <a:cubicBezTo>
                  <a:pt x="10642" y="11384"/>
                  <a:pt x="10600" y="11561"/>
                  <a:pt x="10567" y="11733"/>
                </a:cubicBezTo>
                <a:cubicBezTo>
                  <a:pt x="10552" y="11814"/>
                  <a:pt x="10535" y="11898"/>
                  <a:pt x="10517" y="11981"/>
                </a:cubicBezTo>
                <a:cubicBezTo>
                  <a:pt x="10503" y="12046"/>
                  <a:pt x="10502" y="12113"/>
                  <a:pt x="10492" y="12179"/>
                </a:cubicBezTo>
                <a:cubicBezTo>
                  <a:pt x="10492" y="12171"/>
                  <a:pt x="10492" y="12162"/>
                  <a:pt x="10492" y="12154"/>
                </a:cubicBezTo>
              </a:path>
              <a:path w="12899" h="3424">
                <a:moveTo>
                  <a:pt x="11509" y="8979"/>
                </a:moveTo>
                <a:cubicBezTo>
                  <a:pt x="11517" y="8971"/>
                  <a:pt x="11526" y="8962"/>
                  <a:pt x="11534" y="8954"/>
                </a:cubicBezTo>
                <a:cubicBezTo>
                  <a:pt x="11541" y="9065"/>
                  <a:pt x="11574" y="9166"/>
                  <a:pt x="11584" y="9277"/>
                </a:cubicBezTo>
                <a:cubicBezTo>
                  <a:pt x="11597" y="9420"/>
                  <a:pt x="11624" y="9606"/>
                  <a:pt x="11609" y="9748"/>
                </a:cubicBezTo>
                <a:cubicBezTo>
                  <a:pt x="11595" y="9882"/>
                  <a:pt x="11584" y="10008"/>
                  <a:pt x="11584" y="10145"/>
                </a:cubicBezTo>
                <a:cubicBezTo>
                  <a:pt x="11584" y="10265"/>
                  <a:pt x="11598" y="10376"/>
                  <a:pt x="11609" y="10492"/>
                </a:cubicBezTo>
                <a:cubicBezTo>
                  <a:pt x="11621" y="10625"/>
                  <a:pt x="11619" y="10759"/>
                  <a:pt x="11633" y="10889"/>
                </a:cubicBezTo>
                <a:cubicBezTo>
                  <a:pt x="11643" y="10978"/>
                  <a:pt x="11659" y="11078"/>
                  <a:pt x="11683" y="11162"/>
                </a:cubicBezTo>
                <a:cubicBezTo>
                  <a:pt x="11709" y="11253"/>
                  <a:pt x="11754" y="11313"/>
                  <a:pt x="11757" y="11410"/>
                </a:cubicBezTo>
                <a:cubicBezTo>
                  <a:pt x="11759" y="11474"/>
                  <a:pt x="11775" y="11535"/>
                  <a:pt x="11782" y="11584"/>
                </a:cubicBezTo>
                <a:cubicBezTo>
                  <a:pt x="11791" y="11652"/>
                  <a:pt x="11798" y="11717"/>
                  <a:pt x="11807" y="11782"/>
                </a:cubicBezTo>
                <a:cubicBezTo>
                  <a:pt x="11807" y="11848"/>
                  <a:pt x="11807" y="11849"/>
                  <a:pt x="11807" y="11733"/>
                </a:cubicBezTo>
              </a:path>
              <a:path w="12899" h="3424">
                <a:moveTo>
                  <a:pt x="11559" y="8880"/>
                </a:moveTo>
                <a:cubicBezTo>
                  <a:pt x="11577" y="8945"/>
                  <a:pt x="11582" y="9014"/>
                  <a:pt x="11609" y="9079"/>
                </a:cubicBezTo>
                <a:cubicBezTo>
                  <a:pt x="11661" y="9205"/>
                  <a:pt x="11738" y="9322"/>
                  <a:pt x="11782" y="9451"/>
                </a:cubicBezTo>
                <a:cubicBezTo>
                  <a:pt x="11813" y="9541"/>
                  <a:pt x="11886" y="9631"/>
                  <a:pt x="11906" y="9723"/>
                </a:cubicBezTo>
                <a:cubicBezTo>
                  <a:pt x="11924" y="9806"/>
                  <a:pt x="11970" y="9888"/>
                  <a:pt x="12005" y="9971"/>
                </a:cubicBezTo>
                <a:cubicBezTo>
                  <a:pt x="12046" y="10067"/>
                  <a:pt x="12114" y="10149"/>
                  <a:pt x="12154" y="10244"/>
                </a:cubicBezTo>
                <a:cubicBezTo>
                  <a:pt x="12188" y="10325"/>
                  <a:pt x="12230" y="10351"/>
                  <a:pt x="12278" y="10418"/>
                </a:cubicBezTo>
                <a:cubicBezTo>
                  <a:pt x="12317" y="10473"/>
                  <a:pt x="12343" y="10534"/>
                  <a:pt x="12378" y="10592"/>
                </a:cubicBezTo>
                <a:cubicBezTo>
                  <a:pt x="12408" y="10641"/>
                  <a:pt x="12430" y="10689"/>
                  <a:pt x="12452" y="10740"/>
                </a:cubicBezTo>
                <a:cubicBezTo>
                  <a:pt x="12478" y="10800"/>
                  <a:pt x="12531" y="10833"/>
                  <a:pt x="12551" y="10889"/>
                </a:cubicBezTo>
                <a:cubicBezTo>
                  <a:pt x="12567" y="10932"/>
                  <a:pt x="12557" y="10932"/>
                  <a:pt x="12576" y="10964"/>
                </a:cubicBezTo>
              </a:path>
              <a:path w="12899" h="3424">
                <a:moveTo>
                  <a:pt x="15949" y="10840"/>
                </a:moveTo>
                <a:cubicBezTo>
                  <a:pt x="15853" y="10840"/>
                  <a:pt x="15788" y="10878"/>
                  <a:pt x="15701" y="10914"/>
                </a:cubicBezTo>
                <a:cubicBezTo>
                  <a:pt x="15594" y="10957"/>
                  <a:pt x="15571" y="10968"/>
                  <a:pt x="15503" y="10988"/>
                </a:cubicBezTo>
                <a:cubicBezTo>
                  <a:pt x="15515" y="11049"/>
                  <a:pt x="15549" y="11105"/>
                  <a:pt x="15577" y="11162"/>
                </a:cubicBezTo>
                <a:cubicBezTo>
                  <a:pt x="15605" y="11218"/>
                  <a:pt x="15602" y="11225"/>
                  <a:pt x="15602" y="11286"/>
                </a:cubicBezTo>
                <a:cubicBezTo>
                  <a:pt x="15643" y="11272"/>
                  <a:pt x="15651" y="11201"/>
                  <a:pt x="15701" y="11162"/>
                </a:cubicBezTo>
                <a:cubicBezTo>
                  <a:pt x="15775" y="11105"/>
                  <a:pt x="15900" y="11135"/>
                  <a:pt x="15949" y="11212"/>
                </a:cubicBezTo>
                <a:cubicBezTo>
                  <a:pt x="16024" y="11331"/>
                  <a:pt x="15910" y="11508"/>
                  <a:pt x="15801" y="11559"/>
                </a:cubicBezTo>
                <a:cubicBezTo>
                  <a:pt x="15712" y="11600"/>
                  <a:pt x="15598" y="11584"/>
                  <a:pt x="15503" y="11584"/>
                </a:cubicBezTo>
              </a:path>
              <a:path w="12899" h="3424">
                <a:moveTo>
                  <a:pt x="16495" y="10889"/>
                </a:moveTo>
                <a:cubicBezTo>
                  <a:pt x="16515" y="10990"/>
                  <a:pt x="16570" y="11082"/>
                  <a:pt x="16594" y="11187"/>
                </a:cubicBezTo>
                <a:cubicBezTo>
                  <a:pt x="16612" y="11268"/>
                  <a:pt x="16619" y="11468"/>
                  <a:pt x="16619" y="11385"/>
                </a:cubicBezTo>
              </a:path>
              <a:path w="12899" h="3424">
                <a:moveTo>
                  <a:pt x="16396" y="11187"/>
                </a:moveTo>
                <a:cubicBezTo>
                  <a:pt x="16539" y="11168"/>
                  <a:pt x="16675" y="11118"/>
                  <a:pt x="16818" y="11088"/>
                </a:cubicBezTo>
                <a:cubicBezTo>
                  <a:pt x="16842" y="11088"/>
                  <a:pt x="16851" y="11088"/>
                  <a:pt x="16867" y="11088"/>
                </a:cubicBezTo>
              </a:path>
              <a:path w="12899" h="3424">
                <a:moveTo>
                  <a:pt x="12576" y="9575"/>
                </a:moveTo>
                <a:cubicBezTo>
                  <a:pt x="12639" y="9595"/>
                  <a:pt x="12588" y="9569"/>
                  <a:pt x="12576" y="9575"/>
                </a:cubicBezTo>
                <a:cubicBezTo>
                  <a:pt x="12513" y="9605"/>
                  <a:pt x="12551" y="9752"/>
                  <a:pt x="12576" y="9798"/>
                </a:cubicBezTo>
                <a:cubicBezTo>
                  <a:pt x="12598" y="9820"/>
                  <a:pt x="12607" y="9825"/>
                  <a:pt x="12601" y="9847"/>
                </a:cubicBezTo>
                <a:cubicBezTo>
                  <a:pt x="12643" y="9805"/>
                  <a:pt x="12683" y="9736"/>
                  <a:pt x="12650" y="9674"/>
                </a:cubicBezTo>
                <a:cubicBezTo>
                  <a:pt x="12642" y="9674"/>
                  <a:pt x="12634" y="9674"/>
                  <a:pt x="12626" y="9674"/>
                </a:cubicBezTo>
                <a:cubicBezTo>
                  <a:pt x="12548" y="9674"/>
                  <a:pt x="12554" y="9690"/>
                  <a:pt x="12551" y="9773"/>
                </a:cubicBezTo>
                <a:cubicBezTo>
                  <a:pt x="12548" y="9856"/>
                  <a:pt x="12552" y="9872"/>
                  <a:pt x="12626" y="9872"/>
                </a:cubicBezTo>
                <a:cubicBezTo>
                  <a:pt x="12632" y="9827"/>
                  <a:pt x="12678" y="9703"/>
                  <a:pt x="12576" y="9723"/>
                </a:cubicBezTo>
                <a:cubicBezTo>
                  <a:pt x="12516" y="9735"/>
                  <a:pt x="12424" y="9834"/>
                  <a:pt x="12477" y="9897"/>
                </a:cubicBezTo>
                <a:cubicBezTo>
                  <a:pt x="12485" y="9897"/>
                  <a:pt x="12494" y="9897"/>
                  <a:pt x="12502" y="9897"/>
                </a:cubicBezTo>
                <a:cubicBezTo>
                  <a:pt x="12502" y="9891"/>
                  <a:pt x="12501" y="9764"/>
                  <a:pt x="12452" y="9823"/>
                </a:cubicBezTo>
                <a:cubicBezTo>
                  <a:pt x="12428" y="9852"/>
                  <a:pt x="12431" y="9861"/>
                  <a:pt x="12452" y="9872"/>
                </a:cubicBezTo>
              </a:path>
              <a:path w="12899" h="3424">
                <a:moveTo>
                  <a:pt x="12477" y="9798"/>
                </a:moveTo>
                <a:cubicBezTo>
                  <a:pt x="12429" y="9798"/>
                  <a:pt x="12415" y="9794"/>
                  <a:pt x="12378" y="9823"/>
                </a:cubicBezTo>
              </a:path>
              <a:path w="12899" h="3424">
                <a:moveTo>
                  <a:pt x="12526" y="9674"/>
                </a:moveTo>
                <a:cubicBezTo>
                  <a:pt x="12499" y="9655"/>
                  <a:pt x="12491" y="9672"/>
                  <a:pt x="12477" y="9699"/>
                </a:cubicBezTo>
                <a:cubicBezTo>
                  <a:pt x="12461" y="9731"/>
                  <a:pt x="12492" y="9729"/>
                  <a:pt x="12502" y="9699"/>
                </a:cubicBezTo>
              </a:path>
              <a:path w="12899" h="3424">
                <a:moveTo>
                  <a:pt x="12576" y="9624"/>
                </a:moveTo>
                <a:cubicBezTo>
                  <a:pt x="12546" y="9639"/>
                  <a:pt x="12539" y="9632"/>
                  <a:pt x="12502" y="9649"/>
                </a:cubicBezTo>
                <a:cubicBezTo>
                  <a:pt x="12491" y="9654"/>
                  <a:pt x="12442" y="9688"/>
                  <a:pt x="12427" y="9699"/>
                </a:cubicBezTo>
                <a:cubicBezTo>
                  <a:pt x="12389" y="9728"/>
                  <a:pt x="12383" y="9731"/>
                  <a:pt x="12353" y="9748"/>
                </a:cubicBezTo>
                <a:cubicBezTo>
                  <a:pt x="12321" y="9766"/>
                  <a:pt x="12320" y="9757"/>
                  <a:pt x="12278" y="9773"/>
                </a:cubicBezTo>
                <a:cubicBezTo>
                  <a:pt x="12238" y="9789"/>
                  <a:pt x="12201" y="9808"/>
                  <a:pt x="12154" y="9823"/>
                </a:cubicBezTo>
                <a:cubicBezTo>
                  <a:pt x="12113" y="9836"/>
                  <a:pt x="12070" y="9831"/>
                  <a:pt x="12030" y="9847"/>
                </a:cubicBezTo>
                <a:cubicBezTo>
                  <a:pt x="12024" y="9849"/>
                  <a:pt x="11960" y="9886"/>
                  <a:pt x="11931" y="9897"/>
                </a:cubicBezTo>
                <a:cubicBezTo>
                  <a:pt x="11896" y="9910"/>
                  <a:pt x="11883" y="9918"/>
                  <a:pt x="11857" y="9922"/>
                </a:cubicBezTo>
                <a:cubicBezTo>
                  <a:pt x="11805" y="9931"/>
                  <a:pt x="11789" y="9942"/>
                  <a:pt x="11757" y="9947"/>
                </a:cubicBezTo>
                <a:cubicBezTo>
                  <a:pt x="11725" y="9952"/>
                  <a:pt x="11680" y="9968"/>
                  <a:pt x="11658" y="9971"/>
                </a:cubicBezTo>
                <a:cubicBezTo>
                  <a:pt x="11595" y="9979"/>
                  <a:pt x="11545" y="9979"/>
                  <a:pt x="11485" y="9996"/>
                </a:cubicBezTo>
                <a:cubicBezTo>
                  <a:pt x="11444" y="10008"/>
                  <a:pt x="11384" y="10039"/>
                  <a:pt x="11336" y="10046"/>
                </a:cubicBezTo>
                <a:cubicBezTo>
                  <a:pt x="11253" y="10058"/>
                  <a:pt x="11171" y="10054"/>
                  <a:pt x="11088" y="10071"/>
                </a:cubicBezTo>
                <a:cubicBezTo>
                  <a:pt x="11048" y="10079"/>
                  <a:pt x="11017" y="10094"/>
                  <a:pt x="10964" y="10096"/>
                </a:cubicBezTo>
                <a:cubicBezTo>
                  <a:pt x="10895" y="10098"/>
                  <a:pt x="10832" y="10107"/>
                  <a:pt x="10765" y="10120"/>
                </a:cubicBezTo>
                <a:cubicBezTo>
                  <a:pt x="10689" y="10134"/>
                  <a:pt x="10619" y="10149"/>
                  <a:pt x="10542" y="10170"/>
                </a:cubicBezTo>
                <a:cubicBezTo>
                  <a:pt x="10476" y="10188"/>
                  <a:pt x="10410" y="10201"/>
                  <a:pt x="10344" y="10220"/>
                </a:cubicBezTo>
                <a:cubicBezTo>
                  <a:pt x="10284" y="10237"/>
                  <a:pt x="10209" y="10261"/>
                  <a:pt x="10145" y="10269"/>
                </a:cubicBezTo>
                <a:cubicBezTo>
                  <a:pt x="10062" y="10279"/>
                  <a:pt x="9980" y="10292"/>
                  <a:pt x="9897" y="10294"/>
                </a:cubicBezTo>
                <a:cubicBezTo>
                  <a:pt x="9794" y="10297"/>
                  <a:pt x="9695" y="10309"/>
                  <a:pt x="9599" y="10319"/>
                </a:cubicBezTo>
                <a:cubicBezTo>
                  <a:pt x="9541" y="10325"/>
                  <a:pt x="9479" y="10339"/>
                  <a:pt x="9426" y="10344"/>
                </a:cubicBezTo>
                <a:cubicBezTo>
                  <a:pt x="9329" y="10354"/>
                  <a:pt x="9248" y="10347"/>
                  <a:pt x="9153" y="10368"/>
                </a:cubicBezTo>
                <a:cubicBezTo>
                  <a:pt x="9079" y="10384"/>
                  <a:pt x="9007" y="10390"/>
                  <a:pt x="8930" y="10393"/>
                </a:cubicBezTo>
                <a:cubicBezTo>
                  <a:pt x="8910" y="10394"/>
                  <a:pt x="8792" y="10393"/>
                  <a:pt x="8855" y="10393"/>
                </a:cubicBezTo>
                <a:cubicBezTo>
                  <a:pt x="8872" y="10393"/>
                  <a:pt x="8888" y="10393"/>
                  <a:pt x="8905" y="10393"/>
                </a:cubicBezTo>
              </a:path>
              <a:path w="12899" h="3424">
                <a:moveTo>
                  <a:pt x="12650" y="9475"/>
                </a:moveTo>
                <a:cubicBezTo>
                  <a:pt x="12650" y="9483"/>
                  <a:pt x="12650" y="9492"/>
                  <a:pt x="12650" y="9500"/>
                </a:cubicBezTo>
                <a:cubicBezTo>
                  <a:pt x="12690" y="9513"/>
                  <a:pt x="12675" y="9548"/>
                  <a:pt x="12675" y="9599"/>
                </a:cubicBezTo>
              </a:path>
              <a:path w="12899" h="3424">
                <a:moveTo>
                  <a:pt x="12650" y="9723"/>
                </a:moveTo>
                <a:cubicBezTo>
                  <a:pt x="12616" y="9749"/>
                  <a:pt x="12545" y="9822"/>
                  <a:pt x="12502" y="9847"/>
                </a:cubicBezTo>
                <a:cubicBezTo>
                  <a:pt x="12424" y="9893"/>
                  <a:pt x="12315" y="9918"/>
                  <a:pt x="12229" y="9947"/>
                </a:cubicBezTo>
                <a:cubicBezTo>
                  <a:pt x="12108" y="9988"/>
                  <a:pt x="11997" y="10050"/>
                  <a:pt x="11881" y="10096"/>
                </a:cubicBezTo>
                <a:cubicBezTo>
                  <a:pt x="11802" y="10127"/>
                  <a:pt x="11708" y="10169"/>
                  <a:pt x="11633" y="10195"/>
                </a:cubicBezTo>
                <a:cubicBezTo>
                  <a:pt x="11574" y="10215"/>
                  <a:pt x="11498" y="10228"/>
                  <a:pt x="11435" y="10244"/>
                </a:cubicBezTo>
                <a:cubicBezTo>
                  <a:pt x="11370" y="10260"/>
                  <a:pt x="11300" y="10276"/>
                  <a:pt x="11237" y="10294"/>
                </a:cubicBezTo>
                <a:cubicBezTo>
                  <a:pt x="11178" y="10311"/>
                  <a:pt x="11105" y="10349"/>
                  <a:pt x="11038" y="10368"/>
                </a:cubicBezTo>
                <a:cubicBezTo>
                  <a:pt x="10952" y="10392"/>
                  <a:pt x="10882" y="10391"/>
                  <a:pt x="10790" y="10393"/>
                </a:cubicBezTo>
                <a:cubicBezTo>
                  <a:pt x="10704" y="10395"/>
                  <a:pt x="10671" y="10415"/>
                  <a:pt x="10592" y="10443"/>
                </a:cubicBezTo>
                <a:cubicBezTo>
                  <a:pt x="10508" y="10473"/>
                  <a:pt x="10427" y="10511"/>
                  <a:pt x="10344" y="10542"/>
                </a:cubicBezTo>
                <a:cubicBezTo>
                  <a:pt x="10287" y="10563"/>
                  <a:pt x="10249" y="10574"/>
                  <a:pt x="10195" y="10592"/>
                </a:cubicBezTo>
                <a:cubicBezTo>
                  <a:pt x="10106" y="10621"/>
                  <a:pt x="10006" y="10651"/>
                  <a:pt x="9922" y="10691"/>
                </a:cubicBezTo>
                <a:cubicBezTo>
                  <a:pt x="9855" y="10722"/>
                  <a:pt x="9702" y="10778"/>
                  <a:pt x="9649" y="10815"/>
                </a:cubicBezTo>
                <a:cubicBezTo>
                  <a:pt x="9567" y="10872"/>
                  <a:pt x="9508" y="10936"/>
                  <a:pt x="9426" y="10988"/>
                </a:cubicBezTo>
                <a:cubicBezTo>
                  <a:pt x="9361" y="11029"/>
                  <a:pt x="9298" y="11077"/>
                  <a:pt x="9227" y="11112"/>
                </a:cubicBezTo>
                <a:cubicBezTo>
                  <a:pt x="9175" y="11137"/>
                  <a:pt x="9150" y="11161"/>
                  <a:pt x="9103" y="11187"/>
                </a:cubicBezTo>
                <a:cubicBezTo>
                  <a:pt x="9053" y="11214"/>
                  <a:pt x="8953" y="11204"/>
                  <a:pt x="8954" y="11261"/>
                </a:cubicBezTo>
                <a:cubicBezTo>
                  <a:pt x="8989" y="11261"/>
                  <a:pt x="9007" y="11257"/>
                  <a:pt x="9029" y="11237"/>
                </a:cubicBezTo>
              </a:path>
              <a:path w="12899" h="3424">
                <a:moveTo>
                  <a:pt x="12576" y="9773"/>
                </a:moveTo>
                <a:cubicBezTo>
                  <a:pt x="12544" y="9757"/>
                  <a:pt x="12558" y="9764"/>
                  <a:pt x="12526" y="9748"/>
                </a:cubicBezTo>
                <a:cubicBezTo>
                  <a:pt x="12508" y="9794"/>
                  <a:pt x="12512" y="9826"/>
                  <a:pt x="12477" y="9872"/>
                </a:cubicBezTo>
                <a:cubicBezTo>
                  <a:pt x="12391" y="9985"/>
                  <a:pt x="12272" y="10088"/>
                  <a:pt x="12179" y="10195"/>
                </a:cubicBezTo>
                <a:cubicBezTo>
                  <a:pt x="12113" y="10271"/>
                  <a:pt x="12052" y="10352"/>
                  <a:pt x="11981" y="10418"/>
                </a:cubicBezTo>
                <a:cubicBezTo>
                  <a:pt x="11923" y="10472"/>
                  <a:pt x="11868" y="10541"/>
                  <a:pt x="11807" y="10592"/>
                </a:cubicBezTo>
                <a:cubicBezTo>
                  <a:pt x="11761" y="10630"/>
                  <a:pt x="11672" y="10648"/>
                  <a:pt x="11633" y="10691"/>
                </a:cubicBezTo>
                <a:cubicBezTo>
                  <a:pt x="11577" y="10754"/>
                  <a:pt x="11539" y="10795"/>
                  <a:pt x="11485" y="10840"/>
                </a:cubicBezTo>
                <a:cubicBezTo>
                  <a:pt x="11395" y="10914"/>
                  <a:pt x="11344" y="11012"/>
                  <a:pt x="11286" y="11088"/>
                </a:cubicBezTo>
                <a:cubicBezTo>
                  <a:pt x="11234" y="11157"/>
                  <a:pt x="11164" y="11216"/>
                  <a:pt x="11112" y="11286"/>
                </a:cubicBezTo>
                <a:cubicBezTo>
                  <a:pt x="11045" y="11375"/>
                  <a:pt x="10985" y="11473"/>
                  <a:pt x="10914" y="11559"/>
                </a:cubicBezTo>
                <a:cubicBezTo>
                  <a:pt x="10877" y="11605"/>
                  <a:pt x="10823" y="11671"/>
                  <a:pt x="10790" y="11708"/>
                </a:cubicBezTo>
                <a:cubicBezTo>
                  <a:pt x="10751" y="11752"/>
                  <a:pt x="10663" y="11815"/>
                  <a:pt x="10641" y="11857"/>
                </a:cubicBezTo>
                <a:cubicBezTo>
                  <a:pt x="10615" y="11908"/>
                  <a:pt x="10601" y="11975"/>
                  <a:pt x="10567" y="12030"/>
                </a:cubicBezTo>
                <a:cubicBezTo>
                  <a:pt x="10545" y="12066"/>
                  <a:pt x="10493" y="12142"/>
                  <a:pt x="10468" y="12154"/>
                </a:cubicBezTo>
                <a:cubicBezTo>
                  <a:pt x="10468" y="12146"/>
                  <a:pt x="10468" y="12137"/>
                  <a:pt x="10468" y="12129"/>
                </a:cubicBezTo>
              </a:path>
              <a:path w="12899" h="3424">
                <a:moveTo>
                  <a:pt x="12824" y="9649"/>
                </a:moveTo>
                <a:cubicBezTo>
                  <a:pt x="12820" y="9653"/>
                  <a:pt x="12727" y="9744"/>
                  <a:pt x="12725" y="9748"/>
                </a:cubicBezTo>
                <a:cubicBezTo>
                  <a:pt x="12672" y="9842"/>
                  <a:pt x="12638" y="9968"/>
                  <a:pt x="12601" y="10071"/>
                </a:cubicBezTo>
                <a:cubicBezTo>
                  <a:pt x="12580" y="10129"/>
                  <a:pt x="12534" y="10217"/>
                  <a:pt x="12526" y="10269"/>
                </a:cubicBezTo>
                <a:cubicBezTo>
                  <a:pt x="12515" y="10340"/>
                  <a:pt x="12503" y="10376"/>
                  <a:pt x="12477" y="10443"/>
                </a:cubicBezTo>
                <a:cubicBezTo>
                  <a:pt x="12453" y="10503"/>
                  <a:pt x="12407" y="10557"/>
                  <a:pt x="12378" y="10616"/>
                </a:cubicBezTo>
                <a:cubicBezTo>
                  <a:pt x="12349" y="10674"/>
                  <a:pt x="12323" y="10732"/>
                  <a:pt x="12303" y="10790"/>
                </a:cubicBezTo>
                <a:cubicBezTo>
                  <a:pt x="12277" y="10864"/>
                  <a:pt x="12235" y="10922"/>
                  <a:pt x="12204" y="10988"/>
                </a:cubicBezTo>
                <a:cubicBezTo>
                  <a:pt x="12170" y="11062"/>
                  <a:pt x="12104" y="11164"/>
                  <a:pt x="12080" y="11237"/>
                </a:cubicBezTo>
                <a:cubicBezTo>
                  <a:pt x="12054" y="11317"/>
                  <a:pt x="12007" y="11408"/>
                  <a:pt x="11981" y="11485"/>
                </a:cubicBezTo>
                <a:cubicBezTo>
                  <a:pt x="11971" y="11515"/>
                  <a:pt x="11932" y="11605"/>
                  <a:pt x="11931" y="11609"/>
                </a:cubicBezTo>
                <a:cubicBezTo>
                  <a:pt x="11921" y="11646"/>
                  <a:pt x="11919" y="11673"/>
                  <a:pt x="11906" y="11708"/>
                </a:cubicBezTo>
                <a:cubicBezTo>
                  <a:pt x="11906" y="11630"/>
                  <a:pt x="11916" y="11588"/>
                  <a:pt x="11956" y="11534"/>
                </a:cubicBezTo>
              </a:path>
              <a:path w="12899" h="3424">
                <a:moveTo>
                  <a:pt x="17636" y="10864"/>
                </a:moveTo>
                <a:cubicBezTo>
                  <a:pt x="17611" y="10864"/>
                  <a:pt x="17603" y="10864"/>
                  <a:pt x="17611" y="10840"/>
                </a:cubicBezTo>
                <a:cubicBezTo>
                  <a:pt x="17593" y="10929"/>
                  <a:pt x="17555" y="11020"/>
                  <a:pt x="17537" y="11112"/>
                </a:cubicBezTo>
                <a:cubicBezTo>
                  <a:pt x="17537" y="11120"/>
                  <a:pt x="17537" y="11129"/>
                  <a:pt x="17537" y="11137"/>
                </a:cubicBezTo>
                <a:cubicBezTo>
                  <a:pt x="17601" y="11169"/>
                  <a:pt x="17705" y="11094"/>
                  <a:pt x="17785" y="11063"/>
                </a:cubicBezTo>
                <a:cubicBezTo>
                  <a:pt x="17850" y="11038"/>
                  <a:pt x="17868" y="11016"/>
                  <a:pt x="17884" y="11063"/>
                </a:cubicBezTo>
              </a:path>
              <a:path w="12899" h="3424">
                <a:moveTo>
                  <a:pt x="17859" y="10765"/>
                </a:moveTo>
                <a:cubicBezTo>
                  <a:pt x="17859" y="10932"/>
                  <a:pt x="17881" y="11094"/>
                  <a:pt x="17884" y="11261"/>
                </a:cubicBezTo>
                <a:cubicBezTo>
                  <a:pt x="17886" y="11369"/>
                  <a:pt x="17884" y="11476"/>
                  <a:pt x="17884" y="11584"/>
                </a:cubicBezTo>
              </a:path>
              <a:path w="12899" h="3424">
                <a:moveTo>
                  <a:pt x="18405" y="11038"/>
                </a:moveTo>
                <a:lnTo>
                  <a:pt x="18405" y="11187"/>
                </a:lnTo>
                <a:lnTo>
                  <a:pt x="18405" y="11286"/>
                </a:lnTo>
                <a:lnTo>
                  <a:pt x="18430" y="11385"/>
                </a:lnTo>
                <a:lnTo>
                  <a:pt x="18430" y="11460"/>
                </a:lnTo>
                <a:lnTo>
                  <a:pt x="18430" y="11435"/>
                </a:lnTo>
              </a:path>
              <a:path w="12899" h="3424">
                <a:moveTo>
                  <a:pt x="18380" y="11212"/>
                </a:moveTo>
                <a:cubicBezTo>
                  <a:pt x="18480" y="11212"/>
                  <a:pt x="18574" y="11237"/>
                  <a:pt x="18653" y="11162"/>
                </a:cubicBezTo>
                <a:cubicBezTo>
                  <a:pt x="18661" y="11145"/>
                  <a:pt x="18670" y="11129"/>
                  <a:pt x="18678" y="11112"/>
                </a:cubicBezTo>
              </a:path>
              <a:path w="12899" h="3424">
                <a:moveTo>
                  <a:pt x="12626" y="10914"/>
                </a:moveTo>
                <a:cubicBezTo>
                  <a:pt x="12607" y="10857"/>
                  <a:pt x="12581" y="10922"/>
                  <a:pt x="12576" y="10964"/>
                </a:cubicBezTo>
                <a:cubicBezTo>
                  <a:pt x="12565" y="11065"/>
                  <a:pt x="12570" y="11058"/>
                  <a:pt x="12626" y="11112"/>
                </a:cubicBezTo>
                <a:cubicBezTo>
                  <a:pt x="12686" y="11040"/>
                  <a:pt x="12732" y="10972"/>
                  <a:pt x="12650" y="10889"/>
                </a:cubicBezTo>
                <a:cubicBezTo>
                  <a:pt x="12642" y="10889"/>
                  <a:pt x="12634" y="10889"/>
                  <a:pt x="12626" y="10889"/>
                </a:cubicBezTo>
                <a:cubicBezTo>
                  <a:pt x="12542" y="10875"/>
                  <a:pt x="12540" y="11004"/>
                  <a:pt x="12601" y="11088"/>
                </a:cubicBezTo>
                <a:cubicBezTo>
                  <a:pt x="12617" y="11096"/>
                  <a:pt x="12634" y="11104"/>
                  <a:pt x="12650" y="11112"/>
                </a:cubicBezTo>
                <a:cubicBezTo>
                  <a:pt x="12722" y="11069"/>
                  <a:pt x="12768" y="10974"/>
                  <a:pt x="12700" y="10889"/>
                </a:cubicBezTo>
                <a:cubicBezTo>
                  <a:pt x="12660" y="10889"/>
                  <a:pt x="12641" y="10900"/>
                  <a:pt x="12626" y="10939"/>
                </a:cubicBezTo>
              </a:path>
              <a:path w="12899" h="3424">
                <a:moveTo>
                  <a:pt x="12923" y="10988"/>
                </a:moveTo>
                <a:cubicBezTo>
                  <a:pt x="12882" y="10980"/>
                  <a:pt x="12840" y="10969"/>
                  <a:pt x="12799" y="10964"/>
                </a:cubicBezTo>
                <a:cubicBezTo>
                  <a:pt x="12690" y="10952"/>
                  <a:pt x="12524" y="10948"/>
                  <a:pt x="12452" y="10939"/>
                </a:cubicBezTo>
                <a:cubicBezTo>
                  <a:pt x="12395" y="10932"/>
                  <a:pt x="12331" y="10920"/>
                  <a:pt x="12278" y="10914"/>
                </a:cubicBezTo>
                <a:cubicBezTo>
                  <a:pt x="12217" y="10907"/>
                  <a:pt x="12163" y="10902"/>
                  <a:pt x="12105" y="10889"/>
                </a:cubicBezTo>
                <a:cubicBezTo>
                  <a:pt x="12027" y="10871"/>
                  <a:pt x="11938" y="10849"/>
                  <a:pt x="11857" y="10840"/>
                </a:cubicBezTo>
                <a:cubicBezTo>
                  <a:pt x="11758" y="10829"/>
                  <a:pt x="11658" y="10828"/>
                  <a:pt x="11559" y="10815"/>
                </a:cubicBezTo>
                <a:cubicBezTo>
                  <a:pt x="11463" y="10802"/>
                  <a:pt x="11358" y="10783"/>
                  <a:pt x="11261" y="10765"/>
                </a:cubicBezTo>
                <a:cubicBezTo>
                  <a:pt x="11196" y="10753"/>
                  <a:pt x="11127" y="10724"/>
                  <a:pt x="11063" y="10716"/>
                </a:cubicBezTo>
                <a:cubicBezTo>
                  <a:pt x="10966" y="10704"/>
                  <a:pt x="10862" y="10695"/>
                  <a:pt x="10765" y="10691"/>
                </a:cubicBezTo>
                <a:cubicBezTo>
                  <a:pt x="10654" y="10687"/>
                  <a:pt x="10549" y="10675"/>
                  <a:pt x="10443" y="10666"/>
                </a:cubicBezTo>
                <a:cubicBezTo>
                  <a:pt x="10383" y="10661"/>
                  <a:pt x="10296" y="10669"/>
                  <a:pt x="10220" y="10666"/>
                </a:cubicBezTo>
                <a:cubicBezTo>
                  <a:pt x="10116" y="10662"/>
                  <a:pt x="10023" y="10627"/>
                  <a:pt x="9922" y="10616"/>
                </a:cubicBezTo>
                <a:cubicBezTo>
                  <a:pt x="9848" y="10608"/>
                  <a:pt x="9793" y="10608"/>
                  <a:pt x="9723" y="10592"/>
                </a:cubicBezTo>
                <a:cubicBezTo>
                  <a:pt x="9680" y="10582"/>
                  <a:pt x="9639" y="10553"/>
                  <a:pt x="9599" y="10542"/>
                </a:cubicBezTo>
                <a:cubicBezTo>
                  <a:pt x="9530" y="10522"/>
                  <a:pt x="9471" y="10495"/>
                  <a:pt x="9401" y="10468"/>
                </a:cubicBezTo>
                <a:cubicBezTo>
                  <a:pt x="9364" y="10454"/>
                  <a:pt x="9285" y="10422"/>
                  <a:pt x="9252" y="10418"/>
                </a:cubicBezTo>
                <a:cubicBezTo>
                  <a:pt x="9186" y="10410"/>
                  <a:pt x="9140" y="10400"/>
                  <a:pt x="9079" y="10393"/>
                </a:cubicBezTo>
                <a:cubicBezTo>
                  <a:pt x="9028" y="10387"/>
                  <a:pt x="8998" y="10377"/>
                  <a:pt x="8954" y="10368"/>
                </a:cubicBezTo>
                <a:cubicBezTo>
                  <a:pt x="8974" y="10376"/>
                  <a:pt x="9018" y="10399"/>
                  <a:pt x="9079" y="10418"/>
                </a:cubicBezTo>
              </a:path>
              <a:path w="12899" h="3424">
                <a:moveTo>
                  <a:pt x="12601" y="11013"/>
                </a:moveTo>
                <a:cubicBezTo>
                  <a:pt x="12550" y="10996"/>
                  <a:pt x="12542" y="10990"/>
                  <a:pt x="12477" y="10988"/>
                </a:cubicBezTo>
                <a:cubicBezTo>
                  <a:pt x="12367" y="10984"/>
                  <a:pt x="12262" y="10971"/>
                  <a:pt x="12154" y="10964"/>
                </a:cubicBezTo>
                <a:cubicBezTo>
                  <a:pt x="12059" y="10957"/>
                  <a:pt x="11969" y="10950"/>
                  <a:pt x="11881" y="10939"/>
                </a:cubicBezTo>
                <a:cubicBezTo>
                  <a:pt x="11784" y="10927"/>
                  <a:pt x="11697" y="10955"/>
                  <a:pt x="11609" y="10964"/>
                </a:cubicBezTo>
                <a:cubicBezTo>
                  <a:pt x="11513" y="10974"/>
                  <a:pt x="11395" y="10980"/>
                  <a:pt x="11311" y="10988"/>
                </a:cubicBezTo>
                <a:cubicBezTo>
                  <a:pt x="11246" y="10995"/>
                  <a:pt x="11172" y="11008"/>
                  <a:pt x="11112" y="11013"/>
                </a:cubicBezTo>
                <a:cubicBezTo>
                  <a:pt x="11028" y="11020"/>
                  <a:pt x="10946" y="11029"/>
                  <a:pt x="10864" y="11038"/>
                </a:cubicBezTo>
                <a:cubicBezTo>
                  <a:pt x="10660" y="11059"/>
                  <a:pt x="10446" y="11044"/>
                  <a:pt x="10244" y="11063"/>
                </a:cubicBezTo>
                <a:cubicBezTo>
                  <a:pt x="10064" y="11080"/>
                  <a:pt x="9870" y="11059"/>
                  <a:pt x="9699" y="11038"/>
                </a:cubicBezTo>
                <a:cubicBezTo>
                  <a:pt x="9566" y="11022"/>
                  <a:pt x="9426" y="11036"/>
                  <a:pt x="9302" y="11063"/>
                </a:cubicBezTo>
                <a:cubicBezTo>
                  <a:pt x="9204" y="11084"/>
                  <a:pt x="9315" y="11041"/>
                  <a:pt x="9351" y="11013"/>
                </a:cubicBezTo>
              </a:path>
              <a:path w="12899" h="3424">
                <a:moveTo>
                  <a:pt x="12526" y="10939"/>
                </a:moveTo>
                <a:cubicBezTo>
                  <a:pt x="12462" y="10939"/>
                  <a:pt x="12452" y="10951"/>
                  <a:pt x="12402" y="10964"/>
                </a:cubicBezTo>
                <a:cubicBezTo>
                  <a:pt x="12353" y="10977"/>
                  <a:pt x="12283" y="10993"/>
                  <a:pt x="12229" y="11013"/>
                </a:cubicBezTo>
                <a:cubicBezTo>
                  <a:pt x="12160" y="11038"/>
                  <a:pt x="12125" y="11082"/>
                  <a:pt x="12055" y="11088"/>
                </a:cubicBezTo>
                <a:cubicBezTo>
                  <a:pt x="11985" y="11094"/>
                  <a:pt x="11970" y="11124"/>
                  <a:pt x="11906" y="11137"/>
                </a:cubicBezTo>
                <a:cubicBezTo>
                  <a:pt x="11834" y="11152"/>
                  <a:pt x="11751" y="11164"/>
                  <a:pt x="11683" y="11187"/>
                </a:cubicBezTo>
                <a:cubicBezTo>
                  <a:pt x="11608" y="11212"/>
                  <a:pt x="11535" y="11218"/>
                  <a:pt x="11460" y="11237"/>
                </a:cubicBezTo>
                <a:cubicBezTo>
                  <a:pt x="11391" y="11254"/>
                  <a:pt x="11294" y="11292"/>
                  <a:pt x="11237" y="11336"/>
                </a:cubicBezTo>
                <a:cubicBezTo>
                  <a:pt x="11198" y="11366"/>
                  <a:pt x="11156" y="11394"/>
                  <a:pt x="11137" y="11410"/>
                </a:cubicBezTo>
                <a:cubicBezTo>
                  <a:pt x="11066" y="11470"/>
                  <a:pt x="10991" y="11528"/>
                  <a:pt x="10914" y="11584"/>
                </a:cubicBezTo>
                <a:cubicBezTo>
                  <a:pt x="10854" y="11627"/>
                  <a:pt x="10809" y="11697"/>
                  <a:pt x="10740" y="11733"/>
                </a:cubicBezTo>
                <a:cubicBezTo>
                  <a:pt x="10662" y="11774"/>
                  <a:pt x="10658" y="11807"/>
                  <a:pt x="10592" y="11857"/>
                </a:cubicBezTo>
                <a:cubicBezTo>
                  <a:pt x="10555" y="11885"/>
                  <a:pt x="10529" y="11897"/>
                  <a:pt x="10492" y="11931"/>
                </a:cubicBezTo>
                <a:cubicBezTo>
                  <a:pt x="10486" y="11936"/>
                  <a:pt x="10424" y="11973"/>
                  <a:pt x="10418" y="11981"/>
                </a:cubicBezTo>
                <a:cubicBezTo>
                  <a:pt x="10418" y="11989"/>
                  <a:pt x="10418" y="11997"/>
                  <a:pt x="10418" y="12005"/>
                </a:cubicBezTo>
              </a:path>
              <a:path w="12899" h="3424">
                <a:moveTo>
                  <a:pt x="18976" y="10542"/>
                </a:moveTo>
                <a:cubicBezTo>
                  <a:pt x="18976" y="10489"/>
                  <a:pt x="18989" y="10415"/>
                  <a:pt x="19050" y="10393"/>
                </a:cubicBezTo>
                <a:cubicBezTo>
                  <a:pt x="19191" y="10341"/>
                  <a:pt x="19274" y="10498"/>
                  <a:pt x="19248" y="10616"/>
                </a:cubicBezTo>
                <a:cubicBezTo>
                  <a:pt x="19199" y="10716"/>
                  <a:pt x="19183" y="10749"/>
                  <a:pt x="19149" y="10815"/>
                </a:cubicBezTo>
                <a:cubicBezTo>
                  <a:pt x="19246" y="10772"/>
                  <a:pt x="19360" y="10742"/>
                  <a:pt x="19397" y="10889"/>
                </a:cubicBezTo>
                <a:cubicBezTo>
                  <a:pt x="19453" y="11113"/>
                  <a:pt x="19266" y="11173"/>
                  <a:pt x="19100" y="11212"/>
                </a:cubicBezTo>
                <a:cubicBezTo>
                  <a:pt x="18973" y="11242"/>
                  <a:pt x="18943" y="11259"/>
                  <a:pt x="18901" y="11162"/>
                </a:cubicBezTo>
              </a:path>
              <a:path w="12899" h="3424">
                <a:moveTo>
                  <a:pt x="19596" y="10592"/>
                </a:moveTo>
                <a:cubicBezTo>
                  <a:pt x="19684" y="10746"/>
                  <a:pt x="19709" y="10897"/>
                  <a:pt x="19769" y="11063"/>
                </a:cubicBezTo>
                <a:cubicBezTo>
                  <a:pt x="19777" y="11079"/>
                  <a:pt x="19786" y="11096"/>
                  <a:pt x="19794" y="11112"/>
                </a:cubicBezTo>
              </a:path>
              <a:path w="12899" h="3424">
                <a:moveTo>
                  <a:pt x="19670" y="10889"/>
                </a:moveTo>
                <a:cubicBezTo>
                  <a:pt x="19786" y="10862"/>
                  <a:pt x="19884" y="10835"/>
                  <a:pt x="19993" y="10790"/>
                </a:cubicBezTo>
              </a:path>
              <a:path w="12899" h="3424">
                <a:moveTo>
                  <a:pt x="11658" y="11683"/>
                </a:moveTo>
                <a:cubicBezTo>
                  <a:pt x="11703" y="11683"/>
                  <a:pt x="11720" y="11696"/>
                  <a:pt x="11733" y="11658"/>
                </a:cubicBezTo>
                <a:cubicBezTo>
                  <a:pt x="11652" y="11685"/>
                  <a:pt x="11788" y="11792"/>
                  <a:pt x="11832" y="11807"/>
                </a:cubicBezTo>
                <a:cubicBezTo>
                  <a:pt x="11949" y="11848"/>
                  <a:pt x="11956" y="11700"/>
                  <a:pt x="11931" y="11633"/>
                </a:cubicBezTo>
                <a:cubicBezTo>
                  <a:pt x="11902" y="11556"/>
                  <a:pt x="11822" y="11579"/>
                  <a:pt x="11807" y="11658"/>
                </a:cubicBezTo>
                <a:cubicBezTo>
                  <a:pt x="11807" y="11691"/>
                  <a:pt x="11807" y="11724"/>
                  <a:pt x="11807" y="11757"/>
                </a:cubicBezTo>
                <a:cubicBezTo>
                  <a:pt x="11863" y="11791"/>
                  <a:pt x="11935" y="11773"/>
                  <a:pt x="11931" y="11683"/>
                </a:cubicBezTo>
                <a:cubicBezTo>
                  <a:pt x="11923" y="11658"/>
                  <a:pt x="11914" y="11634"/>
                  <a:pt x="11906" y="11609"/>
                </a:cubicBezTo>
                <a:cubicBezTo>
                  <a:pt x="11818" y="11644"/>
                  <a:pt x="11802" y="11721"/>
                  <a:pt x="11857" y="11807"/>
                </a:cubicBezTo>
                <a:cubicBezTo>
                  <a:pt x="11873" y="11824"/>
                  <a:pt x="11890" y="11840"/>
                  <a:pt x="11906" y="11857"/>
                </a:cubicBezTo>
              </a:path>
              <a:path w="12899" h="3424">
                <a:moveTo>
                  <a:pt x="11832" y="11584"/>
                </a:moveTo>
                <a:cubicBezTo>
                  <a:pt x="11763" y="11544"/>
                  <a:pt x="11708" y="11532"/>
                  <a:pt x="11633" y="11509"/>
                </a:cubicBezTo>
                <a:cubicBezTo>
                  <a:pt x="11570" y="11490"/>
                  <a:pt x="11501" y="11476"/>
                  <a:pt x="11435" y="11460"/>
                </a:cubicBezTo>
                <a:cubicBezTo>
                  <a:pt x="11353" y="11440"/>
                  <a:pt x="11287" y="11414"/>
                  <a:pt x="11212" y="11385"/>
                </a:cubicBezTo>
                <a:cubicBezTo>
                  <a:pt x="11158" y="11364"/>
                  <a:pt x="11106" y="11338"/>
                  <a:pt x="11063" y="11311"/>
                </a:cubicBezTo>
                <a:cubicBezTo>
                  <a:pt x="11013" y="11280"/>
                  <a:pt x="10970" y="11235"/>
                  <a:pt x="10914" y="11212"/>
                </a:cubicBezTo>
                <a:cubicBezTo>
                  <a:pt x="10844" y="11183"/>
                  <a:pt x="10779" y="11166"/>
                  <a:pt x="10716" y="11137"/>
                </a:cubicBezTo>
                <a:cubicBezTo>
                  <a:pt x="10654" y="11108"/>
                  <a:pt x="10598" y="11074"/>
                  <a:pt x="10542" y="11038"/>
                </a:cubicBezTo>
                <a:cubicBezTo>
                  <a:pt x="10491" y="11005"/>
                  <a:pt x="10447" y="10984"/>
                  <a:pt x="10393" y="10964"/>
                </a:cubicBezTo>
                <a:cubicBezTo>
                  <a:pt x="10340" y="10944"/>
                  <a:pt x="10267" y="10919"/>
                  <a:pt x="10220" y="10889"/>
                </a:cubicBezTo>
                <a:cubicBezTo>
                  <a:pt x="10134" y="10833"/>
                  <a:pt x="10043" y="10762"/>
                  <a:pt x="9947" y="10716"/>
                </a:cubicBezTo>
                <a:cubicBezTo>
                  <a:pt x="9864" y="10676"/>
                  <a:pt x="9750" y="10643"/>
                  <a:pt x="9674" y="10592"/>
                </a:cubicBezTo>
                <a:cubicBezTo>
                  <a:pt x="9609" y="10548"/>
                  <a:pt x="9580" y="10492"/>
                  <a:pt x="9525" y="10443"/>
                </a:cubicBezTo>
                <a:cubicBezTo>
                  <a:pt x="9486" y="10408"/>
                  <a:pt x="9410" y="10372"/>
                  <a:pt x="9376" y="10344"/>
                </a:cubicBezTo>
                <a:cubicBezTo>
                  <a:pt x="9307" y="10288"/>
                  <a:pt x="9247" y="10244"/>
                  <a:pt x="9178" y="10195"/>
                </a:cubicBezTo>
                <a:cubicBezTo>
                  <a:pt x="9100" y="10139"/>
                  <a:pt x="9068" y="10102"/>
                  <a:pt x="8979" y="10071"/>
                </a:cubicBezTo>
                <a:cubicBezTo>
                  <a:pt x="9030" y="10020"/>
                  <a:pt x="9069" y="10031"/>
                  <a:pt x="9128" y="10120"/>
                </a:cubicBezTo>
              </a:path>
              <a:path w="12899" h="3424">
                <a:moveTo>
                  <a:pt x="12005" y="11609"/>
                </a:moveTo>
                <a:cubicBezTo>
                  <a:pt x="11964" y="11609"/>
                  <a:pt x="11972" y="11609"/>
                  <a:pt x="11931" y="11609"/>
                </a:cubicBezTo>
                <a:cubicBezTo>
                  <a:pt x="11849" y="11609"/>
                  <a:pt x="11782" y="11591"/>
                  <a:pt x="11708" y="11584"/>
                </a:cubicBezTo>
                <a:cubicBezTo>
                  <a:pt x="11651" y="11578"/>
                  <a:pt x="11578" y="11564"/>
                  <a:pt x="11534" y="11559"/>
                </a:cubicBezTo>
                <a:cubicBezTo>
                  <a:pt x="11461" y="11551"/>
                  <a:pt x="11407" y="11558"/>
                  <a:pt x="11336" y="11534"/>
                </a:cubicBezTo>
                <a:cubicBezTo>
                  <a:pt x="11297" y="11521"/>
                  <a:pt x="11224" y="11490"/>
                  <a:pt x="11187" y="11485"/>
                </a:cubicBezTo>
                <a:cubicBezTo>
                  <a:pt x="11131" y="11477"/>
                  <a:pt x="11111" y="11476"/>
                  <a:pt x="11063" y="11460"/>
                </a:cubicBezTo>
                <a:cubicBezTo>
                  <a:pt x="11004" y="11440"/>
                  <a:pt x="10948" y="11410"/>
                  <a:pt x="10889" y="11385"/>
                </a:cubicBezTo>
                <a:cubicBezTo>
                  <a:pt x="10813" y="11353"/>
                  <a:pt x="10722" y="11345"/>
                  <a:pt x="10641" y="11311"/>
                </a:cubicBezTo>
                <a:cubicBezTo>
                  <a:pt x="10562" y="11278"/>
                  <a:pt x="10502" y="11257"/>
                  <a:pt x="10418" y="11237"/>
                </a:cubicBezTo>
                <a:cubicBezTo>
                  <a:pt x="10328" y="11216"/>
                  <a:pt x="10237" y="11184"/>
                  <a:pt x="10145" y="11162"/>
                </a:cubicBezTo>
                <a:cubicBezTo>
                  <a:pt x="10072" y="11144"/>
                  <a:pt x="9998" y="11140"/>
                  <a:pt x="9922" y="11137"/>
                </a:cubicBezTo>
                <a:cubicBezTo>
                  <a:pt x="9837" y="11134"/>
                  <a:pt x="9778" y="11100"/>
                  <a:pt x="9699" y="11088"/>
                </a:cubicBezTo>
                <a:cubicBezTo>
                  <a:pt x="9621" y="11076"/>
                  <a:pt x="9525" y="11070"/>
                  <a:pt x="9451" y="11063"/>
                </a:cubicBezTo>
                <a:cubicBezTo>
                  <a:pt x="9380" y="11056"/>
                  <a:pt x="9320" y="11044"/>
                  <a:pt x="9252" y="11038"/>
                </a:cubicBezTo>
                <a:cubicBezTo>
                  <a:pt x="9184" y="11032"/>
                  <a:pt x="9141" y="11020"/>
                  <a:pt x="9079" y="11013"/>
                </a:cubicBezTo>
                <a:cubicBezTo>
                  <a:pt x="9054" y="11010"/>
                  <a:pt x="9029" y="11015"/>
                  <a:pt x="9004" y="11013"/>
                </a:cubicBezTo>
              </a:path>
              <a:path w="12899" h="3424">
                <a:moveTo>
                  <a:pt x="20241" y="10592"/>
                </a:moveTo>
                <a:cubicBezTo>
                  <a:pt x="20241" y="10517"/>
                  <a:pt x="20269" y="10511"/>
                  <a:pt x="20340" y="10468"/>
                </a:cubicBezTo>
                <a:cubicBezTo>
                  <a:pt x="20389" y="10443"/>
                  <a:pt x="20406" y="10434"/>
                  <a:pt x="20439" y="10418"/>
                </a:cubicBezTo>
                <a:cubicBezTo>
                  <a:pt x="20565" y="10580"/>
                  <a:pt x="20515" y="10728"/>
                  <a:pt x="20439" y="10914"/>
                </a:cubicBezTo>
                <a:cubicBezTo>
                  <a:pt x="20379" y="11062"/>
                  <a:pt x="20289" y="11213"/>
                  <a:pt x="20241" y="11361"/>
                </a:cubicBezTo>
                <a:cubicBezTo>
                  <a:pt x="20255" y="11274"/>
                  <a:pt x="20292" y="11207"/>
                  <a:pt x="20389" y="11187"/>
                </a:cubicBezTo>
                <a:cubicBezTo>
                  <a:pt x="20465" y="11171"/>
                  <a:pt x="20560" y="11187"/>
                  <a:pt x="20638" y="11187"/>
                </a:cubicBezTo>
              </a:path>
              <a:path w="12899" h="3424">
                <a:moveTo>
                  <a:pt x="10616" y="12030"/>
                </a:moveTo>
                <a:cubicBezTo>
                  <a:pt x="10599" y="11961"/>
                  <a:pt x="10567" y="11971"/>
                  <a:pt x="10517" y="11981"/>
                </a:cubicBezTo>
                <a:cubicBezTo>
                  <a:pt x="10428" y="11999"/>
                  <a:pt x="10446" y="12139"/>
                  <a:pt x="10468" y="12204"/>
                </a:cubicBezTo>
                <a:cubicBezTo>
                  <a:pt x="10476" y="12212"/>
                  <a:pt x="10484" y="12221"/>
                  <a:pt x="10492" y="12229"/>
                </a:cubicBezTo>
                <a:cubicBezTo>
                  <a:pt x="10576" y="12208"/>
                  <a:pt x="10652" y="12139"/>
                  <a:pt x="10616" y="12030"/>
                </a:cubicBezTo>
                <a:cubicBezTo>
                  <a:pt x="10591" y="11955"/>
                  <a:pt x="10483" y="11880"/>
                  <a:pt x="10418" y="11956"/>
                </a:cubicBezTo>
                <a:cubicBezTo>
                  <a:pt x="10338" y="12050"/>
                  <a:pt x="10422" y="12126"/>
                  <a:pt x="10492" y="12179"/>
                </a:cubicBezTo>
                <a:cubicBezTo>
                  <a:pt x="10524" y="12158"/>
                  <a:pt x="10538" y="12076"/>
                  <a:pt x="10492" y="12030"/>
                </a:cubicBezTo>
                <a:cubicBezTo>
                  <a:pt x="10476" y="12022"/>
                  <a:pt x="10459" y="12013"/>
                  <a:pt x="10443" y="12005"/>
                </a:cubicBezTo>
                <a:cubicBezTo>
                  <a:pt x="10403" y="12035"/>
                  <a:pt x="10359" y="12121"/>
                  <a:pt x="10418" y="12179"/>
                </a:cubicBezTo>
                <a:cubicBezTo>
                  <a:pt x="10426" y="12179"/>
                  <a:pt x="10435" y="12179"/>
                  <a:pt x="10443" y="12179"/>
                </a:cubicBezTo>
              </a:path>
              <a:path w="12899" h="3424">
                <a:moveTo>
                  <a:pt x="10641" y="12055"/>
                </a:moveTo>
                <a:cubicBezTo>
                  <a:pt x="10641" y="12063"/>
                  <a:pt x="10641" y="12072"/>
                  <a:pt x="10641" y="12080"/>
                </a:cubicBezTo>
                <a:cubicBezTo>
                  <a:pt x="10627" y="12065"/>
                  <a:pt x="10590" y="12038"/>
                  <a:pt x="10567" y="12005"/>
                </a:cubicBezTo>
                <a:cubicBezTo>
                  <a:pt x="10535" y="11960"/>
                  <a:pt x="10497" y="11893"/>
                  <a:pt x="10468" y="11857"/>
                </a:cubicBezTo>
                <a:cubicBezTo>
                  <a:pt x="10449" y="11834"/>
                  <a:pt x="10406" y="11768"/>
                  <a:pt x="10393" y="11757"/>
                </a:cubicBezTo>
                <a:cubicBezTo>
                  <a:pt x="10354" y="11723"/>
                  <a:pt x="10342" y="11709"/>
                  <a:pt x="10319" y="11683"/>
                </a:cubicBezTo>
                <a:cubicBezTo>
                  <a:pt x="10266" y="11623"/>
                  <a:pt x="10210" y="11577"/>
                  <a:pt x="10145" y="11534"/>
                </a:cubicBezTo>
                <a:cubicBezTo>
                  <a:pt x="10105" y="11507"/>
                  <a:pt x="10050" y="11464"/>
                  <a:pt x="10021" y="11435"/>
                </a:cubicBezTo>
                <a:cubicBezTo>
                  <a:pt x="9953" y="11367"/>
                  <a:pt x="9908" y="11282"/>
                  <a:pt x="9847" y="11212"/>
                </a:cubicBezTo>
                <a:cubicBezTo>
                  <a:pt x="9752" y="11102"/>
                  <a:pt x="9631" y="10956"/>
                  <a:pt x="9525" y="10864"/>
                </a:cubicBezTo>
                <a:cubicBezTo>
                  <a:pt x="9485" y="10829"/>
                  <a:pt x="9462" y="10795"/>
                  <a:pt x="9426" y="10765"/>
                </a:cubicBezTo>
                <a:cubicBezTo>
                  <a:pt x="9371" y="10720"/>
                  <a:pt x="9289" y="10676"/>
                  <a:pt x="9227" y="10641"/>
                </a:cubicBezTo>
                <a:cubicBezTo>
                  <a:pt x="9171" y="10610"/>
                  <a:pt x="9130" y="10576"/>
                  <a:pt x="9079" y="10542"/>
                </a:cubicBezTo>
                <a:cubicBezTo>
                  <a:pt x="9042" y="10517"/>
                  <a:pt x="8997" y="10497"/>
                  <a:pt x="8954" y="10468"/>
                </a:cubicBezTo>
                <a:cubicBezTo>
                  <a:pt x="8912" y="10440"/>
                  <a:pt x="8848" y="10359"/>
                  <a:pt x="8806" y="10344"/>
                </a:cubicBezTo>
                <a:cubicBezTo>
                  <a:pt x="8781" y="10344"/>
                  <a:pt x="8773" y="10344"/>
                  <a:pt x="8781" y="10368"/>
                </a:cubicBezTo>
              </a:path>
              <a:path w="12899" h="3424">
                <a:moveTo>
                  <a:pt x="21059" y="10666"/>
                </a:moveTo>
                <a:cubicBezTo>
                  <a:pt x="21059" y="10608"/>
                  <a:pt x="21059" y="10732"/>
                  <a:pt x="21059" y="10790"/>
                </a:cubicBezTo>
                <a:cubicBezTo>
                  <a:pt x="21059" y="10848"/>
                  <a:pt x="21059" y="10906"/>
                  <a:pt x="21059" y="10964"/>
                </a:cubicBezTo>
              </a:path>
              <a:path w="12899" h="3424">
                <a:moveTo>
                  <a:pt x="20910" y="10864"/>
                </a:moveTo>
                <a:cubicBezTo>
                  <a:pt x="21019" y="10852"/>
                  <a:pt x="21159" y="10808"/>
                  <a:pt x="21258" y="10765"/>
                </a:cubicBezTo>
                <a:cubicBezTo>
                  <a:pt x="21283" y="10749"/>
                  <a:pt x="21307" y="10732"/>
                  <a:pt x="21332" y="10716"/>
                </a:cubicBezTo>
              </a:path>
              <a:path w="12899" h="3424">
                <a:moveTo>
                  <a:pt x="21605" y="10443"/>
                </a:moveTo>
                <a:cubicBezTo>
                  <a:pt x="21632" y="10608"/>
                  <a:pt x="21670" y="10773"/>
                  <a:pt x="21679" y="10939"/>
                </a:cubicBezTo>
                <a:cubicBezTo>
                  <a:pt x="21679" y="10947"/>
                  <a:pt x="21679" y="10956"/>
                  <a:pt x="21679" y="1096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4687920"/>
            <a:ext cx="1090440" cy="955800"/>
          </a:xfrm>
          <a:custGeom>
            <a:avLst/>
            <a:gdLst/>
            <a:ahLst/>
            <a:rect l="l" t="t" r="r" b="b"/>
            <a:pathLst>
              <a:path w="3027" h="2656">
                <a:moveTo>
                  <a:pt x="9624" y="13816"/>
                </a:moveTo>
                <a:cubicBezTo>
                  <a:pt x="9624" y="13772"/>
                  <a:pt x="9626" y="13777"/>
                  <a:pt x="9599" y="13742"/>
                </a:cubicBezTo>
                <a:cubicBezTo>
                  <a:pt x="9599" y="13926"/>
                  <a:pt x="9583" y="14105"/>
                  <a:pt x="9575" y="14288"/>
                </a:cubicBezTo>
                <a:cubicBezTo>
                  <a:pt x="9566" y="14496"/>
                  <a:pt x="9530" y="14679"/>
                  <a:pt x="9500" y="14883"/>
                </a:cubicBezTo>
                <a:cubicBezTo>
                  <a:pt x="9498" y="14898"/>
                  <a:pt x="9500" y="15050"/>
                  <a:pt x="9500" y="14982"/>
                </a:cubicBezTo>
              </a:path>
              <a:path w="3027" h="2656">
                <a:moveTo>
                  <a:pt x="9773" y="13816"/>
                </a:moveTo>
                <a:cubicBezTo>
                  <a:pt x="9823" y="13783"/>
                  <a:pt x="9927" y="13713"/>
                  <a:pt x="9996" y="13667"/>
                </a:cubicBezTo>
                <a:cubicBezTo>
                  <a:pt x="10108" y="13593"/>
                  <a:pt x="10265" y="13539"/>
                  <a:pt x="10393" y="13494"/>
                </a:cubicBezTo>
                <a:cubicBezTo>
                  <a:pt x="10589" y="13425"/>
                  <a:pt x="10756" y="13338"/>
                  <a:pt x="10939" y="13246"/>
                </a:cubicBezTo>
                <a:cubicBezTo>
                  <a:pt x="11074" y="13178"/>
                  <a:pt x="11228" y="13137"/>
                  <a:pt x="11361" y="13072"/>
                </a:cubicBezTo>
                <a:cubicBezTo>
                  <a:pt x="11390" y="13058"/>
                  <a:pt x="11406" y="13038"/>
                  <a:pt x="11435" y="13022"/>
                </a:cubicBezTo>
                <a:cubicBezTo>
                  <a:pt x="11445" y="13042"/>
                  <a:pt x="11444" y="13076"/>
                  <a:pt x="11460" y="13097"/>
                </a:cubicBezTo>
                <a:cubicBezTo>
                  <a:pt x="11478" y="13121"/>
                  <a:pt x="11529" y="13176"/>
                  <a:pt x="11559" y="13221"/>
                </a:cubicBezTo>
                <a:cubicBezTo>
                  <a:pt x="11673" y="13391"/>
                  <a:pt x="11832" y="13509"/>
                  <a:pt x="11931" y="13692"/>
                </a:cubicBezTo>
                <a:cubicBezTo>
                  <a:pt x="11983" y="13788"/>
                  <a:pt x="12023" y="13894"/>
                  <a:pt x="12080" y="13990"/>
                </a:cubicBezTo>
                <a:cubicBezTo>
                  <a:pt x="12150" y="14108"/>
                  <a:pt x="12243" y="14184"/>
                  <a:pt x="12328" y="14288"/>
                </a:cubicBezTo>
                <a:cubicBezTo>
                  <a:pt x="12336" y="14298"/>
                  <a:pt x="12467" y="14490"/>
                  <a:pt x="12477" y="14486"/>
                </a:cubicBezTo>
                <a:cubicBezTo>
                  <a:pt x="12520" y="14469"/>
                  <a:pt x="12504" y="14403"/>
                  <a:pt x="12526" y="14362"/>
                </a:cubicBezTo>
                <a:cubicBezTo>
                  <a:pt x="12526" y="14354"/>
                  <a:pt x="12526" y="14345"/>
                  <a:pt x="12526" y="14337"/>
                </a:cubicBezTo>
                <a:cubicBezTo>
                  <a:pt x="12511" y="14350"/>
                  <a:pt x="12490" y="14377"/>
                  <a:pt x="12477" y="14387"/>
                </a:cubicBezTo>
                <a:cubicBezTo>
                  <a:pt x="12421" y="14429"/>
                  <a:pt x="12396" y="14440"/>
                  <a:pt x="12353" y="14486"/>
                </a:cubicBezTo>
                <a:cubicBezTo>
                  <a:pt x="12308" y="14534"/>
                  <a:pt x="12291" y="14583"/>
                  <a:pt x="12254" y="14635"/>
                </a:cubicBezTo>
                <a:cubicBezTo>
                  <a:pt x="12177" y="14743"/>
                  <a:pt x="12068" y="14809"/>
                  <a:pt x="11981" y="14908"/>
                </a:cubicBezTo>
                <a:cubicBezTo>
                  <a:pt x="11896" y="15005"/>
                  <a:pt x="11807" y="15104"/>
                  <a:pt x="11733" y="15205"/>
                </a:cubicBezTo>
                <a:cubicBezTo>
                  <a:pt x="11704" y="15245"/>
                  <a:pt x="11680" y="15289"/>
                  <a:pt x="11658" y="15329"/>
                </a:cubicBezTo>
                <a:cubicBezTo>
                  <a:pt x="11625" y="15389"/>
                  <a:pt x="11596" y="15446"/>
                  <a:pt x="11559" y="15503"/>
                </a:cubicBezTo>
                <a:cubicBezTo>
                  <a:pt x="11530" y="15548"/>
                  <a:pt x="11502" y="15605"/>
                  <a:pt x="11485" y="15627"/>
                </a:cubicBezTo>
                <a:cubicBezTo>
                  <a:pt x="11464" y="15654"/>
                  <a:pt x="11473" y="15665"/>
                  <a:pt x="11435" y="15677"/>
                </a:cubicBezTo>
                <a:cubicBezTo>
                  <a:pt x="11308" y="15718"/>
                  <a:pt x="11135" y="15660"/>
                  <a:pt x="11013" y="15652"/>
                </a:cubicBezTo>
                <a:cubicBezTo>
                  <a:pt x="10930" y="15646"/>
                  <a:pt x="10844" y="15632"/>
                  <a:pt x="10765" y="15627"/>
                </a:cubicBezTo>
                <a:cubicBezTo>
                  <a:pt x="10674" y="15621"/>
                  <a:pt x="10579" y="15607"/>
                  <a:pt x="10492" y="15602"/>
                </a:cubicBezTo>
                <a:cubicBezTo>
                  <a:pt x="10380" y="15595"/>
                  <a:pt x="10265" y="15616"/>
                  <a:pt x="10170" y="15627"/>
                </a:cubicBezTo>
                <a:cubicBezTo>
                  <a:pt x="10145" y="15627"/>
                  <a:pt x="10137" y="15627"/>
                  <a:pt x="10120" y="15627"/>
                </a:cubicBezTo>
                <a:cubicBezTo>
                  <a:pt x="10097" y="15596"/>
                  <a:pt x="10084" y="15579"/>
                  <a:pt x="10046" y="15528"/>
                </a:cubicBezTo>
                <a:cubicBezTo>
                  <a:pt x="9990" y="15452"/>
                  <a:pt x="9936" y="15376"/>
                  <a:pt x="9872" y="15304"/>
                </a:cubicBezTo>
                <a:cubicBezTo>
                  <a:pt x="9833" y="15259"/>
                  <a:pt x="9822" y="15218"/>
                  <a:pt x="9798" y="15180"/>
                </a:cubicBezTo>
                <a:cubicBezTo>
                  <a:pt x="9776" y="15145"/>
                  <a:pt x="9765" y="15117"/>
                  <a:pt x="9748" y="15081"/>
                </a:cubicBezTo>
                <a:cubicBezTo>
                  <a:pt x="9729" y="15040"/>
                  <a:pt x="9711" y="15006"/>
                  <a:pt x="9699" y="14957"/>
                </a:cubicBezTo>
                <a:cubicBezTo>
                  <a:pt x="9688" y="14912"/>
                  <a:pt x="9689" y="14850"/>
                  <a:pt x="9674" y="14808"/>
                </a:cubicBezTo>
                <a:cubicBezTo>
                  <a:pt x="9669" y="14795"/>
                  <a:pt x="9615" y="14721"/>
                  <a:pt x="9599" y="14684"/>
                </a:cubicBezTo>
                <a:cubicBezTo>
                  <a:pt x="9586" y="14654"/>
                  <a:pt x="9584" y="14641"/>
                  <a:pt x="9575" y="14610"/>
                </a:cubicBezTo>
                <a:cubicBezTo>
                  <a:pt x="9568" y="14586"/>
                  <a:pt x="9587" y="14607"/>
                  <a:pt x="9575" y="14585"/>
                </a:cubicBezTo>
                <a:cubicBezTo>
                  <a:pt x="9578" y="14637"/>
                  <a:pt x="9596" y="14720"/>
                  <a:pt x="9599" y="14734"/>
                </a:cubicBezTo>
                <a:cubicBezTo>
                  <a:pt x="9602" y="14688"/>
                  <a:pt x="9651" y="14642"/>
                  <a:pt x="9624" y="14585"/>
                </a:cubicBezTo>
                <a:cubicBezTo>
                  <a:pt x="9596" y="14585"/>
                  <a:pt x="9585" y="14583"/>
                  <a:pt x="9575" y="14560"/>
                </a:cubicBezTo>
                <a:cubicBezTo>
                  <a:pt x="9539" y="14635"/>
                  <a:pt x="9507" y="14677"/>
                  <a:pt x="9500" y="14784"/>
                </a:cubicBezTo>
                <a:cubicBezTo>
                  <a:pt x="9600" y="14734"/>
                  <a:pt x="9598" y="14751"/>
                  <a:pt x="9649" y="14660"/>
                </a:cubicBezTo>
                <a:cubicBezTo>
                  <a:pt x="9649" y="14652"/>
                  <a:pt x="9649" y="14643"/>
                  <a:pt x="9649" y="14635"/>
                </a:cubicBezTo>
                <a:cubicBezTo>
                  <a:pt x="9555" y="14707"/>
                  <a:pt x="9538" y="14706"/>
                  <a:pt x="9525" y="14858"/>
                </a:cubicBezTo>
                <a:cubicBezTo>
                  <a:pt x="9533" y="14858"/>
                  <a:pt x="9542" y="14858"/>
                  <a:pt x="9550" y="1485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7240" y="4786200"/>
            <a:ext cx="187560" cy="330480"/>
          </a:xfrm>
          <a:custGeom>
            <a:avLst/>
            <a:gdLst/>
            <a:ahLst/>
            <a:rect l="l" t="t" r="r" b="b"/>
            <a:pathLst>
              <a:path w="522" h="919">
                <a:moveTo>
                  <a:pt x="15379" y="13618"/>
                </a:moveTo>
                <a:cubicBezTo>
                  <a:pt x="15490" y="13563"/>
                  <a:pt x="15413" y="13447"/>
                  <a:pt x="15354" y="13370"/>
                </a:cubicBezTo>
                <a:cubicBezTo>
                  <a:pt x="15197" y="13167"/>
                  <a:pt x="15032" y="13393"/>
                  <a:pt x="14957" y="13543"/>
                </a:cubicBezTo>
                <a:cubicBezTo>
                  <a:pt x="14914" y="13675"/>
                  <a:pt x="14893" y="13706"/>
                  <a:pt x="14932" y="13791"/>
                </a:cubicBezTo>
                <a:cubicBezTo>
                  <a:pt x="15156" y="13803"/>
                  <a:pt x="15265" y="13751"/>
                  <a:pt x="15354" y="13519"/>
                </a:cubicBezTo>
                <a:cubicBezTo>
                  <a:pt x="15362" y="13478"/>
                  <a:pt x="15371" y="13436"/>
                  <a:pt x="15379" y="13395"/>
                </a:cubicBezTo>
                <a:cubicBezTo>
                  <a:pt x="15379" y="13270"/>
                  <a:pt x="15356" y="13592"/>
                  <a:pt x="15354" y="13717"/>
                </a:cubicBezTo>
                <a:cubicBezTo>
                  <a:pt x="15351" y="13882"/>
                  <a:pt x="15354" y="14048"/>
                  <a:pt x="15354" y="142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6120" y="3527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018" y="9798"/>
                </a:moveTo>
                <a:lnTo>
                  <a:pt x="4018" y="9798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47880" y="3160800"/>
            <a:ext cx="936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5159" y="8781"/>
                </a:moveTo>
                <a:cubicBezTo>
                  <a:pt x="5151" y="8781"/>
                  <a:pt x="5143" y="8781"/>
                  <a:pt x="5135" y="878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46200" y="3724200"/>
            <a:ext cx="9720" cy="7920"/>
          </a:xfrm>
          <a:custGeom>
            <a:avLst/>
            <a:gdLst/>
            <a:ahLst/>
            <a:rect l="l" t="t" r="r" b="b"/>
            <a:pathLst>
              <a:path w="26" h="25">
                <a:moveTo>
                  <a:pt x="6796" y="10344"/>
                </a:moveTo>
                <a:cubicBezTo>
                  <a:pt x="6796" y="10368"/>
                  <a:pt x="6796" y="10376"/>
                  <a:pt x="6821" y="1036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45240" y="2759040"/>
            <a:ext cx="9720" cy="9720"/>
          </a:xfrm>
          <a:custGeom>
            <a:avLst/>
            <a:gdLst/>
            <a:ahLst/>
            <a:rect l="l" t="t" r="r" b="b"/>
            <a:pathLst>
              <a:path w="26" h="25">
                <a:moveTo>
                  <a:pt x="20985" y="7665"/>
                </a:moveTo>
                <a:cubicBezTo>
                  <a:pt x="20977" y="7673"/>
                  <a:pt x="20968" y="7681"/>
                  <a:pt x="20960" y="768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27200" y="4705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7020" y="13072"/>
                </a:moveTo>
                <a:lnTo>
                  <a:pt x="7020" y="13072"/>
                </a:lnTo>
                <a:lnTo>
                  <a:pt x="7020" y="13072"/>
                </a:lnTo>
                <a:lnTo>
                  <a:pt x="7020" y="13072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87680" y="4840200"/>
            <a:ext cx="250560" cy="34920"/>
          </a:xfrm>
          <a:custGeom>
            <a:avLst/>
            <a:gdLst/>
            <a:ahLst/>
            <a:rect l="l" t="t" r="r" b="b"/>
            <a:pathLst>
              <a:path w="696" h="100">
                <a:moveTo>
                  <a:pt x="4812" y="13444"/>
                </a:moveTo>
                <a:cubicBezTo>
                  <a:pt x="4905" y="13460"/>
                  <a:pt x="4988" y="13469"/>
                  <a:pt x="5085" y="13469"/>
                </a:cubicBezTo>
                <a:cubicBezTo>
                  <a:pt x="5103" y="13469"/>
                  <a:pt x="5348" y="13460"/>
                  <a:pt x="5209" y="13494"/>
                </a:cubicBezTo>
                <a:cubicBezTo>
                  <a:pt x="5098" y="13521"/>
                  <a:pt x="5001" y="13519"/>
                  <a:pt x="4887" y="13519"/>
                </a:cubicBezTo>
                <a:cubicBezTo>
                  <a:pt x="4692" y="13519"/>
                  <a:pt x="4902" y="13519"/>
                  <a:pt x="4911" y="13519"/>
                </a:cubicBezTo>
                <a:cubicBezTo>
                  <a:pt x="5028" y="13513"/>
                  <a:pt x="5332" y="13403"/>
                  <a:pt x="5259" y="13494"/>
                </a:cubicBezTo>
                <a:cubicBezTo>
                  <a:pt x="5207" y="13558"/>
                  <a:pt x="4867" y="13537"/>
                  <a:pt x="4787" y="13543"/>
                </a:cubicBezTo>
                <a:cubicBezTo>
                  <a:pt x="4729" y="13543"/>
                  <a:pt x="4721" y="13543"/>
                  <a:pt x="4688" y="13543"/>
                </a:cubicBezTo>
                <a:cubicBezTo>
                  <a:pt x="4815" y="13543"/>
                  <a:pt x="4935" y="13527"/>
                  <a:pt x="5060" y="13519"/>
                </a:cubicBezTo>
                <a:cubicBezTo>
                  <a:pt x="5144" y="13514"/>
                  <a:pt x="5341" y="13479"/>
                  <a:pt x="5259" y="13494"/>
                </a:cubicBezTo>
                <a:cubicBezTo>
                  <a:pt x="5218" y="13502"/>
                  <a:pt x="5176" y="13511"/>
                  <a:pt x="5135" y="13519"/>
                </a:cubicBezTo>
                <a:cubicBezTo>
                  <a:pt x="5053" y="13519"/>
                  <a:pt x="4729" y="13519"/>
                  <a:pt x="4738" y="13519"/>
                </a:cubicBezTo>
                <a:cubicBezTo>
                  <a:pt x="4906" y="13519"/>
                  <a:pt x="5067" y="13502"/>
                  <a:pt x="5234" y="13494"/>
                </a:cubicBezTo>
                <a:cubicBezTo>
                  <a:pt x="5333" y="13489"/>
                  <a:pt x="5085" y="13494"/>
                  <a:pt x="4986" y="13494"/>
                </a:cubicBezTo>
                <a:cubicBezTo>
                  <a:pt x="4837" y="13494"/>
                  <a:pt x="4731" y="13536"/>
                  <a:pt x="4961" y="13519"/>
                </a:cubicBezTo>
                <a:cubicBezTo>
                  <a:pt x="5103" y="13509"/>
                  <a:pt x="5245" y="13492"/>
                  <a:pt x="5383" y="1346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31920" y="3894120"/>
            <a:ext cx="9360" cy="7920"/>
          </a:xfrm>
          <a:custGeom>
            <a:avLst/>
            <a:gdLst/>
            <a:ahLst/>
            <a:rect l="l" t="t" r="r" b="b"/>
            <a:pathLst>
              <a:path w="26" h="26">
                <a:moveTo>
                  <a:pt x="3423" y="10815"/>
                </a:moveTo>
                <a:cubicBezTo>
                  <a:pt x="3448" y="10815"/>
                  <a:pt x="3456" y="10815"/>
                  <a:pt x="3448" y="1084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02000" y="4670280"/>
            <a:ext cx="1108080" cy="1017720"/>
          </a:xfrm>
          <a:custGeom>
            <a:avLst/>
            <a:gdLst/>
            <a:ahLst/>
            <a:rect l="l" t="t" r="r" b="b"/>
            <a:pathLst>
              <a:path w="3076" h="2829">
                <a:moveTo>
                  <a:pt x="9599" y="13915"/>
                </a:moveTo>
                <a:cubicBezTo>
                  <a:pt x="9599" y="13858"/>
                  <a:pt x="9587" y="13837"/>
                  <a:pt x="9525" y="13816"/>
                </a:cubicBezTo>
                <a:cubicBezTo>
                  <a:pt x="9494" y="13806"/>
                  <a:pt x="9485" y="13867"/>
                  <a:pt x="9475" y="13891"/>
                </a:cubicBezTo>
                <a:cubicBezTo>
                  <a:pt x="9490" y="13997"/>
                  <a:pt x="9600" y="14001"/>
                  <a:pt x="9674" y="13915"/>
                </a:cubicBezTo>
                <a:cubicBezTo>
                  <a:pt x="9760" y="13816"/>
                  <a:pt x="9654" y="13707"/>
                  <a:pt x="9624" y="13618"/>
                </a:cubicBezTo>
                <a:cubicBezTo>
                  <a:pt x="9604" y="13558"/>
                  <a:pt x="9525" y="13725"/>
                  <a:pt x="9525" y="13767"/>
                </a:cubicBezTo>
                <a:cubicBezTo>
                  <a:pt x="9533" y="13783"/>
                  <a:pt x="9542" y="13800"/>
                  <a:pt x="9550" y="13816"/>
                </a:cubicBezTo>
                <a:cubicBezTo>
                  <a:pt x="9672" y="13796"/>
                  <a:pt x="9669" y="13758"/>
                  <a:pt x="9674" y="13643"/>
                </a:cubicBezTo>
                <a:cubicBezTo>
                  <a:pt x="9674" y="13626"/>
                  <a:pt x="9674" y="13610"/>
                  <a:pt x="9674" y="13593"/>
                </a:cubicBezTo>
                <a:cubicBezTo>
                  <a:pt x="9633" y="13603"/>
                  <a:pt x="9569" y="13679"/>
                  <a:pt x="9575" y="13717"/>
                </a:cubicBezTo>
                <a:cubicBezTo>
                  <a:pt x="9579" y="13745"/>
                  <a:pt x="9622" y="13698"/>
                  <a:pt x="9624" y="13692"/>
                </a:cubicBezTo>
              </a:path>
              <a:path w="3076" h="2829">
                <a:moveTo>
                  <a:pt x="9500" y="13717"/>
                </a:moveTo>
                <a:cubicBezTo>
                  <a:pt x="9550" y="13732"/>
                  <a:pt x="9595" y="13726"/>
                  <a:pt x="9649" y="13742"/>
                </a:cubicBezTo>
                <a:cubicBezTo>
                  <a:pt x="9737" y="13767"/>
                  <a:pt x="9834" y="13767"/>
                  <a:pt x="9922" y="13791"/>
                </a:cubicBezTo>
                <a:cubicBezTo>
                  <a:pt x="9983" y="13808"/>
                  <a:pt x="10039" y="13823"/>
                  <a:pt x="10096" y="13841"/>
                </a:cubicBezTo>
                <a:cubicBezTo>
                  <a:pt x="10131" y="13852"/>
                  <a:pt x="10162" y="13852"/>
                  <a:pt x="10195" y="13866"/>
                </a:cubicBezTo>
                <a:cubicBezTo>
                  <a:pt x="10237" y="13883"/>
                  <a:pt x="10277" y="13897"/>
                  <a:pt x="10319" y="13915"/>
                </a:cubicBezTo>
                <a:cubicBezTo>
                  <a:pt x="10385" y="13943"/>
                  <a:pt x="10453" y="13961"/>
                  <a:pt x="10517" y="13990"/>
                </a:cubicBezTo>
                <a:cubicBezTo>
                  <a:pt x="10599" y="14027"/>
                  <a:pt x="10682" y="14055"/>
                  <a:pt x="10765" y="14089"/>
                </a:cubicBezTo>
                <a:cubicBezTo>
                  <a:pt x="10806" y="14106"/>
                  <a:pt x="10811" y="14124"/>
                  <a:pt x="10840" y="14139"/>
                </a:cubicBezTo>
                <a:cubicBezTo>
                  <a:pt x="10884" y="14161"/>
                  <a:pt x="10939" y="14188"/>
                  <a:pt x="10988" y="14213"/>
                </a:cubicBezTo>
                <a:cubicBezTo>
                  <a:pt x="11089" y="14264"/>
                  <a:pt x="11184" y="14318"/>
                  <a:pt x="11286" y="14362"/>
                </a:cubicBezTo>
                <a:cubicBezTo>
                  <a:pt x="11364" y="14396"/>
                  <a:pt x="11441" y="14424"/>
                  <a:pt x="11509" y="14461"/>
                </a:cubicBezTo>
                <a:cubicBezTo>
                  <a:pt x="11582" y="14501"/>
                  <a:pt x="11661" y="14510"/>
                  <a:pt x="11733" y="14536"/>
                </a:cubicBezTo>
                <a:cubicBezTo>
                  <a:pt x="11795" y="14558"/>
                  <a:pt x="11866" y="14579"/>
                  <a:pt x="11931" y="14585"/>
                </a:cubicBezTo>
                <a:cubicBezTo>
                  <a:pt x="11980" y="14590"/>
                  <a:pt x="11980" y="14585"/>
                  <a:pt x="12030" y="14585"/>
                </a:cubicBezTo>
              </a:path>
              <a:path w="3076" h="2829">
                <a:moveTo>
                  <a:pt x="9748" y="13816"/>
                </a:moveTo>
                <a:cubicBezTo>
                  <a:pt x="9756" y="13808"/>
                  <a:pt x="9765" y="13799"/>
                  <a:pt x="9773" y="13791"/>
                </a:cubicBezTo>
                <a:cubicBezTo>
                  <a:pt x="9805" y="13849"/>
                  <a:pt x="9853" y="13907"/>
                  <a:pt x="9897" y="13965"/>
                </a:cubicBezTo>
                <a:cubicBezTo>
                  <a:pt x="9971" y="14063"/>
                  <a:pt x="10030" y="14165"/>
                  <a:pt x="10096" y="14263"/>
                </a:cubicBezTo>
                <a:cubicBezTo>
                  <a:pt x="10156" y="14351"/>
                  <a:pt x="10229" y="14427"/>
                  <a:pt x="10294" y="14511"/>
                </a:cubicBezTo>
                <a:cubicBezTo>
                  <a:pt x="10381" y="14623"/>
                  <a:pt x="10462" y="14741"/>
                  <a:pt x="10542" y="14858"/>
                </a:cubicBezTo>
                <a:cubicBezTo>
                  <a:pt x="10592" y="14931"/>
                  <a:pt x="10647" y="15007"/>
                  <a:pt x="10691" y="15081"/>
                </a:cubicBezTo>
                <a:cubicBezTo>
                  <a:pt x="10713" y="15118"/>
                  <a:pt x="10736" y="15154"/>
                  <a:pt x="10765" y="15205"/>
                </a:cubicBezTo>
                <a:cubicBezTo>
                  <a:pt x="10804" y="15274"/>
                  <a:pt x="10834" y="15321"/>
                  <a:pt x="10889" y="15379"/>
                </a:cubicBezTo>
                <a:cubicBezTo>
                  <a:pt x="10940" y="15433"/>
                  <a:pt x="11003" y="15487"/>
                  <a:pt x="11063" y="15528"/>
                </a:cubicBezTo>
                <a:cubicBezTo>
                  <a:pt x="11108" y="15558"/>
                  <a:pt x="11118" y="15591"/>
                  <a:pt x="11162" y="15627"/>
                </a:cubicBezTo>
                <a:cubicBezTo>
                  <a:pt x="11178" y="15640"/>
                  <a:pt x="11199" y="15668"/>
                  <a:pt x="11212" y="15677"/>
                </a:cubicBezTo>
                <a:cubicBezTo>
                  <a:pt x="11220" y="15677"/>
                  <a:pt x="11229" y="15677"/>
                  <a:pt x="11237" y="15677"/>
                </a:cubicBezTo>
              </a:path>
              <a:path w="3076" h="2829">
                <a:moveTo>
                  <a:pt x="10071" y="13841"/>
                </a:moveTo>
                <a:cubicBezTo>
                  <a:pt x="10091" y="13762"/>
                  <a:pt x="10097" y="13787"/>
                  <a:pt x="9971" y="13816"/>
                </a:cubicBezTo>
              </a:path>
              <a:path w="3076" h="2829">
                <a:moveTo>
                  <a:pt x="9823" y="13816"/>
                </a:moveTo>
                <a:cubicBezTo>
                  <a:pt x="9779" y="13772"/>
                  <a:pt x="9858" y="13942"/>
                  <a:pt x="9872" y="13990"/>
                </a:cubicBezTo>
                <a:cubicBezTo>
                  <a:pt x="9936" y="14205"/>
                  <a:pt x="10005" y="14414"/>
                  <a:pt x="10046" y="14635"/>
                </a:cubicBezTo>
                <a:cubicBezTo>
                  <a:pt x="10078" y="14809"/>
                  <a:pt x="10071" y="14980"/>
                  <a:pt x="10071" y="15156"/>
                </a:cubicBezTo>
                <a:cubicBezTo>
                  <a:pt x="10071" y="15294"/>
                  <a:pt x="10061" y="15420"/>
                  <a:pt x="10046" y="15553"/>
                </a:cubicBezTo>
                <a:cubicBezTo>
                  <a:pt x="10039" y="15611"/>
                  <a:pt x="10024" y="15646"/>
                  <a:pt x="10021" y="15701"/>
                </a:cubicBezTo>
                <a:cubicBezTo>
                  <a:pt x="10018" y="15745"/>
                  <a:pt x="10021" y="15757"/>
                  <a:pt x="10021" y="15801"/>
                </a:cubicBezTo>
              </a:path>
              <a:path w="3076" h="2829">
                <a:moveTo>
                  <a:pt x="11534" y="13072"/>
                </a:moveTo>
                <a:cubicBezTo>
                  <a:pt x="11572" y="13059"/>
                  <a:pt x="11559" y="13043"/>
                  <a:pt x="11559" y="12998"/>
                </a:cubicBezTo>
                <a:cubicBezTo>
                  <a:pt x="11559" y="12990"/>
                  <a:pt x="11559" y="12981"/>
                  <a:pt x="11559" y="12973"/>
                </a:cubicBezTo>
                <a:cubicBezTo>
                  <a:pt x="11490" y="12973"/>
                  <a:pt x="11493" y="12968"/>
                  <a:pt x="11435" y="13022"/>
                </a:cubicBezTo>
                <a:cubicBezTo>
                  <a:pt x="11359" y="13093"/>
                  <a:pt x="11383" y="13133"/>
                  <a:pt x="11410" y="13221"/>
                </a:cubicBezTo>
                <a:cubicBezTo>
                  <a:pt x="11497" y="13221"/>
                  <a:pt x="11543" y="13209"/>
                  <a:pt x="11534" y="13097"/>
                </a:cubicBezTo>
                <a:cubicBezTo>
                  <a:pt x="11529" y="13033"/>
                  <a:pt x="11448" y="12934"/>
                  <a:pt x="11385" y="13022"/>
                </a:cubicBezTo>
                <a:cubicBezTo>
                  <a:pt x="11343" y="13081"/>
                  <a:pt x="11357" y="13123"/>
                  <a:pt x="11385" y="13171"/>
                </a:cubicBezTo>
                <a:cubicBezTo>
                  <a:pt x="11458" y="13153"/>
                  <a:pt x="11452" y="13091"/>
                  <a:pt x="11460" y="13022"/>
                </a:cubicBezTo>
              </a:path>
              <a:path w="3076" h="2829">
                <a:moveTo>
                  <a:pt x="11410" y="13072"/>
                </a:moveTo>
                <a:cubicBezTo>
                  <a:pt x="11435" y="13072"/>
                  <a:pt x="11443" y="13072"/>
                  <a:pt x="11435" y="13047"/>
                </a:cubicBezTo>
                <a:cubicBezTo>
                  <a:pt x="11357" y="13080"/>
                  <a:pt x="11286" y="13122"/>
                  <a:pt x="11212" y="13171"/>
                </a:cubicBezTo>
                <a:cubicBezTo>
                  <a:pt x="11081" y="13258"/>
                  <a:pt x="10948" y="13318"/>
                  <a:pt x="10815" y="13395"/>
                </a:cubicBezTo>
                <a:cubicBezTo>
                  <a:pt x="10736" y="13441"/>
                  <a:pt x="10666" y="13494"/>
                  <a:pt x="10592" y="13543"/>
                </a:cubicBezTo>
                <a:cubicBezTo>
                  <a:pt x="10525" y="13587"/>
                  <a:pt x="10476" y="13634"/>
                  <a:pt x="10418" y="13692"/>
                </a:cubicBezTo>
                <a:cubicBezTo>
                  <a:pt x="10356" y="13754"/>
                  <a:pt x="10275" y="13803"/>
                  <a:pt x="10220" y="13866"/>
                </a:cubicBezTo>
                <a:cubicBezTo>
                  <a:pt x="10144" y="13954"/>
                  <a:pt x="10069" y="14086"/>
                  <a:pt x="9996" y="14163"/>
                </a:cubicBezTo>
                <a:cubicBezTo>
                  <a:pt x="9955" y="14206"/>
                  <a:pt x="9934" y="14231"/>
                  <a:pt x="9897" y="14288"/>
                </a:cubicBezTo>
                <a:cubicBezTo>
                  <a:pt x="9858" y="14349"/>
                  <a:pt x="9777" y="14439"/>
                  <a:pt x="9723" y="14486"/>
                </a:cubicBezTo>
                <a:cubicBezTo>
                  <a:pt x="9678" y="14525"/>
                  <a:pt x="9621" y="14542"/>
                  <a:pt x="9575" y="14585"/>
                </a:cubicBezTo>
                <a:cubicBezTo>
                  <a:pt x="9546" y="14613"/>
                  <a:pt x="9553" y="14606"/>
                  <a:pt x="9525" y="14635"/>
                </a:cubicBezTo>
              </a:path>
              <a:path w="3076" h="2829">
                <a:moveTo>
                  <a:pt x="11757" y="13047"/>
                </a:moveTo>
                <a:cubicBezTo>
                  <a:pt x="11683" y="13086"/>
                  <a:pt x="11651" y="13099"/>
                  <a:pt x="11584" y="13171"/>
                </a:cubicBezTo>
                <a:cubicBezTo>
                  <a:pt x="11471" y="13294"/>
                  <a:pt x="11392" y="13468"/>
                  <a:pt x="11311" y="13618"/>
                </a:cubicBezTo>
                <a:cubicBezTo>
                  <a:pt x="11219" y="13789"/>
                  <a:pt x="11124" y="13954"/>
                  <a:pt x="11013" y="14114"/>
                </a:cubicBezTo>
                <a:cubicBezTo>
                  <a:pt x="10917" y="14253"/>
                  <a:pt x="10808" y="14390"/>
                  <a:pt x="10691" y="14511"/>
                </a:cubicBezTo>
                <a:cubicBezTo>
                  <a:pt x="10611" y="14594"/>
                  <a:pt x="10559" y="14688"/>
                  <a:pt x="10492" y="14784"/>
                </a:cubicBezTo>
                <a:cubicBezTo>
                  <a:pt x="10421" y="14886"/>
                  <a:pt x="10342" y="14982"/>
                  <a:pt x="10269" y="15081"/>
                </a:cubicBezTo>
                <a:cubicBezTo>
                  <a:pt x="10210" y="15161"/>
                  <a:pt x="10160" y="15255"/>
                  <a:pt x="10096" y="15329"/>
                </a:cubicBezTo>
                <a:cubicBezTo>
                  <a:pt x="10023" y="15413"/>
                  <a:pt x="9829" y="15680"/>
                  <a:pt x="9872" y="15577"/>
                </a:cubicBezTo>
                <a:cubicBezTo>
                  <a:pt x="9872" y="15649"/>
                  <a:pt x="9893" y="15615"/>
                  <a:pt x="9947" y="15453"/>
                </a:cubicBezTo>
              </a:path>
              <a:path w="3076" h="2829">
                <a:moveTo>
                  <a:pt x="11733" y="13171"/>
                </a:moveTo>
                <a:cubicBezTo>
                  <a:pt x="11688" y="13118"/>
                  <a:pt x="11620" y="13084"/>
                  <a:pt x="11534" y="13097"/>
                </a:cubicBezTo>
                <a:cubicBezTo>
                  <a:pt x="11397" y="13118"/>
                  <a:pt x="11428" y="13336"/>
                  <a:pt x="11410" y="13444"/>
                </a:cubicBezTo>
                <a:cubicBezTo>
                  <a:pt x="11379" y="13632"/>
                  <a:pt x="11332" y="13807"/>
                  <a:pt x="11286" y="13990"/>
                </a:cubicBezTo>
                <a:cubicBezTo>
                  <a:pt x="11244" y="14156"/>
                  <a:pt x="11200" y="14318"/>
                  <a:pt x="11162" y="14486"/>
                </a:cubicBezTo>
                <a:cubicBezTo>
                  <a:pt x="11133" y="14612"/>
                  <a:pt x="11136" y="14735"/>
                  <a:pt x="11088" y="14858"/>
                </a:cubicBezTo>
                <a:cubicBezTo>
                  <a:pt x="11062" y="14925"/>
                  <a:pt x="11057" y="14989"/>
                  <a:pt x="11038" y="15056"/>
                </a:cubicBezTo>
                <a:cubicBezTo>
                  <a:pt x="11025" y="15101"/>
                  <a:pt x="10996" y="15151"/>
                  <a:pt x="10988" y="15205"/>
                </a:cubicBezTo>
                <a:cubicBezTo>
                  <a:pt x="10978" y="15277"/>
                  <a:pt x="11003" y="15316"/>
                  <a:pt x="11013" y="15379"/>
                </a:cubicBezTo>
                <a:cubicBezTo>
                  <a:pt x="11026" y="15463"/>
                  <a:pt x="11024" y="15520"/>
                  <a:pt x="11063" y="15602"/>
                </a:cubicBezTo>
                <a:cubicBezTo>
                  <a:pt x="11084" y="15646"/>
                  <a:pt x="11068" y="15681"/>
                  <a:pt x="11088" y="15602"/>
                </a:cubicBezTo>
              </a:path>
              <a:path w="3076" h="2829">
                <a:moveTo>
                  <a:pt x="12452" y="14486"/>
                </a:moveTo>
                <a:cubicBezTo>
                  <a:pt x="12452" y="14461"/>
                  <a:pt x="12452" y="14453"/>
                  <a:pt x="12452" y="14436"/>
                </a:cubicBezTo>
                <a:cubicBezTo>
                  <a:pt x="12452" y="14477"/>
                  <a:pt x="12452" y="14519"/>
                  <a:pt x="12452" y="14560"/>
                </a:cubicBezTo>
                <a:cubicBezTo>
                  <a:pt x="12463" y="14527"/>
                  <a:pt x="12500" y="14527"/>
                  <a:pt x="12452" y="14511"/>
                </a:cubicBezTo>
              </a:path>
              <a:path w="3076" h="2829">
                <a:moveTo>
                  <a:pt x="12526" y="14560"/>
                </a:moveTo>
                <a:cubicBezTo>
                  <a:pt x="12434" y="14560"/>
                  <a:pt x="12354" y="14572"/>
                  <a:pt x="12278" y="14585"/>
                </a:cubicBezTo>
                <a:cubicBezTo>
                  <a:pt x="12181" y="14601"/>
                  <a:pt x="12063" y="14551"/>
                  <a:pt x="11981" y="14560"/>
                </a:cubicBezTo>
                <a:cubicBezTo>
                  <a:pt x="11903" y="14568"/>
                  <a:pt x="11813" y="14551"/>
                  <a:pt x="11733" y="14560"/>
                </a:cubicBezTo>
                <a:cubicBezTo>
                  <a:pt x="11651" y="14569"/>
                  <a:pt x="11543" y="14569"/>
                  <a:pt x="11460" y="14585"/>
                </a:cubicBezTo>
                <a:cubicBezTo>
                  <a:pt x="11357" y="14605"/>
                  <a:pt x="11269" y="14610"/>
                  <a:pt x="11162" y="14610"/>
                </a:cubicBezTo>
                <a:cubicBezTo>
                  <a:pt x="10936" y="14610"/>
                  <a:pt x="10714" y="14601"/>
                  <a:pt x="10492" y="14585"/>
                </a:cubicBezTo>
                <a:cubicBezTo>
                  <a:pt x="10350" y="14575"/>
                  <a:pt x="10209" y="14574"/>
                  <a:pt x="10071" y="14560"/>
                </a:cubicBezTo>
                <a:cubicBezTo>
                  <a:pt x="9941" y="14546"/>
                  <a:pt x="9770" y="14542"/>
                  <a:pt x="9649" y="14585"/>
                </a:cubicBezTo>
                <a:cubicBezTo>
                  <a:pt x="9612" y="14598"/>
                  <a:pt x="9428" y="14684"/>
                  <a:pt x="9475" y="14684"/>
                </a:cubicBezTo>
                <a:cubicBezTo>
                  <a:pt x="9542" y="14684"/>
                  <a:pt x="9592" y="14677"/>
                  <a:pt x="9649" y="14660"/>
                </a:cubicBezTo>
              </a:path>
              <a:path w="3076" h="2829">
                <a:moveTo>
                  <a:pt x="12477" y="14511"/>
                </a:moveTo>
                <a:cubicBezTo>
                  <a:pt x="12337" y="14542"/>
                  <a:pt x="12195" y="14574"/>
                  <a:pt x="12055" y="14610"/>
                </a:cubicBezTo>
                <a:cubicBezTo>
                  <a:pt x="11774" y="14682"/>
                  <a:pt x="11490" y="14751"/>
                  <a:pt x="11212" y="14833"/>
                </a:cubicBezTo>
                <a:cubicBezTo>
                  <a:pt x="11068" y="14876"/>
                  <a:pt x="10927" y="14922"/>
                  <a:pt x="10790" y="14982"/>
                </a:cubicBezTo>
                <a:cubicBezTo>
                  <a:pt x="10756" y="14997"/>
                  <a:pt x="10691" y="15036"/>
                  <a:pt x="10666" y="15056"/>
                </a:cubicBezTo>
                <a:cubicBezTo>
                  <a:pt x="10608" y="15101"/>
                  <a:pt x="10596" y="15143"/>
                  <a:pt x="10542" y="15180"/>
                </a:cubicBezTo>
                <a:cubicBezTo>
                  <a:pt x="10454" y="15240"/>
                  <a:pt x="10390" y="15284"/>
                  <a:pt x="10294" y="15329"/>
                </a:cubicBezTo>
                <a:cubicBezTo>
                  <a:pt x="10212" y="15368"/>
                  <a:pt x="10229" y="15363"/>
                  <a:pt x="10170" y="15429"/>
                </a:cubicBezTo>
                <a:cubicBezTo>
                  <a:pt x="10144" y="15459"/>
                  <a:pt x="10089" y="15498"/>
                  <a:pt x="10046" y="15528"/>
                </a:cubicBezTo>
                <a:cubicBezTo>
                  <a:pt x="10022" y="15545"/>
                  <a:pt x="9949" y="15594"/>
                  <a:pt x="9947" y="15602"/>
                </a:cubicBezTo>
                <a:cubicBezTo>
                  <a:pt x="9947" y="15637"/>
                  <a:pt x="9956" y="15641"/>
                  <a:pt x="9996" y="15602"/>
                </a:cubicBezTo>
              </a:path>
              <a:path w="3076" h="2829">
                <a:moveTo>
                  <a:pt x="11311" y="15602"/>
                </a:moveTo>
                <a:cubicBezTo>
                  <a:pt x="11282" y="15588"/>
                  <a:pt x="11243" y="15565"/>
                  <a:pt x="11212" y="15553"/>
                </a:cubicBezTo>
                <a:cubicBezTo>
                  <a:pt x="11204" y="15553"/>
                  <a:pt x="11195" y="15553"/>
                  <a:pt x="11187" y="15553"/>
                </a:cubicBezTo>
                <a:cubicBezTo>
                  <a:pt x="11172" y="15532"/>
                  <a:pt x="11177" y="15524"/>
                  <a:pt x="11162" y="15503"/>
                </a:cubicBezTo>
                <a:cubicBezTo>
                  <a:pt x="11130" y="15485"/>
                  <a:pt x="11109" y="15445"/>
                  <a:pt x="11088" y="15429"/>
                </a:cubicBezTo>
                <a:cubicBezTo>
                  <a:pt x="11080" y="15429"/>
                  <a:pt x="11071" y="15429"/>
                  <a:pt x="11063" y="15429"/>
                </a:cubicBezTo>
                <a:cubicBezTo>
                  <a:pt x="11039" y="15405"/>
                  <a:pt x="10996" y="15376"/>
                  <a:pt x="10964" y="15354"/>
                </a:cubicBezTo>
                <a:cubicBezTo>
                  <a:pt x="10929" y="15329"/>
                  <a:pt x="10893" y="15307"/>
                  <a:pt x="10864" y="15280"/>
                </a:cubicBezTo>
                <a:cubicBezTo>
                  <a:pt x="10836" y="15254"/>
                  <a:pt x="10800" y="15228"/>
                  <a:pt x="10765" y="15205"/>
                </a:cubicBezTo>
                <a:cubicBezTo>
                  <a:pt x="10712" y="15170"/>
                  <a:pt x="10684" y="15155"/>
                  <a:pt x="10641" y="15106"/>
                </a:cubicBezTo>
                <a:cubicBezTo>
                  <a:pt x="10591" y="15049"/>
                  <a:pt x="10505" y="14977"/>
                  <a:pt x="10443" y="14932"/>
                </a:cubicBezTo>
                <a:cubicBezTo>
                  <a:pt x="10373" y="14882"/>
                  <a:pt x="10290" y="14861"/>
                  <a:pt x="10220" y="14808"/>
                </a:cubicBezTo>
                <a:cubicBezTo>
                  <a:pt x="10173" y="14772"/>
                  <a:pt x="10129" y="14745"/>
                  <a:pt x="10071" y="14734"/>
                </a:cubicBezTo>
                <a:cubicBezTo>
                  <a:pt x="9980" y="14717"/>
                  <a:pt x="10071" y="14759"/>
                  <a:pt x="10120" y="14808"/>
                </a:cubicBezTo>
              </a:path>
              <a:path w="3076" h="2829">
                <a:moveTo>
                  <a:pt x="9674" y="15131"/>
                </a:moveTo>
                <a:cubicBezTo>
                  <a:pt x="9667" y="15077"/>
                  <a:pt x="9633" y="15014"/>
                  <a:pt x="9649" y="14957"/>
                </a:cubicBezTo>
                <a:cubicBezTo>
                  <a:pt x="9660" y="14919"/>
                  <a:pt x="9670" y="14905"/>
                  <a:pt x="9674" y="14858"/>
                </a:cubicBezTo>
                <a:cubicBezTo>
                  <a:pt x="9674" y="14850"/>
                  <a:pt x="9674" y="14841"/>
                  <a:pt x="9674" y="14833"/>
                </a:cubicBezTo>
                <a:cubicBezTo>
                  <a:pt x="9724" y="14884"/>
                  <a:pt x="9754" y="14916"/>
                  <a:pt x="9823" y="14932"/>
                </a:cubicBezTo>
                <a:cubicBezTo>
                  <a:pt x="9895" y="14949"/>
                  <a:pt x="9974" y="14940"/>
                  <a:pt x="10046" y="14957"/>
                </a:cubicBezTo>
                <a:cubicBezTo>
                  <a:pt x="10124" y="14976"/>
                  <a:pt x="10218" y="14983"/>
                  <a:pt x="10294" y="15007"/>
                </a:cubicBezTo>
                <a:cubicBezTo>
                  <a:pt x="10351" y="15025"/>
                  <a:pt x="10382" y="15053"/>
                  <a:pt x="10443" y="15056"/>
                </a:cubicBezTo>
                <a:cubicBezTo>
                  <a:pt x="10507" y="15059"/>
                  <a:pt x="10516" y="15083"/>
                  <a:pt x="10567" y="15106"/>
                </a:cubicBezTo>
                <a:cubicBezTo>
                  <a:pt x="10624" y="15132"/>
                  <a:pt x="10637" y="15150"/>
                  <a:pt x="10691" y="15180"/>
                </a:cubicBezTo>
                <a:cubicBezTo>
                  <a:pt x="10743" y="15209"/>
                  <a:pt x="10797" y="15240"/>
                  <a:pt x="10840" y="15280"/>
                </a:cubicBezTo>
                <a:cubicBezTo>
                  <a:pt x="10895" y="15331"/>
                  <a:pt x="10970" y="15365"/>
                  <a:pt x="11013" y="15429"/>
                </a:cubicBezTo>
                <a:cubicBezTo>
                  <a:pt x="11040" y="15469"/>
                  <a:pt x="11067" y="15507"/>
                  <a:pt x="11088" y="15528"/>
                </a:cubicBezTo>
                <a:cubicBezTo>
                  <a:pt x="11112" y="15528"/>
                  <a:pt x="11120" y="15528"/>
                  <a:pt x="11112" y="1555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53040" y="5661000"/>
            <a:ext cx="946080" cy="839880"/>
          </a:xfrm>
          <a:custGeom>
            <a:avLst/>
            <a:gdLst/>
            <a:ahLst/>
            <a:rect l="l" t="t" r="r" b="b"/>
            <a:pathLst>
              <a:path w="2631" h="2333">
                <a:moveTo>
                  <a:pt x="15280" y="15776"/>
                </a:moveTo>
                <a:cubicBezTo>
                  <a:pt x="15159" y="15808"/>
                  <a:pt x="15049" y="15874"/>
                  <a:pt x="14932" y="15949"/>
                </a:cubicBezTo>
                <a:cubicBezTo>
                  <a:pt x="14725" y="16081"/>
                  <a:pt x="14551" y="16170"/>
                  <a:pt x="14436" y="16396"/>
                </a:cubicBezTo>
                <a:cubicBezTo>
                  <a:pt x="14357" y="16551"/>
                  <a:pt x="14323" y="16771"/>
                  <a:pt x="14312" y="16942"/>
                </a:cubicBezTo>
                <a:cubicBezTo>
                  <a:pt x="14300" y="17122"/>
                  <a:pt x="14286" y="17391"/>
                  <a:pt x="14362" y="17562"/>
                </a:cubicBezTo>
                <a:cubicBezTo>
                  <a:pt x="14405" y="17660"/>
                  <a:pt x="14524" y="17893"/>
                  <a:pt x="14610" y="17959"/>
                </a:cubicBezTo>
                <a:cubicBezTo>
                  <a:pt x="14731" y="18052"/>
                  <a:pt x="14864" y="18033"/>
                  <a:pt x="15007" y="18033"/>
                </a:cubicBezTo>
                <a:cubicBezTo>
                  <a:pt x="15192" y="18033"/>
                  <a:pt x="15371" y="18046"/>
                  <a:pt x="15553" y="18058"/>
                </a:cubicBezTo>
                <a:cubicBezTo>
                  <a:pt x="15735" y="18070"/>
                  <a:pt x="15898" y="17997"/>
                  <a:pt x="16073" y="17959"/>
                </a:cubicBezTo>
                <a:cubicBezTo>
                  <a:pt x="16235" y="17924"/>
                  <a:pt x="16353" y="17896"/>
                  <a:pt x="16495" y="17810"/>
                </a:cubicBezTo>
                <a:cubicBezTo>
                  <a:pt x="16595" y="17750"/>
                  <a:pt x="16677" y="17710"/>
                  <a:pt x="16743" y="17611"/>
                </a:cubicBezTo>
                <a:cubicBezTo>
                  <a:pt x="16838" y="17468"/>
                  <a:pt x="16873" y="17354"/>
                  <a:pt x="16917" y="17190"/>
                </a:cubicBezTo>
                <a:cubicBezTo>
                  <a:pt x="16945" y="17085"/>
                  <a:pt x="16942" y="16995"/>
                  <a:pt x="16917" y="16892"/>
                </a:cubicBezTo>
                <a:cubicBezTo>
                  <a:pt x="16894" y="16797"/>
                  <a:pt x="16880" y="16714"/>
                  <a:pt x="16867" y="16619"/>
                </a:cubicBezTo>
                <a:cubicBezTo>
                  <a:pt x="16854" y="16524"/>
                  <a:pt x="16853" y="16389"/>
                  <a:pt x="16818" y="16297"/>
                </a:cubicBezTo>
                <a:cubicBezTo>
                  <a:pt x="16784" y="16208"/>
                  <a:pt x="16707" y="16105"/>
                  <a:pt x="16644" y="16049"/>
                </a:cubicBezTo>
                <a:cubicBezTo>
                  <a:pt x="16594" y="16005"/>
                  <a:pt x="16483" y="15923"/>
                  <a:pt x="16421" y="15900"/>
                </a:cubicBezTo>
                <a:cubicBezTo>
                  <a:pt x="16340" y="15870"/>
                  <a:pt x="16259" y="15851"/>
                  <a:pt x="16173" y="15825"/>
                </a:cubicBezTo>
                <a:cubicBezTo>
                  <a:pt x="16121" y="15809"/>
                  <a:pt x="16072" y="15792"/>
                  <a:pt x="16024" y="15776"/>
                </a:cubicBezTo>
                <a:cubicBezTo>
                  <a:pt x="15938" y="15747"/>
                  <a:pt x="15842" y="15724"/>
                  <a:pt x="15751" y="15726"/>
                </a:cubicBezTo>
                <a:cubicBezTo>
                  <a:pt x="15669" y="15728"/>
                  <a:pt x="15559" y="15734"/>
                  <a:pt x="15478" y="15751"/>
                </a:cubicBezTo>
                <a:cubicBezTo>
                  <a:pt x="15431" y="15761"/>
                  <a:pt x="15402" y="15765"/>
                  <a:pt x="15354" y="15776"/>
                </a:cubicBezTo>
                <a:cubicBezTo>
                  <a:pt x="15309" y="15787"/>
                  <a:pt x="15249" y="15798"/>
                  <a:pt x="15205" y="15825"/>
                </a:cubicBezTo>
                <a:cubicBezTo>
                  <a:pt x="15152" y="15858"/>
                  <a:pt x="15099" y="15950"/>
                  <a:pt x="15056" y="15999"/>
                </a:cubicBezTo>
                <a:cubicBezTo>
                  <a:pt x="15037" y="16021"/>
                  <a:pt x="15025" y="16020"/>
                  <a:pt x="15007" y="1604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70800" y="5965920"/>
            <a:ext cx="187200" cy="320760"/>
          </a:xfrm>
          <a:custGeom>
            <a:avLst/>
            <a:gdLst/>
            <a:ahLst/>
            <a:rect l="l" t="t" r="r" b="b"/>
            <a:pathLst>
              <a:path w="522" h="893">
                <a:moveTo>
                  <a:pt x="18802" y="16768"/>
                </a:moveTo>
                <a:cubicBezTo>
                  <a:pt x="18802" y="16727"/>
                  <a:pt x="18802" y="16685"/>
                  <a:pt x="18802" y="16644"/>
                </a:cubicBezTo>
                <a:cubicBezTo>
                  <a:pt x="18702" y="16584"/>
                  <a:pt x="18644" y="16694"/>
                  <a:pt x="18604" y="16793"/>
                </a:cubicBezTo>
                <a:cubicBezTo>
                  <a:pt x="18508" y="17029"/>
                  <a:pt x="18508" y="17232"/>
                  <a:pt x="18628" y="17438"/>
                </a:cubicBezTo>
                <a:cubicBezTo>
                  <a:pt x="18861" y="17437"/>
                  <a:pt x="18996" y="17291"/>
                  <a:pt x="19050" y="17041"/>
                </a:cubicBezTo>
                <a:cubicBezTo>
                  <a:pt x="19087" y="16867"/>
                  <a:pt x="19043" y="16588"/>
                  <a:pt x="18827" y="16570"/>
                </a:cubicBezTo>
                <a:cubicBezTo>
                  <a:pt x="18725" y="16595"/>
                  <a:pt x="18690" y="16606"/>
                  <a:pt x="18678" y="1669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73920" y="5545080"/>
            <a:ext cx="403200" cy="214200"/>
          </a:xfrm>
          <a:custGeom>
            <a:avLst/>
            <a:gdLst/>
            <a:ahLst/>
            <a:rect l="l" t="t" r="r" b="b"/>
            <a:pathLst>
              <a:path w="1118" h="596">
                <a:moveTo>
                  <a:pt x="19372" y="15677"/>
                </a:moveTo>
                <a:cubicBezTo>
                  <a:pt x="19397" y="15652"/>
                  <a:pt x="19422" y="15627"/>
                  <a:pt x="19447" y="15602"/>
                </a:cubicBezTo>
                <a:cubicBezTo>
                  <a:pt x="19525" y="15641"/>
                  <a:pt x="19536" y="15811"/>
                  <a:pt x="19546" y="15900"/>
                </a:cubicBezTo>
                <a:cubicBezTo>
                  <a:pt x="19546" y="15925"/>
                  <a:pt x="19546" y="15949"/>
                  <a:pt x="19546" y="15974"/>
                </a:cubicBezTo>
                <a:cubicBezTo>
                  <a:pt x="19509" y="15845"/>
                  <a:pt x="19464" y="15744"/>
                  <a:pt x="19521" y="15602"/>
                </a:cubicBezTo>
                <a:cubicBezTo>
                  <a:pt x="19563" y="15497"/>
                  <a:pt x="19609" y="15436"/>
                  <a:pt x="19695" y="15404"/>
                </a:cubicBezTo>
                <a:cubicBezTo>
                  <a:pt x="19831" y="15517"/>
                  <a:pt x="19925" y="15645"/>
                  <a:pt x="19968" y="15825"/>
                </a:cubicBezTo>
                <a:cubicBezTo>
                  <a:pt x="19980" y="15877"/>
                  <a:pt x="19993" y="15944"/>
                  <a:pt x="19993" y="15999"/>
                </a:cubicBezTo>
              </a:path>
              <a:path w="1118" h="596">
                <a:moveTo>
                  <a:pt x="20265" y="15528"/>
                </a:moveTo>
                <a:cubicBezTo>
                  <a:pt x="20153" y="15598"/>
                  <a:pt x="20092" y="15710"/>
                  <a:pt x="20092" y="15850"/>
                </a:cubicBezTo>
                <a:cubicBezTo>
                  <a:pt x="20092" y="16037"/>
                  <a:pt x="20255" y="16011"/>
                  <a:pt x="20365" y="15949"/>
                </a:cubicBezTo>
                <a:cubicBezTo>
                  <a:pt x="20492" y="15877"/>
                  <a:pt x="20540" y="15753"/>
                  <a:pt x="20439" y="15627"/>
                </a:cubicBezTo>
                <a:cubicBezTo>
                  <a:pt x="20404" y="15584"/>
                  <a:pt x="20340" y="15563"/>
                  <a:pt x="20290" y="1555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62880" y="5464080"/>
            <a:ext cx="1009800" cy="304920"/>
          </a:xfrm>
          <a:custGeom>
            <a:avLst/>
            <a:gdLst/>
            <a:ahLst/>
            <a:rect l="l" t="t" r="r" b="b"/>
            <a:pathLst>
              <a:path w="2803" h="845">
                <a:moveTo>
                  <a:pt x="21010" y="15553"/>
                </a:moveTo>
                <a:cubicBezTo>
                  <a:pt x="21010" y="15415"/>
                  <a:pt x="21097" y="15659"/>
                  <a:pt x="21109" y="15677"/>
                </a:cubicBezTo>
                <a:cubicBezTo>
                  <a:pt x="21175" y="15778"/>
                  <a:pt x="21219" y="15873"/>
                  <a:pt x="21282" y="15974"/>
                </a:cubicBezTo>
                <a:cubicBezTo>
                  <a:pt x="21290" y="15991"/>
                  <a:pt x="21299" y="16007"/>
                  <a:pt x="21307" y="16024"/>
                </a:cubicBezTo>
                <a:cubicBezTo>
                  <a:pt x="21319" y="15988"/>
                  <a:pt x="21320" y="15996"/>
                  <a:pt x="21332" y="15949"/>
                </a:cubicBezTo>
                <a:cubicBezTo>
                  <a:pt x="21366" y="15822"/>
                  <a:pt x="21418" y="15738"/>
                  <a:pt x="21481" y="15627"/>
                </a:cubicBezTo>
                <a:cubicBezTo>
                  <a:pt x="21498" y="15598"/>
                  <a:pt x="21655" y="15434"/>
                  <a:pt x="21630" y="15478"/>
                </a:cubicBezTo>
                <a:cubicBezTo>
                  <a:pt x="21622" y="15486"/>
                  <a:pt x="21613" y="15495"/>
                  <a:pt x="21605" y="15503"/>
                </a:cubicBezTo>
              </a:path>
              <a:path w="2803" h="845">
                <a:moveTo>
                  <a:pt x="21679" y="15801"/>
                </a:moveTo>
                <a:cubicBezTo>
                  <a:pt x="21679" y="15724"/>
                  <a:pt x="21690" y="15770"/>
                  <a:pt x="21754" y="15751"/>
                </a:cubicBezTo>
                <a:cubicBezTo>
                  <a:pt x="21822" y="15731"/>
                  <a:pt x="21880" y="15707"/>
                  <a:pt x="21952" y="15701"/>
                </a:cubicBezTo>
                <a:cubicBezTo>
                  <a:pt x="22003" y="15697"/>
                  <a:pt x="22011" y="15713"/>
                  <a:pt x="22051" y="15726"/>
                </a:cubicBezTo>
                <a:cubicBezTo>
                  <a:pt x="22059" y="15726"/>
                  <a:pt x="22068" y="15726"/>
                  <a:pt x="22076" y="15726"/>
                </a:cubicBezTo>
                <a:cubicBezTo>
                  <a:pt x="22076" y="15694"/>
                  <a:pt x="22071" y="15619"/>
                  <a:pt x="22051" y="15602"/>
                </a:cubicBezTo>
                <a:cubicBezTo>
                  <a:pt x="22036" y="15589"/>
                  <a:pt x="21980" y="15567"/>
                  <a:pt x="21952" y="15577"/>
                </a:cubicBezTo>
                <a:cubicBezTo>
                  <a:pt x="21884" y="15602"/>
                  <a:pt x="21891" y="15621"/>
                  <a:pt x="21853" y="15652"/>
                </a:cubicBezTo>
                <a:cubicBezTo>
                  <a:pt x="21812" y="15686"/>
                  <a:pt x="21790" y="15755"/>
                  <a:pt x="21754" y="15776"/>
                </a:cubicBezTo>
                <a:cubicBezTo>
                  <a:pt x="21729" y="15790"/>
                  <a:pt x="21708" y="15790"/>
                  <a:pt x="21704" y="15825"/>
                </a:cubicBezTo>
                <a:cubicBezTo>
                  <a:pt x="21698" y="15871"/>
                  <a:pt x="21690" y="15965"/>
                  <a:pt x="21729" y="15999"/>
                </a:cubicBezTo>
                <a:cubicBezTo>
                  <a:pt x="21768" y="16033"/>
                  <a:pt x="21947" y="15990"/>
                  <a:pt x="21977" y="15974"/>
                </a:cubicBezTo>
                <a:cubicBezTo>
                  <a:pt x="22054" y="15933"/>
                  <a:pt x="22039" y="15956"/>
                  <a:pt x="22076" y="15974"/>
                </a:cubicBezTo>
                <a:cubicBezTo>
                  <a:pt x="22084" y="15974"/>
                  <a:pt x="22093" y="15974"/>
                  <a:pt x="22101" y="15974"/>
                </a:cubicBezTo>
              </a:path>
              <a:path w="2803" h="845">
                <a:moveTo>
                  <a:pt x="22250" y="15701"/>
                </a:moveTo>
                <a:cubicBezTo>
                  <a:pt x="22294" y="15661"/>
                  <a:pt x="22290" y="15857"/>
                  <a:pt x="22299" y="15900"/>
                </a:cubicBezTo>
                <a:cubicBezTo>
                  <a:pt x="22311" y="15961"/>
                  <a:pt x="22324" y="15970"/>
                  <a:pt x="22324" y="16024"/>
                </a:cubicBezTo>
                <a:cubicBezTo>
                  <a:pt x="22333" y="16012"/>
                  <a:pt x="22375" y="15945"/>
                  <a:pt x="22349" y="15925"/>
                </a:cubicBezTo>
                <a:cubicBezTo>
                  <a:pt x="22300" y="15887"/>
                  <a:pt x="22360" y="15850"/>
                  <a:pt x="22324" y="15801"/>
                </a:cubicBezTo>
                <a:cubicBezTo>
                  <a:pt x="22313" y="15786"/>
                  <a:pt x="22282" y="15774"/>
                  <a:pt x="22299" y="15726"/>
                </a:cubicBezTo>
                <a:cubicBezTo>
                  <a:pt x="22328" y="15647"/>
                  <a:pt x="22334" y="15652"/>
                  <a:pt x="22399" y="15602"/>
                </a:cubicBezTo>
                <a:cubicBezTo>
                  <a:pt x="22425" y="15582"/>
                  <a:pt x="22541" y="15533"/>
                  <a:pt x="22572" y="15553"/>
                </a:cubicBezTo>
                <a:cubicBezTo>
                  <a:pt x="22572" y="15561"/>
                  <a:pt x="22572" y="15569"/>
                  <a:pt x="22572" y="15577"/>
                </a:cubicBezTo>
              </a:path>
              <a:path w="2803" h="845">
                <a:moveTo>
                  <a:pt x="22796" y="15205"/>
                </a:moveTo>
                <a:cubicBezTo>
                  <a:pt x="22796" y="15197"/>
                  <a:pt x="22796" y="15188"/>
                  <a:pt x="22796" y="15180"/>
                </a:cubicBezTo>
                <a:cubicBezTo>
                  <a:pt x="22871" y="15238"/>
                  <a:pt x="22872" y="15310"/>
                  <a:pt x="22895" y="15404"/>
                </a:cubicBezTo>
                <a:cubicBezTo>
                  <a:pt x="22926" y="15529"/>
                  <a:pt x="22944" y="15619"/>
                  <a:pt x="22944" y="15751"/>
                </a:cubicBezTo>
                <a:cubicBezTo>
                  <a:pt x="22944" y="15803"/>
                  <a:pt x="22969" y="16011"/>
                  <a:pt x="22969" y="15974"/>
                </a:cubicBezTo>
                <a:cubicBezTo>
                  <a:pt x="22969" y="15949"/>
                  <a:pt x="22969" y="15941"/>
                  <a:pt x="22969" y="15925"/>
                </a:cubicBezTo>
              </a:path>
              <a:path w="2803" h="845">
                <a:moveTo>
                  <a:pt x="22721" y="15602"/>
                </a:moveTo>
                <a:cubicBezTo>
                  <a:pt x="22786" y="15569"/>
                  <a:pt x="22866" y="15557"/>
                  <a:pt x="22944" y="15553"/>
                </a:cubicBezTo>
                <a:cubicBezTo>
                  <a:pt x="23002" y="15550"/>
                  <a:pt x="23060" y="15553"/>
                  <a:pt x="23118" y="15553"/>
                </a:cubicBezTo>
              </a:path>
              <a:path w="2803" h="845">
                <a:moveTo>
                  <a:pt x="23168" y="15677"/>
                </a:moveTo>
                <a:cubicBezTo>
                  <a:pt x="23221" y="15695"/>
                  <a:pt x="23179" y="15769"/>
                  <a:pt x="23192" y="15825"/>
                </a:cubicBezTo>
                <a:cubicBezTo>
                  <a:pt x="23204" y="15875"/>
                  <a:pt x="23217" y="16026"/>
                  <a:pt x="23217" y="15974"/>
                </a:cubicBezTo>
                <a:cubicBezTo>
                  <a:pt x="23217" y="15966"/>
                  <a:pt x="23217" y="15957"/>
                  <a:pt x="23217" y="15949"/>
                </a:cubicBezTo>
              </a:path>
              <a:path w="2803" h="845">
                <a:moveTo>
                  <a:pt x="23168" y="15379"/>
                </a:moveTo>
                <a:cubicBezTo>
                  <a:pt x="23168" y="15351"/>
                  <a:pt x="23170" y="15345"/>
                  <a:pt x="23192" y="15379"/>
                </a:cubicBezTo>
              </a:path>
              <a:path w="2803" h="845">
                <a:moveTo>
                  <a:pt x="23540" y="15627"/>
                </a:moveTo>
                <a:cubicBezTo>
                  <a:pt x="23548" y="15627"/>
                  <a:pt x="23556" y="15627"/>
                  <a:pt x="23564" y="15627"/>
                </a:cubicBezTo>
                <a:cubicBezTo>
                  <a:pt x="23559" y="15608"/>
                  <a:pt x="23524" y="15540"/>
                  <a:pt x="23490" y="15577"/>
                </a:cubicBezTo>
                <a:cubicBezTo>
                  <a:pt x="23421" y="15651"/>
                  <a:pt x="23389" y="15760"/>
                  <a:pt x="23440" y="15850"/>
                </a:cubicBezTo>
                <a:cubicBezTo>
                  <a:pt x="23471" y="15904"/>
                  <a:pt x="23472" y="15919"/>
                  <a:pt x="23540" y="15925"/>
                </a:cubicBezTo>
                <a:cubicBezTo>
                  <a:pt x="23572" y="15928"/>
                  <a:pt x="23607" y="15925"/>
                  <a:pt x="23639" y="15925"/>
                </a:cubicBezTo>
              </a:path>
              <a:path w="2803" h="845">
                <a:moveTo>
                  <a:pt x="23688" y="15701"/>
                </a:moveTo>
                <a:cubicBezTo>
                  <a:pt x="23723" y="15690"/>
                  <a:pt x="23730" y="15677"/>
                  <a:pt x="23788" y="15677"/>
                </a:cubicBezTo>
                <a:cubicBezTo>
                  <a:pt x="23796" y="15677"/>
                  <a:pt x="23804" y="15677"/>
                  <a:pt x="23812" y="15677"/>
                </a:cubicBezTo>
                <a:cubicBezTo>
                  <a:pt x="23812" y="15628"/>
                  <a:pt x="23825" y="15593"/>
                  <a:pt x="23788" y="15577"/>
                </a:cubicBezTo>
                <a:cubicBezTo>
                  <a:pt x="23771" y="15569"/>
                  <a:pt x="23755" y="15561"/>
                  <a:pt x="23738" y="15553"/>
                </a:cubicBezTo>
                <a:cubicBezTo>
                  <a:pt x="23697" y="15614"/>
                  <a:pt x="23668" y="15677"/>
                  <a:pt x="23664" y="15751"/>
                </a:cubicBezTo>
                <a:cubicBezTo>
                  <a:pt x="23660" y="15820"/>
                  <a:pt x="23671" y="15850"/>
                  <a:pt x="23738" y="15850"/>
                </a:cubicBezTo>
                <a:cubicBezTo>
                  <a:pt x="23783" y="15850"/>
                  <a:pt x="23796" y="15854"/>
                  <a:pt x="23812" y="1582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00920" y="5892840"/>
            <a:ext cx="687240" cy="287280"/>
          </a:xfrm>
          <a:custGeom>
            <a:avLst/>
            <a:gdLst/>
            <a:ahLst/>
            <a:rect l="l" t="t" r="r" b="b"/>
            <a:pathLst>
              <a:path w="1911" h="795">
                <a:moveTo>
                  <a:pt x="19447" y="16768"/>
                </a:moveTo>
                <a:cubicBezTo>
                  <a:pt x="19463" y="16720"/>
                  <a:pt x="19544" y="16775"/>
                  <a:pt x="19571" y="16818"/>
                </a:cubicBezTo>
                <a:cubicBezTo>
                  <a:pt x="19638" y="16925"/>
                  <a:pt x="19635" y="17060"/>
                  <a:pt x="19695" y="17165"/>
                </a:cubicBezTo>
                <a:cubicBezTo>
                  <a:pt x="19685" y="17018"/>
                  <a:pt x="19637" y="16886"/>
                  <a:pt x="19670" y="16743"/>
                </a:cubicBezTo>
                <a:cubicBezTo>
                  <a:pt x="19706" y="16587"/>
                  <a:pt x="19886" y="16571"/>
                  <a:pt x="20017" y="16619"/>
                </a:cubicBezTo>
                <a:cubicBezTo>
                  <a:pt x="20156" y="16670"/>
                  <a:pt x="20243" y="16796"/>
                  <a:pt x="20315" y="16917"/>
                </a:cubicBezTo>
                <a:cubicBezTo>
                  <a:pt x="20347" y="16970"/>
                  <a:pt x="20329" y="17001"/>
                  <a:pt x="20389" y="17016"/>
                </a:cubicBezTo>
              </a:path>
              <a:path w="1911" h="795">
                <a:moveTo>
                  <a:pt x="20588" y="16619"/>
                </a:moveTo>
                <a:cubicBezTo>
                  <a:pt x="20507" y="16730"/>
                  <a:pt x="20414" y="16894"/>
                  <a:pt x="20414" y="17041"/>
                </a:cubicBezTo>
                <a:cubicBezTo>
                  <a:pt x="20422" y="17074"/>
                  <a:pt x="20431" y="17107"/>
                  <a:pt x="20439" y="17140"/>
                </a:cubicBezTo>
                <a:cubicBezTo>
                  <a:pt x="20565" y="17165"/>
                  <a:pt x="20747" y="17095"/>
                  <a:pt x="20786" y="16942"/>
                </a:cubicBezTo>
                <a:cubicBezTo>
                  <a:pt x="20837" y="16738"/>
                  <a:pt x="20581" y="16723"/>
                  <a:pt x="20464" y="16718"/>
                </a:cubicBezTo>
                <a:cubicBezTo>
                  <a:pt x="20456" y="16718"/>
                  <a:pt x="20447" y="16718"/>
                  <a:pt x="20439" y="16718"/>
                </a:cubicBezTo>
              </a:path>
              <a:path w="1911" h="795">
                <a:moveTo>
                  <a:pt x="20836" y="16371"/>
                </a:moveTo>
                <a:cubicBezTo>
                  <a:pt x="20927" y="16554"/>
                  <a:pt x="20966" y="16741"/>
                  <a:pt x="21010" y="16942"/>
                </a:cubicBezTo>
                <a:cubicBezTo>
                  <a:pt x="21029" y="17030"/>
                  <a:pt x="21012" y="17080"/>
                  <a:pt x="21059" y="17066"/>
                </a:cubicBezTo>
              </a:path>
              <a:path w="1911" h="795">
                <a:moveTo>
                  <a:pt x="20762" y="16669"/>
                </a:moveTo>
                <a:cubicBezTo>
                  <a:pt x="20938" y="16689"/>
                  <a:pt x="21102" y="16649"/>
                  <a:pt x="21282" y="16644"/>
                </a:cubicBezTo>
                <a:cubicBezTo>
                  <a:pt x="21307" y="16644"/>
                  <a:pt x="21332" y="16644"/>
                  <a:pt x="21357" y="1664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2720" y="5965920"/>
            <a:ext cx="258480" cy="195120"/>
          </a:xfrm>
          <a:custGeom>
            <a:avLst/>
            <a:gdLst/>
            <a:ahLst/>
            <a:rect l="l" t="t" r="r" b="b"/>
            <a:pathLst>
              <a:path w="720" h="546">
                <a:moveTo>
                  <a:pt x="22225" y="16743"/>
                </a:moveTo>
                <a:cubicBezTo>
                  <a:pt x="22240" y="16789"/>
                  <a:pt x="22287" y="16760"/>
                  <a:pt x="22275" y="16718"/>
                </a:cubicBezTo>
                <a:cubicBezTo>
                  <a:pt x="22254" y="16645"/>
                  <a:pt x="22226" y="16613"/>
                  <a:pt x="22175" y="16570"/>
                </a:cubicBezTo>
                <a:cubicBezTo>
                  <a:pt x="22037" y="16650"/>
                  <a:pt x="21931" y="16810"/>
                  <a:pt x="21952" y="16991"/>
                </a:cubicBezTo>
                <a:cubicBezTo>
                  <a:pt x="21997" y="17080"/>
                  <a:pt x="22003" y="17110"/>
                  <a:pt x="22076" y="17115"/>
                </a:cubicBezTo>
                <a:cubicBezTo>
                  <a:pt x="22252" y="17021"/>
                  <a:pt x="22285" y="16924"/>
                  <a:pt x="22299" y="16718"/>
                </a:cubicBezTo>
                <a:cubicBezTo>
                  <a:pt x="22299" y="16677"/>
                  <a:pt x="22307" y="16661"/>
                  <a:pt x="22275" y="16669"/>
                </a:cubicBezTo>
                <a:cubicBezTo>
                  <a:pt x="22275" y="16803"/>
                  <a:pt x="22277" y="16906"/>
                  <a:pt x="22399" y="16991"/>
                </a:cubicBezTo>
                <a:cubicBezTo>
                  <a:pt x="22535" y="17086"/>
                  <a:pt x="22623" y="16939"/>
                  <a:pt x="22671" y="1684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29280" y="6259680"/>
            <a:ext cx="1278000" cy="455400"/>
          </a:xfrm>
          <a:custGeom>
            <a:avLst/>
            <a:gdLst/>
            <a:ahLst/>
            <a:rect l="l" t="t" r="r" b="b"/>
            <a:pathLst>
              <a:path w="3549" h="1266">
                <a:moveTo>
                  <a:pt x="19372" y="17661"/>
                </a:moveTo>
                <a:cubicBezTo>
                  <a:pt x="19405" y="17874"/>
                  <a:pt x="19478" y="18100"/>
                  <a:pt x="19546" y="18306"/>
                </a:cubicBezTo>
                <a:cubicBezTo>
                  <a:pt x="19589" y="18413"/>
                  <a:pt x="19600" y="18437"/>
                  <a:pt x="19621" y="18504"/>
                </a:cubicBezTo>
              </a:path>
              <a:path w="3549" h="1266">
                <a:moveTo>
                  <a:pt x="19248" y="17611"/>
                </a:moveTo>
                <a:cubicBezTo>
                  <a:pt x="19518" y="17524"/>
                  <a:pt x="19817" y="17413"/>
                  <a:pt x="20042" y="17661"/>
                </a:cubicBezTo>
                <a:cubicBezTo>
                  <a:pt x="20178" y="17811"/>
                  <a:pt x="20030" y="18019"/>
                  <a:pt x="19869" y="18058"/>
                </a:cubicBezTo>
                <a:cubicBezTo>
                  <a:pt x="19783" y="18079"/>
                  <a:pt x="19633" y="18059"/>
                  <a:pt x="19596" y="17983"/>
                </a:cubicBezTo>
              </a:path>
              <a:path w="3549" h="1266">
                <a:moveTo>
                  <a:pt x="20191" y="17636"/>
                </a:moveTo>
                <a:cubicBezTo>
                  <a:pt x="20085" y="17723"/>
                  <a:pt x="19986" y="17847"/>
                  <a:pt x="20117" y="17983"/>
                </a:cubicBezTo>
                <a:cubicBezTo>
                  <a:pt x="20196" y="18066"/>
                  <a:pt x="20277" y="18030"/>
                  <a:pt x="20365" y="18008"/>
                </a:cubicBezTo>
                <a:cubicBezTo>
                  <a:pt x="20387" y="17863"/>
                  <a:pt x="20345" y="17787"/>
                  <a:pt x="20290" y="17661"/>
                </a:cubicBezTo>
                <a:cubicBezTo>
                  <a:pt x="20290" y="17636"/>
                  <a:pt x="20290" y="17628"/>
                  <a:pt x="20265" y="17636"/>
                </a:cubicBezTo>
              </a:path>
              <a:path w="3549" h="1266">
                <a:moveTo>
                  <a:pt x="20464" y="17388"/>
                </a:moveTo>
                <a:cubicBezTo>
                  <a:pt x="20565" y="17489"/>
                  <a:pt x="20640" y="17625"/>
                  <a:pt x="20687" y="17760"/>
                </a:cubicBezTo>
                <a:cubicBezTo>
                  <a:pt x="20715" y="17841"/>
                  <a:pt x="20761" y="18009"/>
                  <a:pt x="20712" y="18058"/>
                </a:cubicBezTo>
              </a:path>
              <a:path w="3549" h="1266">
                <a:moveTo>
                  <a:pt x="20762" y="17636"/>
                </a:moveTo>
                <a:cubicBezTo>
                  <a:pt x="20787" y="17736"/>
                  <a:pt x="20832" y="17882"/>
                  <a:pt x="20910" y="17959"/>
                </a:cubicBezTo>
                <a:cubicBezTo>
                  <a:pt x="21016" y="18064"/>
                  <a:pt x="21076" y="17820"/>
                  <a:pt x="21084" y="17760"/>
                </a:cubicBezTo>
                <a:cubicBezTo>
                  <a:pt x="21084" y="17727"/>
                  <a:pt x="21084" y="17694"/>
                  <a:pt x="21084" y="17661"/>
                </a:cubicBezTo>
                <a:cubicBezTo>
                  <a:pt x="21076" y="17661"/>
                  <a:pt x="21067" y="17661"/>
                  <a:pt x="21059" y="17661"/>
                </a:cubicBezTo>
                <a:cubicBezTo>
                  <a:pt x="21059" y="17812"/>
                  <a:pt x="21077" y="17957"/>
                  <a:pt x="21084" y="18107"/>
                </a:cubicBezTo>
                <a:cubicBezTo>
                  <a:pt x="21094" y="18321"/>
                  <a:pt x="21116" y="18486"/>
                  <a:pt x="20910" y="18604"/>
                </a:cubicBezTo>
                <a:cubicBezTo>
                  <a:pt x="20739" y="18702"/>
                  <a:pt x="20693" y="18628"/>
                  <a:pt x="20563" y="18529"/>
                </a:cubicBezTo>
              </a:path>
              <a:path w="3549" h="1266">
                <a:moveTo>
                  <a:pt x="21580" y="17661"/>
                </a:moveTo>
                <a:cubicBezTo>
                  <a:pt x="21479" y="17598"/>
                  <a:pt x="21400" y="17535"/>
                  <a:pt x="21282" y="17636"/>
                </a:cubicBezTo>
                <a:cubicBezTo>
                  <a:pt x="21153" y="17747"/>
                  <a:pt x="21150" y="17816"/>
                  <a:pt x="21158" y="17959"/>
                </a:cubicBezTo>
                <a:cubicBezTo>
                  <a:pt x="21317" y="17983"/>
                  <a:pt x="21418" y="17938"/>
                  <a:pt x="21506" y="17785"/>
                </a:cubicBezTo>
                <a:cubicBezTo>
                  <a:pt x="21545" y="17687"/>
                  <a:pt x="21561" y="17673"/>
                  <a:pt x="21555" y="17611"/>
                </a:cubicBezTo>
                <a:cubicBezTo>
                  <a:pt x="21654" y="17730"/>
                  <a:pt x="21753" y="17905"/>
                  <a:pt x="21779" y="18058"/>
                </a:cubicBezTo>
                <a:cubicBezTo>
                  <a:pt x="21828" y="18345"/>
                  <a:pt x="21683" y="18461"/>
                  <a:pt x="21431" y="18529"/>
                </a:cubicBezTo>
                <a:cubicBezTo>
                  <a:pt x="21286" y="18568"/>
                  <a:pt x="21267" y="18557"/>
                  <a:pt x="21158" y="18479"/>
                </a:cubicBezTo>
              </a:path>
              <a:path w="3549" h="1266">
                <a:moveTo>
                  <a:pt x="21977" y="17537"/>
                </a:moveTo>
                <a:cubicBezTo>
                  <a:pt x="21878" y="17636"/>
                  <a:pt x="21786" y="17742"/>
                  <a:pt x="21754" y="17884"/>
                </a:cubicBezTo>
                <a:cubicBezTo>
                  <a:pt x="21754" y="17973"/>
                  <a:pt x="21747" y="17999"/>
                  <a:pt x="21803" y="18033"/>
                </a:cubicBezTo>
                <a:cubicBezTo>
                  <a:pt x="21973" y="18044"/>
                  <a:pt x="22146" y="17972"/>
                  <a:pt x="22175" y="17760"/>
                </a:cubicBezTo>
                <a:cubicBezTo>
                  <a:pt x="22207" y="17526"/>
                  <a:pt x="21994" y="17562"/>
                  <a:pt x="21853" y="17587"/>
                </a:cubicBezTo>
              </a:path>
              <a:path w="3549" h="1266">
                <a:moveTo>
                  <a:pt x="22299" y="17835"/>
                </a:moveTo>
                <a:cubicBezTo>
                  <a:pt x="22336" y="17908"/>
                  <a:pt x="22353" y="17913"/>
                  <a:pt x="22349" y="17959"/>
                </a:cubicBezTo>
                <a:cubicBezTo>
                  <a:pt x="22286" y="17938"/>
                  <a:pt x="22336" y="17756"/>
                  <a:pt x="22349" y="17711"/>
                </a:cubicBezTo>
                <a:cubicBezTo>
                  <a:pt x="22400" y="17533"/>
                  <a:pt x="22541" y="17476"/>
                  <a:pt x="22671" y="17611"/>
                </a:cubicBezTo>
                <a:cubicBezTo>
                  <a:pt x="22767" y="17711"/>
                  <a:pt x="22796" y="17777"/>
                  <a:pt x="22796" y="17909"/>
                </a:cubicBezTo>
                <a:cubicBezTo>
                  <a:pt x="22796" y="17917"/>
                  <a:pt x="22796" y="17926"/>
                  <a:pt x="22796" y="1793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btuse triangle: has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on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obtuse ang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5029200"/>
            <a:ext cx="274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437920" y="3657600"/>
            <a:ext cx="175284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3657600"/>
            <a:ext cx="441972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2160" y="94608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1680" y="5643720"/>
            <a:ext cx="53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right or obtuse angles?  Then it is acut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55920" y="3616200"/>
            <a:ext cx="4295880" cy="1438560"/>
          </a:xfrm>
          <a:custGeom>
            <a:avLst/>
            <a:gdLst/>
            <a:ahLst/>
            <a:rect l="l" t="t" r="r" b="b"/>
            <a:pathLst>
              <a:path w="11932" h="3994">
                <a:moveTo>
                  <a:pt x="6871" y="10096"/>
                </a:moveTo>
                <a:cubicBezTo>
                  <a:pt x="6855" y="10080"/>
                  <a:pt x="6847" y="10072"/>
                  <a:pt x="6821" y="10046"/>
                </a:cubicBezTo>
                <a:cubicBezTo>
                  <a:pt x="6821" y="10054"/>
                  <a:pt x="6821" y="10063"/>
                  <a:pt x="6821" y="10071"/>
                </a:cubicBezTo>
                <a:cubicBezTo>
                  <a:pt x="6846" y="10071"/>
                  <a:pt x="6871" y="10071"/>
                  <a:pt x="6896" y="10071"/>
                </a:cubicBezTo>
                <a:cubicBezTo>
                  <a:pt x="6914" y="10085"/>
                  <a:pt x="6934" y="10101"/>
                  <a:pt x="6970" y="10120"/>
                </a:cubicBezTo>
                <a:cubicBezTo>
                  <a:pt x="7003" y="10137"/>
                  <a:pt x="7030" y="10139"/>
                  <a:pt x="7069" y="10145"/>
                </a:cubicBezTo>
                <a:cubicBezTo>
                  <a:pt x="7083" y="10152"/>
                  <a:pt x="7149" y="10205"/>
                  <a:pt x="7169" y="10220"/>
                </a:cubicBezTo>
                <a:cubicBezTo>
                  <a:pt x="7212" y="10226"/>
                  <a:pt x="7261" y="10231"/>
                  <a:pt x="7293" y="10269"/>
                </a:cubicBezTo>
                <a:cubicBezTo>
                  <a:pt x="7333" y="10316"/>
                  <a:pt x="7380" y="10352"/>
                  <a:pt x="7441" y="10393"/>
                </a:cubicBezTo>
                <a:cubicBezTo>
                  <a:pt x="7488" y="10424"/>
                  <a:pt x="7514" y="10421"/>
                  <a:pt x="7565" y="10468"/>
                </a:cubicBezTo>
                <a:cubicBezTo>
                  <a:pt x="7617" y="10516"/>
                  <a:pt x="7699" y="10562"/>
                  <a:pt x="7739" y="10616"/>
                </a:cubicBezTo>
                <a:cubicBezTo>
                  <a:pt x="7763" y="10664"/>
                  <a:pt x="7769" y="10681"/>
                  <a:pt x="7813" y="10666"/>
                </a:cubicBezTo>
                <a:cubicBezTo>
                  <a:pt x="7830" y="10687"/>
                  <a:pt x="7866" y="10718"/>
                  <a:pt x="7888" y="10740"/>
                </a:cubicBezTo>
                <a:cubicBezTo>
                  <a:pt x="7911" y="10763"/>
                  <a:pt x="7919" y="10767"/>
                  <a:pt x="7913" y="10790"/>
                </a:cubicBezTo>
                <a:cubicBezTo>
                  <a:pt x="7947" y="10805"/>
                  <a:pt x="7969" y="10824"/>
                  <a:pt x="7987" y="10840"/>
                </a:cubicBezTo>
                <a:cubicBezTo>
                  <a:pt x="8009" y="10856"/>
                  <a:pt x="8015" y="10848"/>
                  <a:pt x="8037" y="10864"/>
                </a:cubicBezTo>
                <a:cubicBezTo>
                  <a:pt x="8002" y="10864"/>
                  <a:pt x="7984" y="10860"/>
                  <a:pt x="7962" y="10840"/>
                </a:cubicBezTo>
              </a:path>
              <a:path w="11932" h="3994">
                <a:moveTo>
                  <a:pt x="7293" y="10592"/>
                </a:moveTo>
                <a:cubicBezTo>
                  <a:pt x="7268" y="10592"/>
                  <a:pt x="7260" y="10592"/>
                  <a:pt x="7268" y="10567"/>
                </a:cubicBezTo>
                <a:cubicBezTo>
                  <a:pt x="7343" y="10587"/>
                  <a:pt x="7391" y="10583"/>
                  <a:pt x="7466" y="10616"/>
                </a:cubicBezTo>
                <a:cubicBezTo>
                  <a:pt x="7507" y="10634"/>
                  <a:pt x="7554" y="10667"/>
                  <a:pt x="7590" y="10691"/>
                </a:cubicBezTo>
                <a:cubicBezTo>
                  <a:pt x="7623" y="10713"/>
                  <a:pt x="7667" y="10752"/>
                  <a:pt x="7714" y="10790"/>
                </a:cubicBezTo>
                <a:cubicBezTo>
                  <a:pt x="7769" y="10834"/>
                  <a:pt x="7832" y="10880"/>
                  <a:pt x="7888" y="10914"/>
                </a:cubicBezTo>
                <a:cubicBezTo>
                  <a:pt x="7971" y="10964"/>
                  <a:pt x="8076" y="11003"/>
                  <a:pt x="8161" y="11063"/>
                </a:cubicBezTo>
                <a:cubicBezTo>
                  <a:pt x="8208" y="11097"/>
                  <a:pt x="8300" y="11149"/>
                  <a:pt x="8334" y="11187"/>
                </a:cubicBezTo>
                <a:cubicBezTo>
                  <a:pt x="8371" y="11229"/>
                  <a:pt x="8430" y="11305"/>
                  <a:pt x="8458" y="11336"/>
                </a:cubicBezTo>
                <a:cubicBezTo>
                  <a:pt x="8504" y="11387"/>
                  <a:pt x="8566" y="11444"/>
                  <a:pt x="8607" y="11485"/>
                </a:cubicBezTo>
                <a:cubicBezTo>
                  <a:pt x="8635" y="11513"/>
                  <a:pt x="8689" y="11571"/>
                  <a:pt x="8706" y="11584"/>
                </a:cubicBezTo>
                <a:cubicBezTo>
                  <a:pt x="8750" y="11618"/>
                  <a:pt x="8848" y="11675"/>
                  <a:pt x="8905" y="11708"/>
                </a:cubicBezTo>
                <a:cubicBezTo>
                  <a:pt x="9026" y="11779"/>
                  <a:pt x="9162" y="11826"/>
                  <a:pt x="9277" y="11906"/>
                </a:cubicBezTo>
                <a:cubicBezTo>
                  <a:pt x="9320" y="11936"/>
                  <a:pt x="9355" y="11972"/>
                  <a:pt x="9401" y="12005"/>
                </a:cubicBezTo>
                <a:cubicBezTo>
                  <a:pt x="9453" y="12042"/>
                  <a:pt x="9530" y="12072"/>
                  <a:pt x="9575" y="12105"/>
                </a:cubicBezTo>
                <a:cubicBezTo>
                  <a:pt x="9619" y="12137"/>
                  <a:pt x="9684" y="12176"/>
                  <a:pt x="9723" y="12204"/>
                </a:cubicBezTo>
                <a:cubicBezTo>
                  <a:pt x="9787" y="12251"/>
                  <a:pt x="9834" y="12299"/>
                  <a:pt x="9897" y="12353"/>
                </a:cubicBezTo>
                <a:cubicBezTo>
                  <a:pt x="9964" y="12410"/>
                  <a:pt x="10032" y="12466"/>
                  <a:pt x="10096" y="12526"/>
                </a:cubicBezTo>
                <a:cubicBezTo>
                  <a:pt x="10154" y="12580"/>
                  <a:pt x="10209" y="12626"/>
                  <a:pt x="10269" y="12675"/>
                </a:cubicBezTo>
                <a:cubicBezTo>
                  <a:pt x="10346" y="12738"/>
                  <a:pt x="10441" y="12787"/>
                  <a:pt x="10517" y="12849"/>
                </a:cubicBezTo>
                <a:cubicBezTo>
                  <a:pt x="10571" y="12894"/>
                  <a:pt x="10615" y="12929"/>
                  <a:pt x="10666" y="12973"/>
                </a:cubicBezTo>
                <a:cubicBezTo>
                  <a:pt x="10714" y="13015"/>
                  <a:pt x="10744" y="13056"/>
                  <a:pt x="10790" y="13097"/>
                </a:cubicBezTo>
                <a:cubicBezTo>
                  <a:pt x="10861" y="13159"/>
                  <a:pt x="10929" y="13240"/>
                  <a:pt x="10988" y="13295"/>
                </a:cubicBezTo>
                <a:cubicBezTo>
                  <a:pt x="11044" y="13347"/>
                  <a:pt x="11121" y="13391"/>
                  <a:pt x="11162" y="13444"/>
                </a:cubicBezTo>
                <a:cubicBezTo>
                  <a:pt x="11226" y="13528"/>
                  <a:pt x="11262" y="13558"/>
                  <a:pt x="11336" y="13618"/>
                </a:cubicBezTo>
                <a:cubicBezTo>
                  <a:pt x="11397" y="13667"/>
                  <a:pt x="11450" y="13715"/>
                  <a:pt x="11509" y="13767"/>
                </a:cubicBezTo>
                <a:cubicBezTo>
                  <a:pt x="11545" y="13799"/>
                  <a:pt x="11606" y="13834"/>
                  <a:pt x="11633" y="13866"/>
                </a:cubicBezTo>
                <a:cubicBezTo>
                  <a:pt x="11650" y="13886"/>
                  <a:pt x="11640" y="13918"/>
                  <a:pt x="11658" y="13940"/>
                </a:cubicBezTo>
                <a:cubicBezTo>
                  <a:pt x="11673" y="13958"/>
                  <a:pt x="11704" y="13984"/>
                  <a:pt x="11708" y="13990"/>
                </a:cubicBezTo>
                <a:cubicBezTo>
                  <a:pt x="11766" y="13952"/>
                  <a:pt x="11818" y="13899"/>
                  <a:pt x="11881" y="13866"/>
                </a:cubicBezTo>
                <a:cubicBezTo>
                  <a:pt x="11980" y="13814"/>
                  <a:pt x="12099" y="13788"/>
                  <a:pt x="12204" y="13767"/>
                </a:cubicBezTo>
                <a:cubicBezTo>
                  <a:pt x="12279" y="13752"/>
                  <a:pt x="12351" y="13754"/>
                  <a:pt x="12427" y="13742"/>
                </a:cubicBezTo>
                <a:cubicBezTo>
                  <a:pt x="12499" y="13730"/>
                  <a:pt x="12579" y="13732"/>
                  <a:pt x="12650" y="13717"/>
                </a:cubicBezTo>
                <a:cubicBezTo>
                  <a:pt x="12686" y="13709"/>
                  <a:pt x="12664" y="13700"/>
                  <a:pt x="12700" y="13692"/>
                </a:cubicBezTo>
              </a:path>
              <a:path w="11932" h="3994">
                <a:moveTo>
                  <a:pt x="12030" y="14039"/>
                </a:moveTo>
                <a:cubicBezTo>
                  <a:pt x="12063" y="14019"/>
                  <a:pt x="12095" y="13988"/>
                  <a:pt x="12154" y="13965"/>
                </a:cubicBezTo>
                <a:cubicBezTo>
                  <a:pt x="12255" y="13925"/>
                  <a:pt x="12321" y="13929"/>
                  <a:pt x="12427" y="13915"/>
                </a:cubicBezTo>
                <a:cubicBezTo>
                  <a:pt x="12536" y="13901"/>
                  <a:pt x="12639" y="13893"/>
                  <a:pt x="12750" y="13891"/>
                </a:cubicBezTo>
                <a:cubicBezTo>
                  <a:pt x="12838" y="13889"/>
                  <a:pt x="12918" y="13910"/>
                  <a:pt x="12998" y="13915"/>
                </a:cubicBezTo>
                <a:cubicBezTo>
                  <a:pt x="13077" y="13920"/>
                  <a:pt x="13181" y="13936"/>
                  <a:pt x="13246" y="13940"/>
                </a:cubicBezTo>
                <a:cubicBezTo>
                  <a:pt x="13549" y="13960"/>
                  <a:pt x="13874" y="13947"/>
                  <a:pt x="14163" y="13891"/>
                </a:cubicBezTo>
                <a:cubicBezTo>
                  <a:pt x="14233" y="13877"/>
                  <a:pt x="14295" y="13860"/>
                  <a:pt x="14362" y="13841"/>
                </a:cubicBezTo>
                <a:cubicBezTo>
                  <a:pt x="14427" y="13822"/>
                  <a:pt x="14491" y="13821"/>
                  <a:pt x="14560" y="13816"/>
                </a:cubicBezTo>
                <a:cubicBezTo>
                  <a:pt x="15261" y="13762"/>
                  <a:pt x="15994" y="13791"/>
                  <a:pt x="16694" y="13791"/>
                </a:cubicBezTo>
                <a:cubicBezTo>
                  <a:pt x="16885" y="13791"/>
                  <a:pt x="17079" y="13779"/>
                  <a:pt x="17264" y="13816"/>
                </a:cubicBezTo>
                <a:cubicBezTo>
                  <a:pt x="17306" y="13824"/>
                  <a:pt x="17351" y="13838"/>
                  <a:pt x="17388" y="13841"/>
                </a:cubicBezTo>
                <a:cubicBezTo>
                  <a:pt x="17659" y="13865"/>
                  <a:pt x="17942" y="13834"/>
                  <a:pt x="18207" y="13816"/>
                </a:cubicBezTo>
                <a:cubicBezTo>
                  <a:pt x="18345" y="13807"/>
                  <a:pt x="18505" y="13800"/>
                  <a:pt x="18628" y="13791"/>
                </a:cubicBezTo>
                <a:cubicBezTo>
                  <a:pt x="18669" y="13788"/>
                  <a:pt x="18711" y="13793"/>
                  <a:pt x="18752" y="1379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3160" y="3751200"/>
            <a:ext cx="6046920" cy="2340000"/>
          </a:xfrm>
          <a:custGeom>
            <a:avLst/>
            <a:gdLst/>
            <a:ahLst/>
            <a:rect l="l" t="t" r="r" b="b"/>
            <a:pathLst>
              <a:path w="16794" h="6500">
                <a:moveTo>
                  <a:pt x="6896" y="10443"/>
                </a:moveTo>
                <a:cubicBezTo>
                  <a:pt x="6972" y="10453"/>
                  <a:pt x="7061" y="10454"/>
                  <a:pt x="7144" y="10468"/>
                </a:cubicBezTo>
                <a:cubicBezTo>
                  <a:pt x="7197" y="10477"/>
                  <a:pt x="7238" y="10481"/>
                  <a:pt x="7293" y="10492"/>
                </a:cubicBezTo>
                <a:cubicBezTo>
                  <a:pt x="7329" y="10499"/>
                  <a:pt x="7353" y="10509"/>
                  <a:pt x="7392" y="10517"/>
                </a:cubicBezTo>
                <a:cubicBezTo>
                  <a:pt x="7463" y="10531"/>
                  <a:pt x="7522" y="10557"/>
                  <a:pt x="7590" y="10567"/>
                </a:cubicBezTo>
                <a:cubicBezTo>
                  <a:pt x="7731" y="10588"/>
                  <a:pt x="7871" y="10570"/>
                  <a:pt x="8012" y="10592"/>
                </a:cubicBezTo>
                <a:cubicBezTo>
                  <a:pt x="8072" y="10602"/>
                  <a:pt x="8150" y="10603"/>
                  <a:pt x="8210" y="10616"/>
                </a:cubicBezTo>
                <a:cubicBezTo>
                  <a:pt x="8259" y="10626"/>
                  <a:pt x="8329" y="10652"/>
                  <a:pt x="8384" y="10666"/>
                </a:cubicBezTo>
                <a:cubicBezTo>
                  <a:pt x="8461" y="10686"/>
                  <a:pt x="8530" y="10721"/>
                  <a:pt x="8607" y="10740"/>
                </a:cubicBezTo>
                <a:cubicBezTo>
                  <a:pt x="8670" y="10755"/>
                  <a:pt x="8743" y="10753"/>
                  <a:pt x="8806" y="10765"/>
                </a:cubicBezTo>
                <a:cubicBezTo>
                  <a:pt x="8894" y="10782"/>
                  <a:pt x="8992" y="10792"/>
                  <a:pt x="9079" y="10815"/>
                </a:cubicBezTo>
                <a:cubicBezTo>
                  <a:pt x="9127" y="10827"/>
                  <a:pt x="9181" y="10849"/>
                  <a:pt x="9227" y="10864"/>
                </a:cubicBezTo>
                <a:cubicBezTo>
                  <a:pt x="9275" y="10879"/>
                  <a:pt x="9308" y="10901"/>
                  <a:pt x="9351" y="10914"/>
                </a:cubicBezTo>
                <a:cubicBezTo>
                  <a:pt x="9413" y="10933"/>
                  <a:pt x="9401" y="10940"/>
                  <a:pt x="9475" y="10964"/>
                </a:cubicBezTo>
                <a:cubicBezTo>
                  <a:pt x="9554" y="10989"/>
                  <a:pt x="9642" y="11016"/>
                  <a:pt x="9723" y="11038"/>
                </a:cubicBezTo>
                <a:cubicBezTo>
                  <a:pt x="9789" y="11055"/>
                  <a:pt x="9856" y="11071"/>
                  <a:pt x="9922" y="11088"/>
                </a:cubicBezTo>
                <a:cubicBezTo>
                  <a:pt x="9974" y="11101"/>
                  <a:pt x="10020" y="11102"/>
                  <a:pt x="10071" y="11112"/>
                </a:cubicBezTo>
                <a:cubicBezTo>
                  <a:pt x="10118" y="11121"/>
                  <a:pt x="10173" y="11125"/>
                  <a:pt x="10220" y="11137"/>
                </a:cubicBezTo>
                <a:cubicBezTo>
                  <a:pt x="10295" y="11156"/>
                  <a:pt x="10367" y="11172"/>
                  <a:pt x="10443" y="11187"/>
                </a:cubicBezTo>
                <a:cubicBezTo>
                  <a:pt x="10507" y="11200"/>
                  <a:pt x="10579" y="11218"/>
                  <a:pt x="10641" y="11237"/>
                </a:cubicBezTo>
                <a:cubicBezTo>
                  <a:pt x="10764" y="11275"/>
                  <a:pt x="10889" y="11326"/>
                  <a:pt x="11013" y="11361"/>
                </a:cubicBezTo>
                <a:cubicBezTo>
                  <a:pt x="11108" y="11388"/>
                  <a:pt x="11211" y="11413"/>
                  <a:pt x="11311" y="11435"/>
                </a:cubicBezTo>
                <a:cubicBezTo>
                  <a:pt x="11367" y="11447"/>
                  <a:pt x="11430" y="11445"/>
                  <a:pt x="11485" y="11460"/>
                </a:cubicBezTo>
                <a:cubicBezTo>
                  <a:pt x="11567" y="11482"/>
                  <a:pt x="11648" y="11516"/>
                  <a:pt x="11733" y="11534"/>
                </a:cubicBezTo>
                <a:cubicBezTo>
                  <a:pt x="11856" y="11560"/>
                  <a:pt x="11982" y="11579"/>
                  <a:pt x="12105" y="11609"/>
                </a:cubicBezTo>
                <a:cubicBezTo>
                  <a:pt x="12296" y="11655"/>
                  <a:pt x="12487" y="11706"/>
                  <a:pt x="12675" y="11757"/>
                </a:cubicBezTo>
                <a:cubicBezTo>
                  <a:pt x="12743" y="11775"/>
                  <a:pt x="12806" y="11815"/>
                  <a:pt x="12874" y="11832"/>
                </a:cubicBezTo>
                <a:cubicBezTo>
                  <a:pt x="12972" y="11856"/>
                  <a:pt x="13074" y="11874"/>
                  <a:pt x="13171" y="11906"/>
                </a:cubicBezTo>
                <a:cubicBezTo>
                  <a:pt x="13249" y="11931"/>
                  <a:pt x="13318" y="11955"/>
                  <a:pt x="13395" y="11981"/>
                </a:cubicBezTo>
                <a:cubicBezTo>
                  <a:pt x="13453" y="12000"/>
                  <a:pt x="13506" y="12008"/>
                  <a:pt x="13568" y="12030"/>
                </a:cubicBezTo>
                <a:cubicBezTo>
                  <a:pt x="13637" y="12054"/>
                  <a:pt x="13700" y="12080"/>
                  <a:pt x="13767" y="12105"/>
                </a:cubicBezTo>
                <a:cubicBezTo>
                  <a:pt x="13899" y="12154"/>
                  <a:pt x="14033" y="12189"/>
                  <a:pt x="14163" y="12229"/>
                </a:cubicBezTo>
                <a:cubicBezTo>
                  <a:pt x="14299" y="12271"/>
                  <a:pt x="14428" y="12314"/>
                  <a:pt x="14560" y="12353"/>
                </a:cubicBezTo>
                <a:cubicBezTo>
                  <a:pt x="14642" y="12377"/>
                  <a:pt x="14726" y="12406"/>
                  <a:pt x="14808" y="12427"/>
                </a:cubicBezTo>
                <a:cubicBezTo>
                  <a:pt x="14880" y="12446"/>
                  <a:pt x="14959" y="12462"/>
                  <a:pt x="15032" y="12477"/>
                </a:cubicBezTo>
                <a:cubicBezTo>
                  <a:pt x="15121" y="12495"/>
                  <a:pt x="15214" y="12509"/>
                  <a:pt x="15304" y="12526"/>
                </a:cubicBezTo>
                <a:cubicBezTo>
                  <a:pt x="15412" y="12546"/>
                  <a:pt x="15522" y="12579"/>
                  <a:pt x="15627" y="12601"/>
                </a:cubicBezTo>
                <a:cubicBezTo>
                  <a:pt x="15715" y="12620"/>
                  <a:pt x="15811" y="12629"/>
                  <a:pt x="15900" y="12650"/>
                </a:cubicBezTo>
                <a:cubicBezTo>
                  <a:pt x="16001" y="12673"/>
                  <a:pt x="16098" y="12699"/>
                  <a:pt x="16197" y="12725"/>
                </a:cubicBezTo>
                <a:cubicBezTo>
                  <a:pt x="16287" y="12749"/>
                  <a:pt x="16359" y="12769"/>
                  <a:pt x="16446" y="12799"/>
                </a:cubicBezTo>
                <a:cubicBezTo>
                  <a:pt x="16502" y="12818"/>
                  <a:pt x="16545" y="12855"/>
                  <a:pt x="16594" y="12874"/>
                </a:cubicBezTo>
                <a:cubicBezTo>
                  <a:pt x="16704" y="12916"/>
                  <a:pt x="16811" y="12971"/>
                  <a:pt x="16917" y="13022"/>
                </a:cubicBezTo>
                <a:cubicBezTo>
                  <a:pt x="17053" y="13088"/>
                  <a:pt x="17186" y="13147"/>
                  <a:pt x="17314" y="13221"/>
                </a:cubicBezTo>
                <a:cubicBezTo>
                  <a:pt x="17398" y="13270"/>
                  <a:pt x="17475" y="13323"/>
                  <a:pt x="17562" y="13370"/>
                </a:cubicBezTo>
                <a:cubicBezTo>
                  <a:pt x="17666" y="13426"/>
                  <a:pt x="17776" y="13475"/>
                  <a:pt x="17884" y="13519"/>
                </a:cubicBezTo>
                <a:cubicBezTo>
                  <a:pt x="18145" y="13625"/>
                  <a:pt x="18397" y="13728"/>
                  <a:pt x="18653" y="13841"/>
                </a:cubicBezTo>
                <a:cubicBezTo>
                  <a:pt x="18756" y="13886"/>
                  <a:pt x="18879" y="13923"/>
                  <a:pt x="18976" y="13965"/>
                </a:cubicBezTo>
                <a:cubicBezTo>
                  <a:pt x="18998" y="13988"/>
                  <a:pt x="19003" y="13996"/>
                  <a:pt x="19025" y="13990"/>
                </a:cubicBezTo>
              </a:path>
              <a:path w="16794" h="6500">
                <a:moveTo>
                  <a:pt x="11063" y="13295"/>
                </a:moveTo>
                <a:cubicBezTo>
                  <a:pt x="11080" y="13278"/>
                  <a:pt x="11125" y="13216"/>
                  <a:pt x="11162" y="13196"/>
                </a:cubicBezTo>
                <a:cubicBezTo>
                  <a:pt x="11227" y="13162"/>
                  <a:pt x="11291" y="13171"/>
                  <a:pt x="11361" y="13171"/>
                </a:cubicBezTo>
                <a:cubicBezTo>
                  <a:pt x="11435" y="13171"/>
                  <a:pt x="11489" y="13150"/>
                  <a:pt x="11559" y="13146"/>
                </a:cubicBezTo>
                <a:cubicBezTo>
                  <a:pt x="11672" y="13140"/>
                  <a:pt x="11776" y="13153"/>
                  <a:pt x="11881" y="13171"/>
                </a:cubicBezTo>
                <a:cubicBezTo>
                  <a:pt x="11940" y="13181"/>
                  <a:pt x="11999" y="13177"/>
                  <a:pt x="12055" y="13196"/>
                </a:cubicBezTo>
                <a:cubicBezTo>
                  <a:pt x="12139" y="13224"/>
                  <a:pt x="12208" y="13255"/>
                  <a:pt x="12278" y="13295"/>
                </a:cubicBezTo>
                <a:cubicBezTo>
                  <a:pt x="12361" y="13343"/>
                  <a:pt x="12451" y="13407"/>
                  <a:pt x="12526" y="13469"/>
                </a:cubicBezTo>
                <a:cubicBezTo>
                  <a:pt x="12598" y="13528"/>
                  <a:pt x="12673" y="13592"/>
                  <a:pt x="12750" y="13643"/>
                </a:cubicBezTo>
                <a:cubicBezTo>
                  <a:pt x="12814" y="13686"/>
                  <a:pt x="12869" y="13716"/>
                  <a:pt x="12923" y="13767"/>
                </a:cubicBezTo>
                <a:cubicBezTo>
                  <a:pt x="12940" y="13783"/>
                  <a:pt x="12993" y="13864"/>
                  <a:pt x="12998" y="13866"/>
                </a:cubicBezTo>
                <a:cubicBezTo>
                  <a:pt x="13037" y="13887"/>
                  <a:pt x="13020" y="13864"/>
                  <a:pt x="13047" y="13891"/>
                </a:cubicBezTo>
                <a:cubicBezTo>
                  <a:pt x="13024" y="13868"/>
                  <a:pt x="12999" y="13862"/>
                  <a:pt x="12973" y="13841"/>
                </a:cubicBezTo>
                <a:cubicBezTo>
                  <a:pt x="12946" y="13819"/>
                  <a:pt x="12934" y="13834"/>
                  <a:pt x="12898" y="13816"/>
                </a:cubicBezTo>
                <a:cubicBezTo>
                  <a:pt x="12891" y="13813"/>
                  <a:pt x="12847" y="13779"/>
                  <a:pt x="12824" y="13767"/>
                </a:cubicBezTo>
                <a:cubicBezTo>
                  <a:pt x="12782" y="13745"/>
                  <a:pt x="12739" y="13722"/>
                  <a:pt x="12700" y="13692"/>
                </a:cubicBezTo>
                <a:cubicBezTo>
                  <a:pt x="12674" y="13672"/>
                  <a:pt x="12682" y="13652"/>
                  <a:pt x="12650" y="13643"/>
                </a:cubicBezTo>
                <a:cubicBezTo>
                  <a:pt x="12594" y="13627"/>
                  <a:pt x="12604" y="13636"/>
                  <a:pt x="12551" y="13618"/>
                </a:cubicBezTo>
                <a:cubicBezTo>
                  <a:pt x="12518" y="13607"/>
                  <a:pt x="12487" y="13605"/>
                  <a:pt x="12452" y="13593"/>
                </a:cubicBezTo>
                <a:cubicBezTo>
                  <a:pt x="12406" y="13578"/>
                  <a:pt x="12365" y="13551"/>
                  <a:pt x="12303" y="13568"/>
                </a:cubicBezTo>
                <a:cubicBezTo>
                  <a:pt x="12232" y="13588"/>
                  <a:pt x="12155" y="13607"/>
                  <a:pt x="12080" y="13618"/>
                </a:cubicBezTo>
                <a:cubicBezTo>
                  <a:pt x="11943" y="13638"/>
                  <a:pt x="11792" y="13626"/>
                  <a:pt x="11658" y="13643"/>
                </a:cubicBezTo>
                <a:cubicBezTo>
                  <a:pt x="11587" y="13652"/>
                  <a:pt x="11520" y="13681"/>
                  <a:pt x="11460" y="13692"/>
                </a:cubicBezTo>
                <a:cubicBezTo>
                  <a:pt x="11427" y="13698"/>
                  <a:pt x="11443" y="13692"/>
                  <a:pt x="11410" y="13692"/>
                </a:cubicBezTo>
              </a:path>
              <a:path w="16794" h="6500">
                <a:moveTo>
                  <a:pt x="11336" y="13444"/>
                </a:moveTo>
                <a:cubicBezTo>
                  <a:pt x="11424" y="13412"/>
                  <a:pt x="11535" y="13375"/>
                  <a:pt x="11633" y="13345"/>
                </a:cubicBezTo>
                <a:cubicBezTo>
                  <a:pt x="11840" y="13281"/>
                  <a:pt x="12012" y="13182"/>
                  <a:pt x="12229" y="13171"/>
                </a:cubicBezTo>
                <a:cubicBezTo>
                  <a:pt x="12386" y="13163"/>
                  <a:pt x="12532" y="13247"/>
                  <a:pt x="12650" y="13345"/>
                </a:cubicBezTo>
                <a:cubicBezTo>
                  <a:pt x="12740" y="13420"/>
                  <a:pt x="12757" y="13511"/>
                  <a:pt x="12824" y="13593"/>
                </a:cubicBezTo>
                <a:cubicBezTo>
                  <a:pt x="12845" y="13619"/>
                  <a:pt x="12843" y="13624"/>
                  <a:pt x="12849" y="13667"/>
                </a:cubicBezTo>
              </a:path>
              <a:path w="16794" h="6500">
                <a:moveTo>
                  <a:pt x="2952" y="15949"/>
                </a:moveTo>
                <a:cubicBezTo>
                  <a:pt x="2952" y="15941"/>
                  <a:pt x="2952" y="15933"/>
                  <a:pt x="2952" y="15925"/>
                </a:cubicBezTo>
              </a:path>
              <a:path w="16794" h="6500">
                <a:moveTo>
                  <a:pt x="2257" y="16892"/>
                </a:moveTo>
                <a:cubicBezTo>
                  <a:pt x="2249" y="16884"/>
                  <a:pt x="2240" y="16875"/>
                  <a:pt x="2232" y="16867"/>
                </a:cubicBezTo>
                <a:cubicBezTo>
                  <a:pt x="2385" y="16867"/>
                  <a:pt x="2530" y="16879"/>
                  <a:pt x="2679" y="16892"/>
                </a:cubicBezTo>
                <a:cubicBezTo>
                  <a:pt x="2801" y="16903"/>
                  <a:pt x="2933" y="16889"/>
                  <a:pt x="3051" y="16867"/>
                </a:cubicBezTo>
                <a:cubicBezTo>
                  <a:pt x="3189" y="16842"/>
                  <a:pt x="3314" y="16878"/>
                  <a:pt x="3448" y="16867"/>
                </a:cubicBezTo>
                <a:cubicBezTo>
                  <a:pt x="3596" y="16855"/>
                  <a:pt x="3765" y="16848"/>
                  <a:pt x="3919" y="16867"/>
                </a:cubicBezTo>
                <a:cubicBezTo>
                  <a:pt x="4017" y="16879"/>
                  <a:pt x="4123" y="16907"/>
                  <a:pt x="4217" y="16917"/>
                </a:cubicBezTo>
                <a:cubicBezTo>
                  <a:pt x="4281" y="16924"/>
                  <a:pt x="4350" y="16917"/>
                  <a:pt x="4415" y="16917"/>
                </a:cubicBezTo>
              </a:path>
              <a:path w="16794" h="6500">
                <a:moveTo>
                  <a:pt x="5730" y="16842"/>
                </a:moveTo>
                <a:cubicBezTo>
                  <a:pt x="5899" y="16842"/>
                  <a:pt x="6062" y="16840"/>
                  <a:pt x="6226" y="16818"/>
                </a:cubicBezTo>
                <a:cubicBezTo>
                  <a:pt x="6288" y="16810"/>
                  <a:pt x="6364" y="16809"/>
                  <a:pt x="6424" y="16793"/>
                </a:cubicBezTo>
                <a:cubicBezTo>
                  <a:pt x="6502" y="16772"/>
                  <a:pt x="6563" y="16768"/>
                  <a:pt x="6648" y="16768"/>
                </a:cubicBezTo>
                <a:cubicBezTo>
                  <a:pt x="6747" y="16768"/>
                  <a:pt x="6824" y="16781"/>
                  <a:pt x="6921" y="16793"/>
                </a:cubicBezTo>
                <a:cubicBezTo>
                  <a:pt x="7235" y="16833"/>
                  <a:pt x="7707" y="16688"/>
                  <a:pt x="7987" y="16818"/>
                </a:cubicBezTo>
                <a:cubicBezTo>
                  <a:pt x="8042" y="16844"/>
                  <a:pt x="8001" y="16835"/>
                  <a:pt x="7938" y="16867"/>
                </a:cubicBezTo>
              </a:path>
              <a:path w="16794" h="6500">
                <a:moveTo>
                  <a:pt x="13593" y="16892"/>
                </a:moveTo>
                <a:cubicBezTo>
                  <a:pt x="13634" y="16868"/>
                  <a:pt x="13633" y="16851"/>
                  <a:pt x="13667" y="16842"/>
                </a:cubicBezTo>
                <a:cubicBezTo>
                  <a:pt x="13790" y="16809"/>
                  <a:pt x="13993" y="16865"/>
                  <a:pt x="14114" y="16867"/>
                </a:cubicBezTo>
                <a:cubicBezTo>
                  <a:pt x="14636" y="16874"/>
                  <a:pt x="15157" y="16861"/>
                  <a:pt x="15677" y="16842"/>
                </a:cubicBezTo>
                <a:cubicBezTo>
                  <a:pt x="15807" y="16837"/>
                  <a:pt x="15922" y="16827"/>
                  <a:pt x="16049" y="1681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57240" y="6626160"/>
            <a:ext cx="972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5159" y="18430"/>
                </a:moveTo>
                <a:cubicBezTo>
                  <a:pt x="5159" y="18405"/>
                  <a:pt x="5159" y="18397"/>
                  <a:pt x="5184" y="1840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62080" y="6796080"/>
            <a:ext cx="19080" cy="7920"/>
          </a:xfrm>
          <a:custGeom>
            <a:avLst/>
            <a:gdLst/>
            <a:ahLst/>
            <a:rect l="l" t="t" r="r" b="b"/>
            <a:pathLst>
              <a:path w="50" h="26">
                <a:moveTo>
                  <a:pt x="5779" y="18876"/>
                </a:moveTo>
                <a:cubicBezTo>
                  <a:pt x="5757" y="18899"/>
                  <a:pt x="5752" y="18907"/>
                  <a:pt x="5730" y="1890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quiangular triangle: all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gles are equ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581280" cy="2133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52160" y="7938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2320" y="2527200"/>
            <a:ext cx="2054520" cy="98640"/>
          </a:xfrm>
          <a:custGeom>
            <a:avLst/>
            <a:gdLst/>
            <a:ahLst/>
            <a:rect l="l" t="t" r="r" b="b"/>
            <a:pathLst>
              <a:path w="5706" h="274">
                <a:moveTo>
                  <a:pt x="1811" y="7293"/>
                </a:moveTo>
                <a:cubicBezTo>
                  <a:pt x="1898" y="7293"/>
                  <a:pt x="1975" y="7274"/>
                  <a:pt x="2059" y="7268"/>
                </a:cubicBezTo>
                <a:cubicBezTo>
                  <a:pt x="2240" y="7256"/>
                  <a:pt x="2424" y="7247"/>
                  <a:pt x="2604" y="7243"/>
                </a:cubicBezTo>
                <a:cubicBezTo>
                  <a:pt x="2741" y="7240"/>
                  <a:pt x="2865" y="7268"/>
                  <a:pt x="3001" y="7268"/>
                </a:cubicBezTo>
                <a:cubicBezTo>
                  <a:pt x="3131" y="7268"/>
                  <a:pt x="3247" y="7280"/>
                  <a:pt x="3373" y="7293"/>
                </a:cubicBezTo>
                <a:cubicBezTo>
                  <a:pt x="3543" y="7310"/>
                  <a:pt x="3722" y="7293"/>
                  <a:pt x="3894" y="7293"/>
                </a:cubicBezTo>
              </a:path>
              <a:path w="5706" h="274">
                <a:moveTo>
                  <a:pt x="4812" y="7045"/>
                </a:moveTo>
                <a:cubicBezTo>
                  <a:pt x="4812" y="7020"/>
                  <a:pt x="4812" y="7012"/>
                  <a:pt x="4787" y="7020"/>
                </a:cubicBezTo>
                <a:cubicBezTo>
                  <a:pt x="4838" y="7026"/>
                  <a:pt x="4858" y="7043"/>
                  <a:pt x="4911" y="7045"/>
                </a:cubicBezTo>
                <a:cubicBezTo>
                  <a:pt x="4947" y="7047"/>
                  <a:pt x="5059" y="7073"/>
                  <a:pt x="5085" y="7069"/>
                </a:cubicBezTo>
                <a:cubicBezTo>
                  <a:pt x="5119" y="7064"/>
                  <a:pt x="5128" y="7048"/>
                  <a:pt x="5184" y="7045"/>
                </a:cubicBezTo>
                <a:cubicBezTo>
                  <a:pt x="5375" y="7036"/>
                  <a:pt x="5579" y="7049"/>
                  <a:pt x="5755" y="7069"/>
                </a:cubicBezTo>
                <a:cubicBezTo>
                  <a:pt x="5870" y="7082"/>
                  <a:pt x="5989" y="7081"/>
                  <a:pt x="6102" y="7094"/>
                </a:cubicBezTo>
                <a:cubicBezTo>
                  <a:pt x="6208" y="7106"/>
                  <a:pt x="6318" y="7114"/>
                  <a:pt x="6424" y="7119"/>
                </a:cubicBezTo>
                <a:cubicBezTo>
                  <a:pt x="6744" y="7133"/>
                  <a:pt x="7078" y="7131"/>
                  <a:pt x="7392" y="7094"/>
                </a:cubicBezTo>
                <a:cubicBezTo>
                  <a:pt x="7430" y="7090"/>
                  <a:pt x="7476" y="7094"/>
                  <a:pt x="7516" y="709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70000" y="640224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3249" y="17810"/>
                </a:moveTo>
                <a:cubicBezTo>
                  <a:pt x="3249" y="17785"/>
                  <a:pt x="3249" y="17777"/>
                  <a:pt x="3274" y="1778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55840" y="641196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4043" y="17810"/>
                </a:moveTo>
                <a:cubicBezTo>
                  <a:pt x="4043" y="17818"/>
                  <a:pt x="4043" y="17827"/>
                  <a:pt x="4043" y="1783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lassify the triangle by its angles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4343400"/>
            <a:ext cx="3962520" cy="1219320"/>
          </a:xfrm>
          <a:prstGeom prst="triangle">
            <a:avLst>
              <a:gd name="adj" fmla="val 6189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623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5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5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6160" y="2990880"/>
            <a:ext cx="358920" cy="206280"/>
          </a:xfrm>
          <a:custGeom>
            <a:avLst/>
            <a:gdLst/>
            <a:ahLst/>
            <a:rect l="l" t="t" r="r" b="b"/>
            <a:pathLst>
              <a:path w="993" h="571">
                <a:moveTo>
                  <a:pt x="2158" y="8483"/>
                </a:moveTo>
                <a:cubicBezTo>
                  <a:pt x="2193" y="8471"/>
                  <a:pt x="2203" y="8468"/>
                  <a:pt x="2257" y="8458"/>
                </a:cubicBezTo>
                <a:cubicBezTo>
                  <a:pt x="2432" y="8424"/>
                  <a:pt x="2601" y="8395"/>
                  <a:pt x="2778" y="8359"/>
                </a:cubicBezTo>
                <a:cubicBezTo>
                  <a:pt x="2852" y="8344"/>
                  <a:pt x="2928" y="8322"/>
                  <a:pt x="3001" y="8310"/>
                </a:cubicBezTo>
                <a:cubicBezTo>
                  <a:pt x="3001" y="8390"/>
                  <a:pt x="3056" y="8452"/>
                  <a:pt x="3076" y="8533"/>
                </a:cubicBezTo>
                <a:cubicBezTo>
                  <a:pt x="3107" y="8656"/>
                  <a:pt x="3088" y="8772"/>
                  <a:pt x="3150" y="888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3120" y="1847880"/>
            <a:ext cx="830160" cy="1073160"/>
          </a:xfrm>
          <a:custGeom>
            <a:avLst/>
            <a:gdLst/>
            <a:ahLst/>
            <a:rect l="l" t="t" r="r" b="b"/>
            <a:pathLst>
              <a:path w="2308" h="2977">
                <a:moveTo>
                  <a:pt x="9624" y="5159"/>
                </a:moveTo>
                <a:cubicBezTo>
                  <a:pt x="9563" y="5149"/>
                  <a:pt x="9527" y="5129"/>
                  <a:pt x="9451" y="5135"/>
                </a:cubicBezTo>
                <a:cubicBezTo>
                  <a:pt x="9334" y="5145"/>
                  <a:pt x="9246" y="5138"/>
                  <a:pt x="9128" y="5135"/>
                </a:cubicBezTo>
                <a:cubicBezTo>
                  <a:pt x="9016" y="5132"/>
                  <a:pt x="8913" y="5151"/>
                  <a:pt x="8806" y="5159"/>
                </a:cubicBezTo>
                <a:cubicBezTo>
                  <a:pt x="8713" y="5166"/>
                  <a:pt x="8625" y="5170"/>
                  <a:pt x="8533" y="5184"/>
                </a:cubicBezTo>
                <a:cubicBezTo>
                  <a:pt x="8424" y="5201"/>
                  <a:pt x="8322" y="5207"/>
                  <a:pt x="8210" y="5209"/>
                </a:cubicBezTo>
                <a:cubicBezTo>
                  <a:pt x="8042" y="5213"/>
                  <a:pt x="7878" y="5219"/>
                  <a:pt x="7714" y="5234"/>
                </a:cubicBezTo>
                <a:cubicBezTo>
                  <a:pt x="7592" y="5245"/>
                  <a:pt x="7465" y="5234"/>
                  <a:pt x="7342" y="5234"/>
                </a:cubicBezTo>
                <a:cubicBezTo>
                  <a:pt x="7346" y="5313"/>
                  <a:pt x="7352" y="5382"/>
                  <a:pt x="7367" y="5457"/>
                </a:cubicBezTo>
                <a:cubicBezTo>
                  <a:pt x="7385" y="5549"/>
                  <a:pt x="7390" y="5631"/>
                  <a:pt x="7392" y="5730"/>
                </a:cubicBezTo>
                <a:cubicBezTo>
                  <a:pt x="7394" y="5858"/>
                  <a:pt x="7406" y="5979"/>
                  <a:pt x="7417" y="6102"/>
                </a:cubicBezTo>
                <a:cubicBezTo>
                  <a:pt x="7432" y="6274"/>
                  <a:pt x="7428" y="6454"/>
                  <a:pt x="7441" y="6623"/>
                </a:cubicBezTo>
                <a:cubicBezTo>
                  <a:pt x="7448" y="6721"/>
                  <a:pt x="7460" y="6830"/>
                  <a:pt x="7466" y="6921"/>
                </a:cubicBezTo>
                <a:cubicBezTo>
                  <a:pt x="7478" y="7103"/>
                  <a:pt x="7477" y="7288"/>
                  <a:pt x="7491" y="7466"/>
                </a:cubicBezTo>
                <a:cubicBezTo>
                  <a:pt x="7503" y="7626"/>
                  <a:pt x="7482" y="7793"/>
                  <a:pt x="7516" y="7938"/>
                </a:cubicBezTo>
                <a:cubicBezTo>
                  <a:pt x="7545" y="7909"/>
                  <a:pt x="7601" y="7852"/>
                  <a:pt x="7640" y="7813"/>
                </a:cubicBezTo>
                <a:cubicBezTo>
                  <a:pt x="7675" y="7778"/>
                  <a:pt x="7716" y="7738"/>
                  <a:pt x="7739" y="7714"/>
                </a:cubicBezTo>
                <a:cubicBezTo>
                  <a:pt x="7780" y="7670"/>
                  <a:pt x="7830" y="7603"/>
                  <a:pt x="7863" y="7565"/>
                </a:cubicBezTo>
                <a:cubicBezTo>
                  <a:pt x="7902" y="7520"/>
                  <a:pt x="7961" y="7484"/>
                  <a:pt x="8012" y="7441"/>
                </a:cubicBezTo>
                <a:cubicBezTo>
                  <a:pt x="8012" y="7417"/>
                  <a:pt x="8012" y="7409"/>
                  <a:pt x="8037" y="7417"/>
                </a:cubicBezTo>
              </a:path>
              <a:path w="2308" h="2977">
                <a:moveTo>
                  <a:pt x="9599" y="5209"/>
                </a:moveTo>
                <a:cubicBezTo>
                  <a:pt x="9607" y="5209"/>
                  <a:pt x="9616" y="5209"/>
                  <a:pt x="9624" y="5209"/>
                </a:cubicBezTo>
                <a:cubicBezTo>
                  <a:pt x="9612" y="5251"/>
                  <a:pt x="9647" y="5222"/>
                  <a:pt x="9624" y="5259"/>
                </a:cubicBezTo>
                <a:cubicBezTo>
                  <a:pt x="9587" y="5320"/>
                  <a:pt x="9535" y="5371"/>
                  <a:pt x="9500" y="5432"/>
                </a:cubicBezTo>
                <a:cubicBezTo>
                  <a:pt x="9464" y="5495"/>
                  <a:pt x="9410" y="5547"/>
                  <a:pt x="9376" y="5606"/>
                </a:cubicBezTo>
                <a:cubicBezTo>
                  <a:pt x="9348" y="5655"/>
                  <a:pt x="9341" y="5686"/>
                  <a:pt x="9302" y="5730"/>
                </a:cubicBezTo>
                <a:cubicBezTo>
                  <a:pt x="9274" y="5762"/>
                  <a:pt x="9216" y="5787"/>
                  <a:pt x="9178" y="5829"/>
                </a:cubicBezTo>
                <a:cubicBezTo>
                  <a:pt x="9156" y="5853"/>
                  <a:pt x="9137" y="5899"/>
                  <a:pt x="9103" y="5928"/>
                </a:cubicBezTo>
                <a:cubicBezTo>
                  <a:pt x="9056" y="5968"/>
                  <a:pt x="9018" y="5998"/>
                  <a:pt x="8979" y="6028"/>
                </a:cubicBezTo>
                <a:cubicBezTo>
                  <a:pt x="8937" y="6059"/>
                  <a:pt x="8874" y="6089"/>
                  <a:pt x="8855" y="6127"/>
                </a:cubicBezTo>
                <a:cubicBezTo>
                  <a:pt x="8855" y="6143"/>
                  <a:pt x="8855" y="6160"/>
                  <a:pt x="8855" y="6176"/>
                </a:cubicBezTo>
                <a:cubicBezTo>
                  <a:pt x="8853" y="6186"/>
                  <a:pt x="8898" y="6212"/>
                  <a:pt x="8855" y="6276"/>
                </a:cubicBezTo>
                <a:cubicBezTo>
                  <a:pt x="8834" y="6307"/>
                  <a:pt x="8799" y="6348"/>
                  <a:pt x="8781" y="6375"/>
                </a:cubicBezTo>
                <a:cubicBezTo>
                  <a:pt x="8767" y="6391"/>
                  <a:pt x="8729" y="6416"/>
                  <a:pt x="8706" y="6449"/>
                </a:cubicBezTo>
                <a:cubicBezTo>
                  <a:pt x="8677" y="6490"/>
                  <a:pt x="8655" y="6532"/>
                  <a:pt x="8632" y="6573"/>
                </a:cubicBezTo>
                <a:cubicBezTo>
                  <a:pt x="8609" y="6596"/>
                  <a:pt x="8601" y="6600"/>
                  <a:pt x="8607" y="6623"/>
                </a:cubicBezTo>
                <a:cubicBezTo>
                  <a:pt x="8583" y="6640"/>
                  <a:pt x="8550" y="6683"/>
                  <a:pt x="8533" y="6697"/>
                </a:cubicBezTo>
                <a:cubicBezTo>
                  <a:pt x="8510" y="6720"/>
                  <a:pt x="8506" y="6728"/>
                  <a:pt x="8483" y="6722"/>
                </a:cubicBezTo>
                <a:cubicBezTo>
                  <a:pt x="8467" y="6757"/>
                  <a:pt x="8447" y="6779"/>
                  <a:pt x="8434" y="6796"/>
                </a:cubicBezTo>
                <a:cubicBezTo>
                  <a:pt x="8393" y="6853"/>
                  <a:pt x="8360" y="6893"/>
                  <a:pt x="8310" y="6945"/>
                </a:cubicBezTo>
                <a:cubicBezTo>
                  <a:pt x="8292" y="6964"/>
                  <a:pt x="8277" y="6989"/>
                  <a:pt x="8260" y="7020"/>
                </a:cubicBezTo>
                <a:cubicBezTo>
                  <a:pt x="8232" y="7051"/>
                  <a:pt x="8195" y="7072"/>
                  <a:pt x="8161" y="7119"/>
                </a:cubicBezTo>
                <a:cubicBezTo>
                  <a:pt x="8142" y="7145"/>
                  <a:pt x="8103" y="7174"/>
                  <a:pt x="8086" y="7193"/>
                </a:cubicBezTo>
                <a:cubicBezTo>
                  <a:pt x="8035" y="7250"/>
                  <a:pt x="7997" y="7326"/>
                  <a:pt x="7962" y="7367"/>
                </a:cubicBezTo>
                <a:cubicBezTo>
                  <a:pt x="7919" y="7417"/>
                  <a:pt x="7878" y="7441"/>
                  <a:pt x="7838" y="7491"/>
                </a:cubicBezTo>
                <a:cubicBezTo>
                  <a:pt x="7809" y="7528"/>
                  <a:pt x="7770" y="7594"/>
                  <a:pt x="7739" y="7640"/>
                </a:cubicBezTo>
                <a:cubicBezTo>
                  <a:pt x="7705" y="7691"/>
                  <a:pt x="7668" y="7776"/>
                  <a:pt x="7640" y="7813"/>
                </a:cubicBezTo>
                <a:cubicBezTo>
                  <a:pt x="7595" y="7872"/>
                  <a:pt x="7541" y="7948"/>
                  <a:pt x="7491" y="8012"/>
                </a:cubicBezTo>
                <a:cubicBezTo>
                  <a:pt x="7451" y="8063"/>
                  <a:pt x="7454" y="8065"/>
                  <a:pt x="7417" y="8111"/>
                </a:cubicBezTo>
              </a:path>
              <a:path w="2308" h="2977">
                <a:moveTo>
                  <a:pt x="7689" y="5755"/>
                </a:moveTo>
                <a:cubicBezTo>
                  <a:pt x="7689" y="5696"/>
                  <a:pt x="7700" y="5701"/>
                  <a:pt x="7689" y="5705"/>
                </a:cubicBezTo>
                <a:cubicBezTo>
                  <a:pt x="7660" y="5717"/>
                  <a:pt x="7597" y="5727"/>
                  <a:pt x="7590" y="5730"/>
                </a:cubicBezTo>
                <a:cubicBezTo>
                  <a:pt x="7562" y="5742"/>
                  <a:pt x="7509" y="5717"/>
                  <a:pt x="7491" y="5705"/>
                </a:cubicBezTo>
                <a:cubicBezTo>
                  <a:pt x="7422" y="5659"/>
                  <a:pt x="7450" y="5696"/>
                  <a:pt x="7491" y="5705"/>
                </a:cubicBezTo>
                <a:cubicBezTo>
                  <a:pt x="7613" y="5731"/>
                  <a:pt x="7763" y="5705"/>
                  <a:pt x="7888" y="5705"/>
                </a:cubicBezTo>
                <a:cubicBezTo>
                  <a:pt x="7874" y="5634"/>
                  <a:pt x="7863" y="5585"/>
                  <a:pt x="7863" y="5507"/>
                </a:cubicBezTo>
                <a:cubicBezTo>
                  <a:pt x="7863" y="5444"/>
                  <a:pt x="7872" y="5410"/>
                  <a:pt x="7888" y="5358"/>
                </a:cubicBezTo>
                <a:cubicBezTo>
                  <a:pt x="7898" y="5324"/>
                  <a:pt x="7888" y="5270"/>
                  <a:pt x="7888" y="523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85880" y="3340080"/>
            <a:ext cx="2509920" cy="544680"/>
          </a:xfrm>
          <a:custGeom>
            <a:avLst/>
            <a:gdLst/>
            <a:ahLst/>
            <a:rect l="l" t="t" r="r" b="b"/>
            <a:pathLst>
              <a:path w="6971" h="1514">
                <a:moveTo>
                  <a:pt x="2183" y="9847"/>
                </a:moveTo>
                <a:cubicBezTo>
                  <a:pt x="2248" y="9991"/>
                  <a:pt x="2306" y="10136"/>
                  <a:pt x="2332" y="10294"/>
                </a:cubicBezTo>
                <a:cubicBezTo>
                  <a:pt x="2332" y="10311"/>
                  <a:pt x="2332" y="10327"/>
                  <a:pt x="2332" y="10344"/>
                </a:cubicBezTo>
                <a:cubicBezTo>
                  <a:pt x="2257" y="10221"/>
                  <a:pt x="2181" y="10115"/>
                  <a:pt x="2208" y="9947"/>
                </a:cubicBezTo>
                <a:cubicBezTo>
                  <a:pt x="2238" y="9761"/>
                  <a:pt x="2363" y="9731"/>
                  <a:pt x="2505" y="9674"/>
                </a:cubicBezTo>
                <a:cubicBezTo>
                  <a:pt x="2600" y="9808"/>
                  <a:pt x="2608" y="9951"/>
                  <a:pt x="2456" y="10071"/>
                </a:cubicBezTo>
                <a:cubicBezTo>
                  <a:pt x="2350" y="10113"/>
                  <a:pt x="2328" y="10129"/>
                  <a:pt x="2257" y="10120"/>
                </a:cubicBezTo>
                <a:cubicBezTo>
                  <a:pt x="2267" y="10011"/>
                  <a:pt x="2278" y="9946"/>
                  <a:pt x="2406" y="9996"/>
                </a:cubicBezTo>
                <a:cubicBezTo>
                  <a:pt x="2521" y="10041"/>
                  <a:pt x="2585" y="10163"/>
                  <a:pt x="2704" y="10195"/>
                </a:cubicBezTo>
                <a:cubicBezTo>
                  <a:pt x="2777" y="10214"/>
                  <a:pt x="2875" y="10197"/>
                  <a:pt x="2927" y="10145"/>
                </a:cubicBezTo>
                <a:cubicBezTo>
                  <a:pt x="2986" y="10086"/>
                  <a:pt x="2971" y="10072"/>
                  <a:pt x="3051" y="10145"/>
                </a:cubicBezTo>
                <a:cubicBezTo>
                  <a:pt x="3125" y="10220"/>
                  <a:pt x="3150" y="10245"/>
                  <a:pt x="3200" y="10294"/>
                </a:cubicBezTo>
              </a:path>
              <a:path w="6971" h="1514">
                <a:moveTo>
                  <a:pt x="2977" y="9847"/>
                </a:moveTo>
                <a:cubicBezTo>
                  <a:pt x="2977" y="9872"/>
                  <a:pt x="2977" y="9880"/>
                  <a:pt x="3001" y="9872"/>
                </a:cubicBezTo>
              </a:path>
              <a:path w="6971" h="1514">
                <a:moveTo>
                  <a:pt x="3721" y="10071"/>
                </a:moveTo>
                <a:cubicBezTo>
                  <a:pt x="3707" y="10029"/>
                  <a:pt x="3612" y="9972"/>
                  <a:pt x="3547" y="9996"/>
                </a:cubicBezTo>
                <a:cubicBezTo>
                  <a:pt x="3452" y="10031"/>
                  <a:pt x="3383" y="10267"/>
                  <a:pt x="3448" y="10344"/>
                </a:cubicBezTo>
                <a:cubicBezTo>
                  <a:pt x="3464" y="10344"/>
                  <a:pt x="3481" y="10344"/>
                  <a:pt x="3497" y="10344"/>
                </a:cubicBezTo>
                <a:cubicBezTo>
                  <a:pt x="3585" y="10278"/>
                  <a:pt x="3653" y="10175"/>
                  <a:pt x="3721" y="10120"/>
                </a:cubicBezTo>
                <a:cubicBezTo>
                  <a:pt x="3854" y="10263"/>
                  <a:pt x="4000" y="10425"/>
                  <a:pt x="3894" y="10641"/>
                </a:cubicBezTo>
                <a:cubicBezTo>
                  <a:pt x="3736" y="10964"/>
                  <a:pt x="3536" y="10695"/>
                  <a:pt x="3448" y="10542"/>
                </a:cubicBezTo>
              </a:path>
              <a:path w="6971" h="1514">
                <a:moveTo>
                  <a:pt x="3845" y="9649"/>
                </a:moveTo>
                <a:cubicBezTo>
                  <a:pt x="3949" y="9794"/>
                  <a:pt x="4036" y="9953"/>
                  <a:pt x="4142" y="10096"/>
                </a:cubicBezTo>
                <a:cubicBezTo>
                  <a:pt x="4150" y="10104"/>
                  <a:pt x="4159" y="10112"/>
                  <a:pt x="4167" y="10120"/>
                </a:cubicBezTo>
                <a:cubicBezTo>
                  <a:pt x="4124" y="10065"/>
                  <a:pt x="4061" y="9978"/>
                  <a:pt x="4093" y="9897"/>
                </a:cubicBezTo>
                <a:cubicBezTo>
                  <a:pt x="4157" y="9736"/>
                  <a:pt x="4378" y="9933"/>
                  <a:pt x="4415" y="9996"/>
                </a:cubicBezTo>
                <a:cubicBezTo>
                  <a:pt x="4458" y="10102"/>
                  <a:pt x="4474" y="10124"/>
                  <a:pt x="4465" y="10195"/>
                </a:cubicBezTo>
              </a:path>
              <a:path w="6971" h="1514">
                <a:moveTo>
                  <a:pt x="4490" y="9500"/>
                </a:moveTo>
                <a:cubicBezTo>
                  <a:pt x="4557" y="9635"/>
                  <a:pt x="4798" y="9945"/>
                  <a:pt x="4787" y="10096"/>
                </a:cubicBezTo>
                <a:cubicBezTo>
                  <a:pt x="4771" y="10088"/>
                  <a:pt x="4754" y="10079"/>
                  <a:pt x="4738" y="10071"/>
                </a:cubicBezTo>
              </a:path>
              <a:path w="6971" h="1514">
                <a:moveTo>
                  <a:pt x="4490" y="9847"/>
                </a:moveTo>
                <a:cubicBezTo>
                  <a:pt x="4605" y="9828"/>
                  <a:pt x="4722" y="9797"/>
                  <a:pt x="4837" y="9773"/>
                </a:cubicBezTo>
                <a:cubicBezTo>
                  <a:pt x="4878" y="9765"/>
                  <a:pt x="4920" y="9756"/>
                  <a:pt x="4961" y="9748"/>
                </a:cubicBezTo>
              </a:path>
              <a:path w="6971" h="1514">
                <a:moveTo>
                  <a:pt x="5531" y="9649"/>
                </a:moveTo>
                <a:cubicBezTo>
                  <a:pt x="5644" y="9795"/>
                  <a:pt x="5718" y="9957"/>
                  <a:pt x="5804" y="10120"/>
                </a:cubicBezTo>
                <a:cubicBezTo>
                  <a:pt x="5824" y="10161"/>
                  <a:pt x="5833" y="10188"/>
                  <a:pt x="5829" y="10145"/>
                </a:cubicBezTo>
              </a:path>
              <a:path w="6971" h="1514">
                <a:moveTo>
                  <a:pt x="5482" y="9971"/>
                </a:moveTo>
                <a:cubicBezTo>
                  <a:pt x="5705" y="9960"/>
                  <a:pt x="5953" y="9882"/>
                  <a:pt x="6176" y="9922"/>
                </a:cubicBezTo>
                <a:cubicBezTo>
                  <a:pt x="6239" y="9933"/>
                  <a:pt x="6303" y="10041"/>
                  <a:pt x="6325" y="10096"/>
                </a:cubicBezTo>
                <a:cubicBezTo>
                  <a:pt x="6325" y="10104"/>
                  <a:pt x="6325" y="10112"/>
                  <a:pt x="6325" y="10120"/>
                </a:cubicBezTo>
                <a:cubicBezTo>
                  <a:pt x="6299" y="10055"/>
                  <a:pt x="6248" y="9950"/>
                  <a:pt x="6251" y="9872"/>
                </a:cubicBezTo>
                <a:cubicBezTo>
                  <a:pt x="6253" y="9818"/>
                  <a:pt x="6370" y="9720"/>
                  <a:pt x="6424" y="9723"/>
                </a:cubicBezTo>
                <a:cubicBezTo>
                  <a:pt x="6533" y="9729"/>
                  <a:pt x="6621" y="9791"/>
                  <a:pt x="6672" y="9897"/>
                </a:cubicBezTo>
                <a:cubicBezTo>
                  <a:pt x="6733" y="10025"/>
                  <a:pt x="6703" y="10165"/>
                  <a:pt x="6747" y="10120"/>
                </a:cubicBezTo>
              </a:path>
              <a:path w="6971" h="1514">
                <a:moveTo>
                  <a:pt x="6499" y="9475"/>
                </a:moveTo>
                <a:cubicBezTo>
                  <a:pt x="6507" y="9475"/>
                  <a:pt x="6516" y="9475"/>
                  <a:pt x="6524" y="9475"/>
                </a:cubicBezTo>
              </a:path>
              <a:path w="6971" h="1514">
                <a:moveTo>
                  <a:pt x="7144" y="9847"/>
                </a:moveTo>
                <a:cubicBezTo>
                  <a:pt x="7192" y="9799"/>
                  <a:pt x="7074" y="9718"/>
                  <a:pt x="7020" y="9674"/>
                </a:cubicBezTo>
                <a:cubicBezTo>
                  <a:pt x="6930" y="9799"/>
                  <a:pt x="6857" y="9976"/>
                  <a:pt x="6995" y="10120"/>
                </a:cubicBezTo>
                <a:cubicBezTo>
                  <a:pt x="7127" y="10259"/>
                  <a:pt x="7164" y="9985"/>
                  <a:pt x="7169" y="9922"/>
                </a:cubicBezTo>
                <a:cubicBezTo>
                  <a:pt x="7184" y="9982"/>
                  <a:pt x="7206" y="10040"/>
                  <a:pt x="7268" y="10071"/>
                </a:cubicBezTo>
                <a:cubicBezTo>
                  <a:pt x="7334" y="10104"/>
                  <a:pt x="7411" y="9958"/>
                  <a:pt x="7441" y="9922"/>
                </a:cubicBezTo>
                <a:cubicBezTo>
                  <a:pt x="7477" y="9975"/>
                  <a:pt x="7519" y="10041"/>
                  <a:pt x="7541" y="10096"/>
                </a:cubicBezTo>
                <a:cubicBezTo>
                  <a:pt x="7517" y="10023"/>
                  <a:pt x="7487" y="9957"/>
                  <a:pt x="7516" y="9847"/>
                </a:cubicBezTo>
                <a:cubicBezTo>
                  <a:pt x="7543" y="9794"/>
                  <a:pt x="7555" y="9774"/>
                  <a:pt x="7590" y="9748"/>
                </a:cubicBezTo>
                <a:cubicBezTo>
                  <a:pt x="7736" y="9833"/>
                  <a:pt x="7754" y="9916"/>
                  <a:pt x="7813" y="10071"/>
                </a:cubicBezTo>
                <a:cubicBezTo>
                  <a:pt x="7861" y="10196"/>
                  <a:pt x="7952" y="10011"/>
                  <a:pt x="7987" y="9971"/>
                </a:cubicBezTo>
              </a:path>
              <a:path w="6971" h="1514">
                <a:moveTo>
                  <a:pt x="8062" y="9699"/>
                </a:moveTo>
                <a:cubicBezTo>
                  <a:pt x="7994" y="9766"/>
                  <a:pt x="7800" y="9950"/>
                  <a:pt x="7913" y="10071"/>
                </a:cubicBezTo>
                <a:cubicBezTo>
                  <a:pt x="8046" y="10213"/>
                  <a:pt x="8122" y="9850"/>
                  <a:pt x="8136" y="9798"/>
                </a:cubicBezTo>
                <a:cubicBezTo>
                  <a:pt x="8186" y="9946"/>
                  <a:pt x="8298" y="10102"/>
                  <a:pt x="8310" y="10269"/>
                </a:cubicBezTo>
                <a:cubicBezTo>
                  <a:pt x="8325" y="10475"/>
                  <a:pt x="8103" y="10562"/>
                  <a:pt x="7938" y="10492"/>
                </a:cubicBezTo>
                <a:cubicBezTo>
                  <a:pt x="7836" y="10416"/>
                  <a:pt x="7801" y="10389"/>
                  <a:pt x="7789" y="10294"/>
                </a:cubicBezTo>
              </a:path>
              <a:path w="6971" h="1514">
                <a:moveTo>
                  <a:pt x="8210" y="9277"/>
                </a:moveTo>
                <a:cubicBezTo>
                  <a:pt x="8314" y="9492"/>
                  <a:pt x="8443" y="9716"/>
                  <a:pt x="8508" y="9947"/>
                </a:cubicBezTo>
                <a:cubicBezTo>
                  <a:pt x="8516" y="9976"/>
                  <a:pt x="8506" y="10050"/>
                  <a:pt x="8533" y="9996"/>
                </a:cubicBezTo>
              </a:path>
              <a:path w="6971" h="1514">
                <a:moveTo>
                  <a:pt x="8533" y="9798"/>
                </a:moveTo>
                <a:cubicBezTo>
                  <a:pt x="8578" y="9785"/>
                  <a:pt x="9010" y="9704"/>
                  <a:pt x="8979" y="9649"/>
                </a:cubicBezTo>
                <a:cubicBezTo>
                  <a:pt x="8945" y="9588"/>
                  <a:pt x="8877" y="9527"/>
                  <a:pt x="8830" y="9475"/>
                </a:cubicBezTo>
                <a:cubicBezTo>
                  <a:pt x="8721" y="9565"/>
                  <a:pt x="8619" y="9740"/>
                  <a:pt x="8731" y="9897"/>
                </a:cubicBezTo>
                <a:cubicBezTo>
                  <a:pt x="8840" y="10050"/>
                  <a:pt x="9019" y="9936"/>
                  <a:pt x="9153" y="989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57840" y="3483000"/>
            <a:ext cx="2500200" cy="446040"/>
          </a:xfrm>
          <a:custGeom>
            <a:avLst/>
            <a:gdLst/>
            <a:ahLst/>
            <a:rect l="l" t="t" r="r" b="b"/>
            <a:pathLst>
              <a:path w="6946" h="1241">
                <a:moveTo>
                  <a:pt x="13593" y="10071"/>
                </a:moveTo>
                <a:cubicBezTo>
                  <a:pt x="13654" y="10071"/>
                  <a:pt x="13706" y="10094"/>
                  <a:pt x="13767" y="10096"/>
                </a:cubicBezTo>
                <a:cubicBezTo>
                  <a:pt x="13903" y="10101"/>
                  <a:pt x="14031" y="10104"/>
                  <a:pt x="14163" y="10120"/>
                </a:cubicBezTo>
                <a:cubicBezTo>
                  <a:pt x="14180" y="10120"/>
                  <a:pt x="14196" y="10120"/>
                  <a:pt x="14213" y="10120"/>
                </a:cubicBezTo>
                <a:cubicBezTo>
                  <a:pt x="14151" y="9996"/>
                  <a:pt x="14042" y="9930"/>
                  <a:pt x="13915" y="9872"/>
                </a:cubicBezTo>
                <a:cubicBezTo>
                  <a:pt x="13771" y="9807"/>
                  <a:pt x="13582" y="9766"/>
                  <a:pt x="13519" y="9947"/>
                </a:cubicBezTo>
                <a:cubicBezTo>
                  <a:pt x="13423" y="10225"/>
                  <a:pt x="13601" y="10306"/>
                  <a:pt x="13841" y="10294"/>
                </a:cubicBezTo>
                <a:cubicBezTo>
                  <a:pt x="14019" y="10268"/>
                  <a:pt x="14081" y="10258"/>
                  <a:pt x="14188" y="10195"/>
                </a:cubicBezTo>
              </a:path>
              <a:path w="6946" h="1241">
                <a:moveTo>
                  <a:pt x="14560" y="9897"/>
                </a:moveTo>
                <a:cubicBezTo>
                  <a:pt x="14487" y="9841"/>
                  <a:pt x="14396" y="9911"/>
                  <a:pt x="14337" y="9971"/>
                </a:cubicBezTo>
                <a:cubicBezTo>
                  <a:pt x="14256" y="10074"/>
                  <a:pt x="14223" y="10087"/>
                  <a:pt x="14238" y="10170"/>
                </a:cubicBezTo>
                <a:cubicBezTo>
                  <a:pt x="14381" y="10286"/>
                  <a:pt x="14465" y="10246"/>
                  <a:pt x="14610" y="10120"/>
                </a:cubicBezTo>
                <a:cubicBezTo>
                  <a:pt x="14681" y="10058"/>
                  <a:pt x="14658" y="10056"/>
                  <a:pt x="14610" y="9996"/>
                </a:cubicBezTo>
                <a:cubicBezTo>
                  <a:pt x="14610" y="10155"/>
                  <a:pt x="14612" y="10309"/>
                  <a:pt x="14585" y="10468"/>
                </a:cubicBezTo>
                <a:cubicBezTo>
                  <a:pt x="14554" y="10650"/>
                  <a:pt x="14531" y="10736"/>
                  <a:pt x="14560" y="10914"/>
                </a:cubicBezTo>
                <a:cubicBezTo>
                  <a:pt x="14731" y="10829"/>
                  <a:pt x="14803" y="10722"/>
                  <a:pt x="14808" y="10517"/>
                </a:cubicBezTo>
                <a:cubicBezTo>
                  <a:pt x="14811" y="10390"/>
                  <a:pt x="14698" y="10355"/>
                  <a:pt x="14610" y="10294"/>
                </a:cubicBezTo>
              </a:path>
              <a:path w="6946" h="1241">
                <a:moveTo>
                  <a:pt x="14908" y="9996"/>
                </a:moveTo>
                <a:cubicBezTo>
                  <a:pt x="14916" y="10142"/>
                  <a:pt x="14924" y="10251"/>
                  <a:pt x="15007" y="10368"/>
                </a:cubicBezTo>
                <a:cubicBezTo>
                  <a:pt x="15154" y="10334"/>
                  <a:pt x="15270" y="10251"/>
                  <a:pt x="15329" y="10096"/>
                </a:cubicBezTo>
                <a:cubicBezTo>
                  <a:pt x="15329" y="10079"/>
                  <a:pt x="15329" y="10063"/>
                  <a:pt x="15329" y="10046"/>
                </a:cubicBezTo>
                <a:cubicBezTo>
                  <a:pt x="15329" y="9991"/>
                  <a:pt x="15315" y="10229"/>
                  <a:pt x="15329" y="10269"/>
                </a:cubicBezTo>
                <a:cubicBezTo>
                  <a:pt x="15365" y="10370"/>
                  <a:pt x="15406" y="10393"/>
                  <a:pt x="15478" y="10393"/>
                </a:cubicBezTo>
              </a:path>
              <a:path w="6946" h="1241">
                <a:moveTo>
                  <a:pt x="15652" y="10120"/>
                </a:moveTo>
                <a:cubicBezTo>
                  <a:pt x="15659" y="10248"/>
                  <a:pt x="15643" y="10285"/>
                  <a:pt x="15726" y="10368"/>
                </a:cubicBezTo>
              </a:path>
              <a:path w="6946" h="1241">
                <a:moveTo>
                  <a:pt x="15652" y="9773"/>
                </a:moveTo>
                <a:lnTo>
                  <a:pt x="15652" y="9773"/>
                </a:lnTo>
              </a:path>
              <a:path w="6946" h="1241">
                <a:moveTo>
                  <a:pt x="16421" y="10145"/>
                </a:moveTo>
                <a:cubicBezTo>
                  <a:pt x="16439" y="10118"/>
                  <a:pt x="16404" y="10034"/>
                  <a:pt x="16321" y="10046"/>
                </a:cubicBezTo>
                <a:cubicBezTo>
                  <a:pt x="16131" y="10073"/>
                  <a:pt x="16069" y="10238"/>
                  <a:pt x="16098" y="10393"/>
                </a:cubicBezTo>
                <a:cubicBezTo>
                  <a:pt x="16302" y="10364"/>
                  <a:pt x="16321" y="10327"/>
                  <a:pt x="16371" y="10145"/>
                </a:cubicBezTo>
                <a:cubicBezTo>
                  <a:pt x="16371" y="10153"/>
                  <a:pt x="16371" y="10162"/>
                  <a:pt x="16371" y="10170"/>
                </a:cubicBezTo>
                <a:cubicBezTo>
                  <a:pt x="16408" y="10234"/>
                  <a:pt x="16424" y="10391"/>
                  <a:pt x="16545" y="10344"/>
                </a:cubicBezTo>
                <a:cubicBezTo>
                  <a:pt x="16642" y="10307"/>
                  <a:pt x="16747" y="10016"/>
                  <a:pt x="16743" y="10120"/>
                </a:cubicBezTo>
                <a:cubicBezTo>
                  <a:pt x="16740" y="10191"/>
                  <a:pt x="16726" y="10255"/>
                  <a:pt x="16743" y="10344"/>
                </a:cubicBezTo>
                <a:cubicBezTo>
                  <a:pt x="16720" y="10253"/>
                  <a:pt x="16711" y="10207"/>
                  <a:pt x="16743" y="10096"/>
                </a:cubicBezTo>
                <a:cubicBezTo>
                  <a:pt x="16790" y="9934"/>
                  <a:pt x="16933" y="10083"/>
                  <a:pt x="16966" y="10170"/>
                </a:cubicBezTo>
                <a:cubicBezTo>
                  <a:pt x="17001" y="10263"/>
                  <a:pt x="16967" y="10307"/>
                  <a:pt x="17041" y="10344"/>
                </a:cubicBezTo>
              </a:path>
              <a:path w="6946" h="1241">
                <a:moveTo>
                  <a:pt x="17462" y="9947"/>
                </a:moveTo>
                <a:cubicBezTo>
                  <a:pt x="17312" y="10021"/>
                  <a:pt x="17173" y="10147"/>
                  <a:pt x="17165" y="10344"/>
                </a:cubicBezTo>
                <a:cubicBezTo>
                  <a:pt x="17160" y="10465"/>
                  <a:pt x="17423" y="10170"/>
                  <a:pt x="17438" y="10120"/>
                </a:cubicBezTo>
                <a:cubicBezTo>
                  <a:pt x="17438" y="10095"/>
                  <a:pt x="17438" y="10071"/>
                  <a:pt x="17438" y="10046"/>
                </a:cubicBezTo>
                <a:cubicBezTo>
                  <a:pt x="17533" y="10161"/>
                  <a:pt x="17587" y="10424"/>
                  <a:pt x="17587" y="10592"/>
                </a:cubicBezTo>
                <a:cubicBezTo>
                  <a:pt x="17587" y="10816"/>
                  <a:pt x="17415" y="10972"/>
                  <a:pt x="17190" y="10889"/>
                </a:cubicBezTo>
                <a:cubicBezTo>
                  <a:pt x="16983" y="10812"/>
                  <a:pt x="17073" y="10680"/>
                  <a:pt x="17115" y="10542"/>
                </a:cubicBezTo>
              </a:path>
              <a:path w="6946" h="1241">
                <a:moveTo>
                  <a:pt x="17859" y="10021"/>
                </a:moveTo>
                <a:cubicBezTo>
                  <a:pt x="17859" y="10159"/>
                  <a:pt x="17868" y="10263"/>
                  <a:pt x="17909" y="10393"/>
                </a:cubicBezTo>
                <a:cubicBezTo>
                  <a:pt x="18055" y="10361"/>
                  <a:pt x="18106" y="10261"/>
                  <a:pt x="18157" y="10120"/>
                </a:cubicBezTo>
                <a:cubicBezTo>
                  <a:pt x="18165" y="10087"/>
                  <a:pt x="18174" y="10054"/>
                  <a:pt x="18182" y="10021"/>
                </a:cubicBezTo>
                <a:cubicBezTo>
                  <a:pt x="18182" y="10129"/>
                  <a:pt x="18174" y="10319"/>
                  <a:pt x="18331" y="10344"/>
                </a:cubicBezTo>
                <a:cubicBezTo>
                  <a:pt x="18455" y="10313"/>
                  <a:pt x="18502" y="10283"/>
                  <a:pt x="18529" y="10170"/>
                </a:cubicBezTo>
              </a:path>
              <a:path w="6946" h="1241">
                <a:moveTo>
                  <a:pt x="18554" y="9674"/>
                </a:moveTo>
                <a:cubicBezTo>
                  <a:pt x="18560" y="9857"/>
                  <a:pt x="18535" y="10128"/>
                  <a:pt x="18628" y="10294"/>
                </a:cubicBezTo>
                <a:cubicBezTo>
                  <a:pt x="18636" y="10294"/>
                  <a:pt x="18645" y="10294"/>
                  <a:pt x="18653" y="10294"/>
                </a:cubicBezTo>
              </a:path>
              <a:path w="6946" h="1241">
                <a:moveTo>
                  <a:pt x="19397" y="10120"/>
                </a:moveTo>
                <a:cubicBezTo>
                  <a:pt x="19388" y="9996"/>
                  <a:pt x="19397" y="10001"/>
                  <a:pt x="19298" y="9922"/>
                </a:cubicBezTo>
                <a:cubicBezTo>
                  <a:pt x="19165" y="9994"/>
                  <a:pt x="19055" y="10072"/>
                  <a:pt x="19075" y="10244"/>
                </a:cubicBezTo>
                <a:cubicBezTo>
                  <a:pt x="19083" y="10261"/>
                  <a:pt x="19092" y="10277"/>
                  <a:pt x="19100" y="10294"/>
                </a:cubicBezTo>
                <a:cubicBezTo>
                  <a:pt x="19222" y="10253"/>
                  <a:pt x="19264" y="10148"/>
                  <a:pt x="19348" y="10046"/>
                </a:cubicBezTo>
                <a:cubicBezTo>
                  <a:pt x="19391" y="10108"/>
                  <a:pt x="19462" y="10265"/>
                  <a:pt x="19546" y="10294"/>
                </a:cubicBezTo>
                <a:cubicBezTo>
                  <a:pt x="19735" y="10360"/>
                  <a:pt x="19870" y="10135"/>
                  <a:pt x="19968" y="10021"/>
                </a:cubicBezTo>
                <a:cubicBezTo>
                  <a:pt x="20009" y="9973"/>
                  <a:pt x="20002" y="10054"/>
                  <a:pt x="20017" y="10096"/>
                </a:cubicBezTo>
                <a:cubicBezTo>
                  <a:pt x="20017" y="10029"/>
                  <a:pt x="20014" y="10007"/>
                  <a:pt x="20042" y="9947"/>
                </a:cubicBezTo>
                <a:cubicBezTo>
                  <a:pt x="20137" y="9744"/>
                  <a:pt x="20241" y="9748"/>
                  <a:pt x="20439" y="974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62720" y="3983040"/>
            <a:ext cx="268200" cy="125280"/>
          </a:xfrm>
          <a:custGeom>
            <a:avLst/>
            <a:gdLst/>
            <a:ahLst/>
            <a:rect l="l" t="t" r="r" b="b"/>
            <a:pathLst>
              <a:path w="745" h="348">
                <a:moveTo>
                  <a:pt x="15850" y="11088"/>
                </a:moveTo>
                <a:cubicBezTo>
                  <a:pt x="15871" y="11196"/>
                  <a:pt x="15891" y="11301"/>
                  <a:pt x="15900" y="11410"/>
                </a:cubicBezTo>
                <a:cubicBezTo>
                  <a:pt x="15783" y="11332"/>
                  <a:pt x="15733" y="11173"/>
                  <a:pt x="15602" y="11088"/>
                </a:cubicBezTo>
                <a:cubicBezTo>
                  <a:pt x="15577" y="11080"/>
                  <a:pt x="15553" y="11071"/>
                  <a:pt x="15528" y="11063"/>
                </a:cubicBezTo>
                <a:cubicBezTo>
                  <a:pt x="15408" y="11235"/>
                  <a:pt x="15443" y="11381"/>
                  <a:pt x="15701" y="11361"/>
                </a:cubicBezTo>
                <a:cubicBezTo>
                  <a:pt x="15895" y="11346"/>
                  <a:pt x="16042" y="11239"/>
                  <a:pt x="16197" y="1113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15040" y="3938760"/>
            <a:ext cx="1268280" cy="339480"/>
          </a:xfrm>
          <a:custGeom>
            <a:avLst/>
            <a:gdLst/>
            <a:ahLst/>
            <a:rect l="l" t="t" r="r" b="b"/>
            <a:pathLst>
              <a:path w="3523" h="943">
                <a:moveTo>
                  <a:pt x="17760" y="11509"/>
                </a:moveTo>
                <a:cubicBezTo>
                  <a:pt x="17760" y="11542"/>
                  <a:pt x="17760" y="11559"/>
                  <a:pt x="17760" y="11584"/>
                </a:cubicBezTo>
                <a:cubicBezTo>
                  <a:pt x="17815" y="11566"/>
                  <a:pt x="17773" y="11548"/>
                  <a:pt x="17760" y="11509"/>
                </a:cubicBezTo>
                <a:cubicBezTo>
                  <a:pt x="17749" y="11477"/>
                  <a:pt x="17729" y="11419"/>
                  <a:pt x="17711" y="11410"/>
                </a:cubicBezTo>
                <a:cubicBezTo>
                  <a:pt x="17665" y="11387"/>
                  <a:pt x="17716" y="11360"/>
                  <a:pt x="17686" y="11336"/>
                </a:cubicBezTo>
                <a:cubicBezTo>
                  <a:pt x="17650" y="11308"/>
                  <a:pt x="17493" y="11334"/>
                  <a:pt x="17462" y="11361"/>
                </a:cubicBezTo>
                <a:cubicBezTo>
                  <a:pt x="17354" y="11454"/>
                  <a:pt x="17330" y="11579"/>
                  <a:pt x="17289" y="11708"/>
                </a:cubicBezTo>
                <a:cubicBezTo>
                  <a:pt x="17266" y="11775"/>
                  <a:pt x="17255" y="11793"/>
                  <a:pt x="17289" y="11832"/>
                </a:cubicBezTo>
                <a:cubicBezTo>
                  <a:pt x="17430" y="11832"/>
                  <a:pt x="17582" y="11852"/>
                  <a:pt x="17686" y="11733"/>
                </a:cubicBezTo>
                <a:cubicBezTo>
                  <a:pt x="17761" y="11647"/>
                  <a:pt x="17720" y="11506"/>
                  <a:pt x="17711" y="11410"/>
                </a:cubicBezTo>
                <a:cubicBezTo>
                  <a:pt x="17711" y="11521"/>
                  <a:pt x="17680" y="11644"/>
                  <a:pt x="17760" y="11733"/>
                </a:cubicBezTo>
                <a:cubicBezTo>
                  <a:pt x="17816" y="11760"/>
                  <a:pt x="17838" y="11768"/>
                  <a:pt x="17884" y="11757"/>
                </a:cubicBezTo>
              </a:path>
              <a:path w="3523" h="943">
                <a:moveTo>
                  <a:pt x="18430" y="11336"/>
                </a:moveTo>
                <a:cubicBezTo>
                  <a:pt x="18430" y="11371"/>
                  <a:pt x="18435" y="11388"/>
                  <a:pt x="18455" y="11410"/>
                </a:cubicBezTo>
                <a:cubicBezTo>
                  <a:pt x="18455" y="11345"/>
                  <a:pt x="18460" y="11291"/>
                  <a:pt x="18405" y="11261"/>
                </a:cubicBezTo>
                <a:cubicBezTo>
                  <a:pt x="18268" y="11185"/>
                  <a:pt x="18179" y="11408"/>
                  <a:pt x="18157" y="11509"/>
                </a:cubicBezTo>
                <a:cubicBezTo>
                  <a:pt x="18113" y="11716"/>
                  <a:pt x="18304" y="11729"/>
                  <a:pt x="18455" y="11683"/>
                </a:cubicBezTo>
                <a:cubicBezTo>
                  <a:pt x="18488" y="11666"/>
                  <a:pt x="18521" y="11650"/>
                  <a:pt x="18554" y="11633"/>
                </a:cubicBezTo>
              </a:path>
              <a:path w="3523" h="943">
                <a:moveTo>
                  <a:pt x="18728" y="11286"/>
                </a:moveTo>
                <a:cubicBezTo>
                  <a:pt x="18728" y="11412"/>
                  <a:pt x="18698" y="11566"/>
                  <a:pt x="18752" y="11683"/>
                </a:cubicBezTo>
                <a:cubicBezTo>
                  <a:pt x="18819" y="11828"/>
                  <a:pt x="18987" y="11709"/>
                  <a:pt x="19050" y="11633"/>
                </a:cubicBezTo>
                <a:cubicBezTo>
                  <a:pt x="19136" y="11529"/>
                  <a:pt x="19124" y="11479"/>
                  <a:pt x="19124" y="11361"/>
                </a:cubicBezTo>
                <a:cubicBezTo>
                  <a:pt x="19105" y="11437"/>
                  <a:pt x="19101" y="11528"/>
                  <a:pt x="19149" y="11609"/>
                </a:cubicBezTo>
                <a:cubicBezTo>
                  <a:pt x="19207" y="11665"/>
                  <a:pt x="19234" y="11679"/>
                  <a:pt x="19298" y="11633"/>
                </a:cubicBezTo>
              </a:path>
              <a:path w="3523" h="943">
                <a:moveTo>
                  <a:pt x="19571" y="10939"/>
                </a:moveTo>
                <a:cubicBezTo>
                  <a:pt x="19644" y="11035"/>
                  <a:pt x="19630" y="11244"/>
                  <a:pt x="19645" y="11361"/>
                </a:cubicBezTo>
                <a:cubicBezTo>
                  <a:pt x="19661" y="11485"/>
                  <a:pt x="19684" y="11609"/>
                  <a:pt x="19695" y="11733"/>
                </a:cubicBezTo>
              </a:path>
              <a:path w="3523" h="943">
                <a:moveTo>
                  <a:pt x="19372" y="11311"/>
                </a:moveTo>
                <a:cubicBezTo>
                  <a:pt x="19622" y="11311"/>
                  <a:pt x="19870" y="11302"/>
                  <a:pt x="20117" y="11336"/>
                </a:cubicBezTo>
              </a:path>
              <a:path w="3523" h="943">
                <a:moveTo>
                  <a:pt x="20141" y="11435"/>
                </a:moveTo>
                <a:cubicBezTo>
                  <a:pt x="20257" y="11448"/>
                  <a:pt x="20322" y="11448"/>
                  <a:pt x="20439" y="11410"/>
                </a:cubicBezTo>
                <a:cubicBezTo>
                  <a:pt x="20513" y="11385"/>
                  <a:pt x="20538" y="11377"/>
                  <a:pt x="20538" y="11311"/>
                </a:cubicBezTo>
                <a:cubicBezTo>
                  <a:pt x="20466" y="11196"/>
                  <a:pt x="20362" y="11187"/>
                  <a:pt x="20241" y="11286"/>
                </a:cubicBezTo>
                <a:cubicBezTo>
                  <a:pt x="20072" y="11424"/>
                  <a:pt x="20018" y="11695"/>
                  <a:pt x="20241" y="11807"/>
                </a:cubicBezTo>
                <a:cubicBezTo>
                  <a:pt x="20399" y="11886"/>
                  <a:pt x="20614" y="11862"/>
                  <a:pt x="20786" y="1188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70240" y="4411800"/>
            <a:ext cx="438120" cy="133200"/>
          </a:xfrm>
          <a:custGeom>
            <a:avLst/>
            <a:gdLst/>
            <a:ahLst/>
            <a:rect l="l" t="t" r="r" b="b"/>
            <a:pathLst>
              <a:path w="1216" h="373">
                <a:moveTo>
                  <a:pt x="11584" y="12452"/>
                </a:moveTo>
                <a:cubicBezTo>
                  <a:pt x="11584" y="12427"/>
                  <a:pt x="11584" y="12419"/>
                  <a:pt x="11584" y="12402"/>
                </a:cubicBezTo>
                <a:cubicBezTo>
                  <a:pt x="11584" y="12453"/>
                  <a:pt x="11586" y="12461"/>
                  <a:pt x="11609" y="12502"/>
                </a:cubicBezTo>
                <a:cubicBezTo>
                  <a:pt x="11641" y="12558"/>
                  <a:pt x="11676" y="12583"/>
                  <a:pt x="11733" y="12601"/>
                </a:cubicBezTo>
                <a:cubicBezTo>
                  <a:pt x="11813" y="12626"/>
                  <a:pt x="11873" y="12626"/>
                  <a:pt x="11956" y="12626"/>
                </a:cubicBezTo>
                <a:cubicBezTo>
                  <a:pt x="12094" y="12626"/>
                  <a:pt x="12250" y="12648"/>
                  <a:pt x="12378" y="12601"/>
                </a:cubicBezTo>
                <a:cubicBezTo>
                  <a:pt x="12450" y="12575"/>
                  <a:pt x="12507" y="12560"/>
                  <a:pt x="12576" y="12526"/>
                </a:cubicBezTo>
                <a:cubicBezTo>
                  <a:pt x="12647" y="12491"/>
                  <a:pt x="12689" y="12446"/>
                  <a:pt x="12725" y="12378"/>
                </a:cubicBezTo>
                <a:cubicBezTo>
                  <a:pt x="12750" y="12331"/>
                  <a:pt x="12769" y="12292"/>
                  <a:pt x="12799" y="1225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33960" y="4446720"/>
            <a:ext cx="1312920" cy="384120"/>
          </a:xfrm>
          <a:custGeom>
            <a:avLst/>
            <a:gdLst/>
            <a:ahLst/>
            <a:rect l="l" t="t" r="r" b="b"/>
            <a:pathLst>
              <a:path w="3647" h="1067">
                <a:moveTo>
                  <a:pt x="14709" y="12799"/>
                </a:moveTo>
                <a:cubicBezTo>
                  <a:pt x="14587" y="12799"/>
                  <a:pt x="14564" y="12786"/>
                  <a:pt x="14461" y="12874"/>
                </a:cubicBezTo>
                <a:cubicBezTo>
                  <a:pt x="14295" y="13016"/>
                  <a:pt x="14265" y="13140"/>
                  <a:pt x="14288" y="13345"/>
                </a:cubicBezTo>
                <a:cubicBezTo>
                  <a:pt x="14468" y="13410"/>
                  <a:pt x="14596" y="13350"/>
                  <a:pt x="14709" y="13171"/>
                </a:cubicBezTo>
                <a:cubicBezTo>
                  <a:pt x="14814" y="13004"/>
                  <a:pt x="14754" y="12899"/>
                  <a:pt x="14635" y="12774"/>
                </a:cubicBezTo>
                <a:cubicBezTo>
                  <a:pt x="14565" y="12701"/>
                  <a:pt x="14572" y="12724"/>
                  <a:pt x="14635" y="12650"/>
                </a:cubicBezTo>
              </a:path>
              <a:path w="3647" h="1067">
                <a:moveTo>
                  <a:pt x="14833" y="12353"/>
                </a:moveTo>
                <a:cubicBezTo>
                  <a:pt x="14853" y="12548"/>
                  <a:pt x="14889" y="12757"/>
                  <a:pt x="14932" y="12948"/>
                </a:cubicBezTo>
                <a:cubicBezTo>
                  <a:pt x="14961" y="13079"/>
                  <a:pt x="14992" y="13255"/>
                  <a:pt x="15056" y="13370"/>
                </a:cubicBezTo>
                <a:cubicBezTo>
                  <a:pt x="15056" y="13440"/>
                  <a:pt x="15009" y="13206"/>
                  <a:pt x="15007" y="13196"/>
                </a:cubicBezTo>
                <a:cubicBezTo>
                  <a:pt x="14983" y="13088"/>
                  <a:pt x="14966" y="12879"/>
                  <a:pt x="15106" y="12824"/>
                </a:cubicBezTo>
                <a:cubicBezTo>
                  <a:pt x="15235" y="12773"/>
                  <a:pt x="15433" y="12954"/>
                  <a:pt x="15453" y="13072"/>
                </a:cubicBezTo>
                <a:cubicBezTo>
                  <a:pt x="15489" y="13291"/>
                  <a:pt x="15276" y="13378"/>
                  <a:pt x="15106" y="13370"/>
                </a:cubicBezTo>
                <a:cubicBezTo>
                  <a:pt x="14951" y="13363"/>
                  <a:pt x="14973" y="13334"/>
                  <a:pt x="14982" y="13221"/>
                </a:cubicBezTo>
              </a:path>
              <a:path w="3647" h="1067">
                <a:moveTo>
                  <a:pt x="15652" y="12452"/>
                </a:moveTo>
                <a:cubicBezTo>
                  <a:pt x="15652" y="12564"/>
                  <a:pt x="15700" y="12716"/>
                  <a:pt x="15726" y="12824"/>
                </a:cubicBezTo>
                <a:cubicBezTo>
                  <a:pt x="15769" y="13002"/>
                  <a:pt x="15792" y="13196"/>
                  <a:pt x="15850" y="13370"/>
                </a:cubicBezTo>
                <a:cubicBezTo>
                  <a:pt x="15872" y="13435"/>
                  <a:pt x="15866" y="13338"/>
                  <a:pt x="15850" y="13271"/>
                </a:cubicBezTo>
              </a:path>
              <a:path w="3647" h="1067">
                <a:moveTo>
                  <a:pt x="15453" y="12948"/>
                </a:moveTo>
                <a:cubicBezTo>
                  <a:pt x="15685" y="12909"/>
                  <a:pt x="15915" y="12853"/>
                  <a:pt x="16148" y="12824"/>
                </a:cubicBezTo>
                <a:cubicBezTo>
                  <a:pt x="16164" y="12824"/>
                  <a:pt x="16181" y="12824"/>
                  <a:pt x="16197" y="12824"/>
                </a:cubicBezTo>
                <a:cubicBezTo>
                  <a:pt x="16214" y="12933"/>
                  <a:pt x="16170" y="13007"/>
                  <a:pt x="16173" y="13122"/>
                </a:cubicBezTo>
                <a:cubicBezTo>
                  <a:pt x="16175" y="13214"/>
                  <a:pt x="16240" y="13387"/>
                  <a:pt x="16371" y="13320"/>
                </a:cubicBezTo>
                <a:cubicBezTo>
                  <a:pt x="16507" y="13250"/>
                  <a:pt x="16512" y="13051"/>
                  <a:pt x="16520" y="12923"/>
                </a:cubicBezTo>
                <a:cubicBezTo>
                  <a:pt x="16492" y="12923"/>
                  <a:pt x="16523" y="13069"/>
                  <a:pt x="16570" y="13146"/>
                </a:cubicBezTo>
                <a:cubicBezTo>
                  <a:pt x="16631" y="13248"/>
                  <a:pt x="16641" y="13172"/>
                  <a:pt x="16718" y="13146"/>
                </a:cubicBezTo>
              </a:path>
              <a:path w="3647" h="1067">
                <a:moveTo>
                  <a:pt x="16917" y="12774"/>
                </a:moveTo>
                <a:cubicBezTo>
                  <a:pt x="16812" y="12816"/>
                  <a:pt x="16775" y="12842"/>
                  <a:pt x="16694" y="12923"/>
                </a:cubicBezTo>
                <a:cubicBezTo>
                  <a:pt x="16777" y="13008"/>
                  <a:pt x="16928" y="12982"/>
                  <a:pt x="17041" y="13047"/>
                </a:cubicBezTo>
                <a:cubicBezTo>
                  <a:pt x="17108" y="13115"/>
                  <a:pt x="17132" y="13129"/>
                  <a:pt x="17115" y="13196"/>
                </a:cubicBezTo>
                <a:cubicBezTo>
                  <a:pt x="16969" y="13314"/>
                  <a:pt x="16879" y="13331"/>
                  <a:pt x="16718" y="13221"/>
                </a:cubicBezTo>
                <a:cubicBezTo>
                  <a:pt x="16702" y="13204"/>
                  <a:pt x="16685" y="13188"/>
                  <a:pt x="16669" y="13171"/>
                </a:cubicBezTo>
              </a:path>
              <a:path w="3647" h="1067">
                <a:moveTo>
                  <a:pt x="17363" y="12898"/>
                </a:moveTo>
                <a:cubicBezTo>
                  <a:pt x="17454" y="12898"/>
                  <a:pt x="17545" y="12898"/>
                  <a:pt x="17636" y="12898"/>
                </a:cubicBezTo>
                <a:cubicBezTo>
                  <a:pt x="17618" y="12828"/>
                  <a:pt x="17526" y="12708"/>
                  <a:pt x="17462" y="12675"/>
                </a:cubicBezTo>
                <a:cubicBezTo>
                  <a:pt x="17264" y="12573"/>
                  <a:pt x="17232" y="12861"/>
                  <a:pt x="17239" y="12973"/>
                </a:cubicBezTo>
                <a:cubicBezTo>
                  <a:pt x="17254" y="13211"/>
                  <a:pt x="17513" y="13279"/>
                  <a:pt x="17711" y="13271"/>
                </a:cubicBezTo>
                <a:cubicBezTo>
                  <a:pt x="17823" y="13248"/>
                  <a:pt x="17854" y="13247"/>
                  <a:pt x="17909" y="1319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26080" y="4983120"/>
            <a:ext cx="1482840" cy="554040"/>
          </a:xfrm>
          <a:custGeom>
            <a:avLst/>
            <a:gdLst/>
            <a:ahLst/>
            <a:rect l="l" t="t" r="r" b="b"/>
            <a:pathLst>
              <a:path w="4119" h="1539">
                <a:moveTo>
                  <a:pt x="15801" y="14015"/>
                </a:moveTo>
                <a:cubicBezTo>
                  <a:pt x="15848" y="14031"/>
                  <a:pt x="15929" y="14309"/>
                  <a:pt x="15949" y="14362"/>
                </a:cubicBezTo>
                <a:cubicBezTo>
                  <a:pt x="15991" y="14477"/>
                  <a:pt x="16032" y="14593"/>
                  <a:pt x="16073" y="14709"/>
                </a:cubicBezTo>
              </a:path>
              <a:path w="4119" h="1539">
                <a:moveTo>
                  <a:pt x="15627" y="14337"/>
                </a:moveTo>
                <a:cubicBezTo>
                  <a:pt x="15793" y="14310"/>
                  <a:pt x="16067" y="14228"/>
                  <a:pt x="16222" y="14337"/>
                </a:cubicBezTo>
                <a:cubicBezTo>
                  <a:pt x="16299" y="14391"/>
                  <a:pt x="16347" y="14531"/>
                  <a:pt x="16396" y="14610"/>
                </a:cubicBezTo>
                <a:cubicBezTo>
                  <a:pt x="16409" y="14452"/>
                  <a:pt x="16430" y="14308"/>
                  <a:pt x="16545" y="14188"/>
                </a:cubicBezTo>
                <a:cubicBezTo>
                  <a:pt x="16625" y="14105"/>
                  <a:pt x="16734" y="14087"/>
                  <a:pt x="16793" y="14188"/>
                </a:cubicBezTo>
                <a:cubicBezTo>
                  <a:pt x="16875" y="14328"/>
                  <a:pt x="16825" y="14485"/>
                  <a:pt x="16892" y="14635"/>
                </a:cubicBezTo>
                <a:cubicBezTo>
                  <a:pt x="16892" y="14627"/>
                  <a:pt x="16892" y="14618"/>
                  <a:pt x="16892" y="14610"/>
                </a:cubicBezTo>
              </a:path>
              <a:path w="4119" h="1539">
                <a:moveTo>
                  <a:pt x="16669" y="13990"/>
                </a:moveTo>
                <a:lnTo>
                  <a:pt x="16669" y="13990"/>
                </a:lnTo>
              </a:path>
              <a:path w="4119" h="1539">
                <a:moveTo>
                  <a:pt x="17438" y="14387"/>
                </a:moveTo>
                <a:cubicBezTo>
                  <a:pt x="17417" y="14260"/>
                  <a:pt x="17394" y="14226"/>
                  <a:pt x="17289" y="14188"/>
                </a:cubicBezTo>
                <a:cubicBezTo>
                  <a:pt x="17158" y="14292"/>
                  <a:pt x="17049" y="14432"/>
                  <a:pt x="17165" y="14610"/>
                </a:cubicBezTo>
                <a:cubicBezTo>
                  <a:pt x="17260" y="14756"/>
                  <a:pt x="17363" y="14506"/>
                  <a:pt x="17363" y="14436"/>
                </a:cubicBezTo>
                <a:cubicBezTo>
                  <a:pt x="17355" y="14428"/>
                  <a:pt x="17346" y="14420"/>
                  <a:pt x="17338" y="14412"/>
                </a:cubicBezTo>
                <a:cubicBezTo>
                  <a:pt x="17351" y="14461"/>
                  <a:pt x="17408" y="14564"/>
                  <a:pt x="17462" y="14585"/>
                </a:cubicBezTo>
                <a:cubicBezTo>
                  <a:pt x="17621" y="14647"/>
                  <a:pt x="17650" y="14499"/>
                  <a:pt x="17711" y="14412"/>
                </a:cubicBezTo>
                <a:cubicBezTo>
                  <a:pt x="17750" y="14357"/>
                  <a:pt x="17687" y="14562"/>
                  <a:pt x="17735" y="14610"/>
                </a:cubicBezTo>
                <a:cubicBezTo>
                  <a:pt x="17735" y="14602"/>
                  <a:pt x="17735" y="14593"/>
                  <a:pt x="17735" y="14585"/>
                </a:cubicBezTo>
                <a:cubicBezTo>
                  <a:pt x="17679" y="14453"/>
                  <a:pt x="17646" y="14318"/>
                  <a:pt x="17810" y="14238"/>
                </a:cubicBezTo>
                <a:cubicBezTo>
                  <a:pt x="17971" y="14160"/>
                  <a:pt x="18072" y="14324"/>
                  <a:pt x="18107" y="14461"/>
                </a:cubicBezTo>
                <a:cubicBezTo>
                  <a:pt x="18107" y="14527"/>
                  <a:pt x="18107" y="14544"/>
                  <a:pt x="18107" y="14585"/>
                </a:cubicBezTo>
              </a:path>
              <a:path w="4119" h="1539">
                <a:moveTo>
                  <a:pt x="18430" y="14188"/>
                </a:moveTo>
                <a:cubicBezTo>
                  <a:pt x="18301" y="14333"/>
                  <a:pt x="18113" y="14502"/>
                  <a:pt x="18256" y="14709"/>
                </a:cubicBezTo>
                <a:cubicBezTo>
                  <a:pt x="18406" y="14926"/>
                  <a:pt x="18540" y="14585"/>
                  <a:pt x="18554" y="14486"/>
                </a:cubicBezTo>
                <a:cubicBezTo>
                  <a:pt x="18554" y="14453"/>
                  <a:pt x="18554" y="14420"/>
                  <a:pt x="18554" y="14387"/>
                </a:cubicBezTo>
                <a:cubicBezTo>
                  <a:pt x="18529" y="14387"/>
                  <a:pt x="18521" y="14387"/>
                  <a:pt x="18529" y="14412"/>
                </a:cubicBezTo>
                <a:cubicBezTo>
                  <a:pt x="18630" y="14622"/>
                  <a:pt x="18799" y="14843"/>
                  <a:pt x="18777" y="15081"/>
                </a:cubicBezTo>
                <a:cubicBezTo>
                  <a:pt x="18751" y="15362"/>
                  <a:pt x="18525" y="15425"/>
                  <a:pt x="18281" y="15354"/>
                </a:cubicBezTo>
                <a:cubicBezTo>
                  <a:pt x="18135" y="15281"/>
                  <a:pt x="18086" y="15260"/>
                  <a:pt x="18083" y="15131"/>
                </a:cubicBezTo>
              </a:path>
              <a:path w="4119" h="1539">
                <a:moveTo>
                  <a:pt x="19025" y="13841"/>
                </a:moveTo>
                <a:cubicBezTo>
                  <a:pt x="19025" y="14080"/>
                  <a:pt x="19032" y="14328"/>
                  <a:pt x="19100" y="14560"/>
                </a:cubicBezTo>
                <a:cubicBezTo>
                  <a:pt x="19105" y="14578"/>
                  <a:pt x="19149" y="14784"/>
                  <a:pt x="19149" y="14660"/>
                </a:cubicBezTo>
              </a:path>
              <a:path w="4119" h="1539">
                <a:moveTo>
                  <a:pt x="19273" y="14362"/>
                </a:moveTo>
                <a:cubicBezTo>
                  <a:pt x="19370" y="14362"/>
                  <a:pt x="19463" y="14366"/>
                  <a:pt x="19546" y="14387"/>
                </a:cubicBezTo>
                <a:cubicBezTo>
                  <a:pt x="19599" y="14400"/>
                  <a:pt x="19579" y="14192"/>
                  <a:pt x="19571" y="14163"/>
                </a:cubicBezTo>
                <a:cubicBezTo>
                  <a:pt x="19554" y="14130"/>
                  <a:pt x="19538" y="14097"/>
                  <a:pt x="19521" y="14064"/>
                </a:cubicBezTo>
                <a:cubicBezTo>
                  <a:pt x="19323" y="14125"/>
                  <a:pt x="19224" y="14336"/>
                  <a:pt x="19273" y="14560"/>
                </a:cubicBezTo>
                <a:cubicBezTo>
                  <a:pt x="19334" y="14836"/>
                  <a:pt x="19609" y="14721"/>
                  <a:pt x="19745" y="1463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1482840"/>
            <a:ext cx="1482480" cy="81000"/>
          </a:xfrm>
          <a:custGeom>
            <a:avLst/>
            <a:gdLst/>
            <a:ahLst/>
            <a:rect l="l" t="t" r="r" b="b"/>
            <a:pathLst>
              <a:path w="4119" h="224">
                <a:moveTo>
                  <a:pt x="18628" y="4142"/>
                </a:moveTo>
                <a:cubicBezTo>
                  <a:pt x="18642" y="4139"/>
                  <a:pt x="18702" y="4120"/>
                  <a:pt x="18752" y="4118"/>
                </a:cubicBezTo>
                <a:cubicBezTo>
                  <a:pt x="18815" y="4116"/>
                  <a:pt x="18878" y="4138"/>
                  <a:pt x="18926" y="4142"/>
                </a:cubicBezTo>
                <a:cubicBezTo>
                  <a:pt x="19006" y="4149"/>
                  <a:pt x="19079" y="4149"/>
                  <a:pt x="19124" y="4167"/>
                </a:cubicBezTo>
                <a:cubicBezTo>
                  <a:pt x="19165" y="4184"/>
                  <a:pt x="19168" y="4173"/>
                  <a:pt x="19199" y="4192"/>
                </a:cubicBezTo>
                <a:cubicBezTo>
                  <a:pt x="19258" y="4228"/>
                  <a:pt x="19284" y="4226"/>
                  <a:pt x="19348" y="4242"/>
                </a:cubicBezTo>
                <a:cubicBezTo>
                  <a:pt x="19443" y="4266"/>
                  <a:pt x="19547" y="4281"/>
                  <a:pt x="19645" y="4291"/>
                </a:cubicBezTo>
                <a:cubicBezTo>
                  <a:pt x="19745" y="4301"/>
                  <a:pt x="19845" y="4305"/>
                  <a:pt x="19943" y="4316"/>
                </a:cubicBezTo>
                <a:cubicBezTo>
                  <a:pt x="20049" y="4328"/>
                  <a:pt x="20160" y="4330"/>
                  <a:pt x="20265" y="4341"/>
                </a:cubicBezTo>
                <a:cubicBezTo>
                  <a:pt x="20684" y="4383"/>
                  <a:pt x="21165" y="4363"/>
                  <a:pt x="21580" y="4316"/>
                </a:cubicBezTo>
                <a:cubicBezTo>
                  <a:pt x="21711" y="4301"/>
                  <a:pt x="21848" y="4306"/>
                  <a:pt x="21977" y="4291"/>
                </a:cubicBezTo>
                <a:cubicBezTo>
                  <a:pt x="22123" y="4275"/>
                  <a:pt x="22280" y="4279"/>
                  <a:pt x="22423" y="4266"/>
                </a:cubicBezTo>
                <a:cubicBezTo>
                  <a:pt x="22491" y="4260"/>
                  <a:pt x="22696" y="4234"/>
                  <a:pt x="22746" y="4242"/>
                </a:cubicBezTo>
                <a:cubicBezTo>
                  <a:pt x="22746" y="4250"/>
                  <a:pt x="22746" y="4258"/>
                  <a:pt x="22746" y="426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02000" y="5018040"/>
            <a:ext cx="9360" cy="1800"/>
          </a:xfrm>
          <a:custGeom>
            <a:avLst/>
            <a:gdLst/>
            <a:ahLst/>
            <a:rect l="l" t="t" r="r" b="b"/>
            <a:pathLst>
              <a:path w="25" h="1">
                <a:moveTo>
                  <a:pt x="9451" y="13940"/>
                </a:moveTo>
                <a:cubicBezTo>
                  <a:pt x="9459" y="13940"/>
                  <a:pt x="9467" y="13940"/>
                  <a:pt x="9475" y="1394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book page 121   problems   1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6: Geomet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92040" y="651816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091" y="18107"/>
                </a:moveTo>
                <a:cubicBezTo>
                  <a:pt x="1099" y="18107"/>
                  <a:pt x="1108" y="18107"/>
                  <a:pt x="1116" y="1810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Vocabular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quilateral triangle: 3 sides of the same lengt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3809880"/>
            <a:ext cx="1524240" cy="990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800600" y="4191120"/>
            <a:ext cx="3808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4038120" y="4190760"/>
            <a:ext cx="30492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6483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27320" y="4106880"/>
            <a:ext cx="1241640" cy="1009800"/>
          </a:xfrm>
          <a:custGeom>
            <a:avLst/>
            <a:gdLst/>
            <a:ahLst/>
            <a:rect l="l" t="t" r="r" b="b"/>
            <a:pathLst>
              <a:path w="3449" h="2804">
                <a:moveTo>
                  <a:pt x="11187" y="11410"/>
                </a:moveTo>
                <a:cubicBezTo>
                  <a:pt x="11204" y="11478"/>
                  <a:pt x="11176" y="11485"/>
                  <a:pt x="11187" y="11534"/>
                </a:cubicBezTo>
                <a:cubicBezTo>
                  <a:pt x="11191" y="11550"/>
                  <a:pt x="11228" y="11620"/>
                  <a:pt x="11237" y="11633"/>
                </a:cubicBezTo>
                <a:cubicBezTo>
                  <a:pt x="11305" y="11732"/>
                  <a:pt x="11421" y="11805"/>
                  <a:pt x="11509" y="11881"/>
                </a:cubicBezTo>
                <a:cubicBezTo>
                  <a:pt x="11557" y="11922"/>
                  <a:pt x="11584" y="11955"/>
                  <a:pt x="11633" y="11981"/>
                </a:cubicBezTo>
                <a:cubicBezTo>
                  <a:pt x="11699" y="12015"/>
                  <a:pt x="11746" y="12072"/>
                  <a:pt x="11807" y="12105"/>
                </a:cubicBezTo>
                <a:cubicBezTo>
                  <a:pt x="11884" y="12147"/>
                  <a:pt x="11978" y="12159"/>
                  <a:pt x="12055" y="12204"/>
                </a:cubicBezTo>
                <a:cubicBezTo>
                  <a:pt x="12132" y="12249"/>
                  <a:pt x="12205" y="12269"/>
                  <a:pt x="12278" y="12303"/>
                </a:cubicBezTo>
                <a:cubicBezTo>
                  <a:pt x="12316" y="12321"/>
                  <a:pt x="12338" y="12384"/>
                  <a:pt x="12353" y="12402"/>
                </a:cubicBezTo>
                <a:cubicBezTo>
                  <a:pt x="12383" y="12373"/>
                  <a:pt x="12394" y="12359"/>
                  <a:pt x="12402" y="12328"/>
                </a:cubicBezTo>
              </a:path>
              <a:path w="3449" h="2804">
                <a:moveTo>
                  <a:pt x="13568" y="12328"/>
                </a:moveTo>
                <a:cubicBezTo>
                  <a:pt x="13525" y="12306"/>
                  <a:pt x="13541" y="12307"/>
                  <a:pt x="13469" y="12303"/>
                </a:cubicBezTo>
                <a:cubicBezTo>
                  <a:pt x="13418" y="12300"/>
                  <a:pt x="13293" y="12320"/>
                  <a:pt x="13320" y="12303"/>
                </a:cubicBezTo>
                <a:cubicBezTo>
                  <a:pt x="13417" y="12243"/>
                  <a:pt x="13540" y="12205"/>
                  <a:pt x="13643" y="12154"/>
                </a:cubicBezTo>
                <a:cubicBezTo>
                  <a:pt x="13791" y="12080"/>
                  <a:pt x="13958" y="12043"/>
                  <a:pt x="14114" y="11981"/>
                </a:cubicBezTo>
                <a:cubicBezTo>
                  <a:pt x="14243" y="11929"/>
                  <a:pt x="14418" y="11875"/>
                  <a:pt x="14536" y="11807"/>
                </a:cubicBezTo>
                <a:cubicBezTo>
                  <a:pt x="14554" y="11796"/>
                  <a:pt x="14654" y="11673"/>
                  <a:pt x="14610" y="11757"/>
                </a:cubicBezTo>
              </a:path>
              <a:path w="3449" h="2804">
                <a:moveTo>
                  <a:pt x="12502" y="12849"/>
                </a:moveTo>
                <a:cubicBezTo>
                  <a:pt x="12513" y="12814"/>
                  <a:pt x="12509" y="12824"/>
                  <a:pt x="12551" y="12824"/>
                </a:cubicBezTo>
                <a:cubicBezTo>
                  <a:pt x="12551" y="12902"/>
                  <a:pt x="12571" y="12971"/>
                  <a:pt x="12576" y="13047"/>
                </a:cubicBezTo>
                <a:cubicBezTo>
                  <a:pt x="12602" y="13432"/>
                  <a:pt x="12576" y="13827"/>
                  <a:pt x="12576" y="142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sosceles triangle: 2 sides of the same length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3200400"/>
            <a:ext cx="1904760" cy="23623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72000" y="434340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441972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4440" y="5652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7080" y="4187880"/>
            <a:ext cx="480960" cy="571320"/>
          </a:xfrm>
          <a:custGeom>
            <a:avLst/>
            <a:gdLst/>
            <a:ahLst/>
            <a:rect l="l" t="t" r="r" b="b"/>
            <a:pathLst>
              <a:path w="1340" h="1589">
                <a:moveTo>
                  <a:pt x="12601" y="13221"/>
                </a:moveTo>
                <a:cubicBezTo>
                  <a:pt x="12606" y="13184"/>
                  <a:pt x="12605" y="13162"/>
                  <a:pt x="12626" y="13146"/>
                </a:cubicBezTo>
                <a:cubicBezTo>
                  <a:pt x="12688" y="13099"/>
                  <a:pt x="12742" y="13055"/>
                  <a:pt x="12799" y="12998"/>
                </a:cubicBezTo>
                <a:cubicBezTo>
                  <a:pt x="12872" y="12925"/>
                  <a:pt x="12928" y="12847"/>
                  <a:pt x="12998" y="12774"/>
                </a:cubicBezTo>
                <a:cubicBezTo>
                  <a:pt x="13073" y="12696"/>
                  <a:pt x="13172" y="12600"/>
                  <a:pt x="13221" y="12502"/>
                </a:cubicBezTo>
                <a:cubicBezTo>
                  <a:pt x="13279" y="12386"/>
                  <a:pt x="13327" y="12300"/>
                  <a:pt x="13419" y="12204"/>
                </a:cubicBezTo>
                <a:cubicBezTo>
                  <a:pt x="13499" y="12121"/>
                  <a:pt x="13562" y="12008"/>
                  <a:pt x="13643" y="11931"/>
                </a:cubicBezTo>
                <a:cubicBezTo>
                  <a:pt x="13693" y="11883"/>
                  <a:pt x="13739" y="11801"/>
                  <a:pt x="13791" y="11757"/>
                </a:cubicBezTo>
                <a:cubicBezTo>
                  <a:pt x="13828" y="11725"/>
                  <a:pt x="13913" y="11687"/>
                  <a:pt x="13940" y="11658"/>
                </a:cubicBezTo>
                <a:cubicBezTo>
                  <a:pt x="13940" y="11650"/>
                  <a:pt x="13940" y="11641"/>
                  <a:pt x="13940" y="1163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0720" y="4276800"/>
            <a:ext cx="617400" cy="527040"/>
          </a:xfrm>
          <a:custGeom>
            <a:avLst/>
            <a:gdLst/>
            <a:ahLst/>
            <a:rect l="l" t="t" r="r" b="b"/>
            <a:pathLst>
              <a:path w="1713" h="1465">
                <a:moveTo>
                  <a:pt x="9252" y="11881"/>
                </a:moveTo>
                <a:cubicBezTo>
                  <a:pt x="9291" y="11901"/>
                  <a:pt x="9334" y="11932"/>
                  <a:pt x="9376" y="11956"/>
                </a:cubicBezTo>
                <a:cubicBezTo>
                  <a:pt x="9449" y="11998"/>
                  <a:pt x="9506" y="12058"/>
                  <a:pt x="9575" y="12105"/>
                </a:cubicBezTo>
                <a:cubicBezTo>
                  <a:pt x="9647" y="12154"/>
                  <a:pt x="9733" y="12208"/>
                  <a:pt x="9798" y="12254"/>
                </a:cubicBezTo>
                <a:cubicBezTo>
                  <a:pt x="9912" y="12335"/>
                  <a:pt x="10014" y="12461"/>
                  <a:pt x="10120" y="12551"/>
                </a:cubicBezTo>
                <a:cubicBezTo>
                  <a:pt x="10198" y="12617"/>
                  <a:pt x="10303" y="12702"/>
                  <a:pt x="10368" y="12774"/>
                </a:cubicBezTo>
                <a:cubicBezTo>
                  <a:pt x="10436" y="12849"/>
                  <a:pt x="10485" y="12912"/>
                  <a:pt x="10567" y="12973"/>
                </a:cubicBezTo>
                <a:cubicBezTo>
                  <a:pt x="10607" y="13003"/>
                  <a:pt x="10672" y="13034"/>
                  <a:pt x="10716" y="13072"/>
                </a:cubicBezTo>
                <a:cubicBezTo>
                  <a:pt x="10771" y="13120"/>
                  <a:pt x="10800" y="13147"/>
                  <a:pt x="10840" y="13196"/>
                </a:cubicBezTo>
                <a:cubicBezTo>
                  <a:pt x="10858" y="13218"/>
                  <a:pt x="10891" y="13249"/>
                  <a:pt x="10914" y="13295"/>
                </a:cubicBezTo>
                <a:cubicBezTo>
                  <a:pt x="10940" y="13346"/>
                  <a:pt x="10940" y="13328"/>
                  <a:pt x="10964" y="1332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2732040"/>
            <a:ext cx="1946160" cy="581040"/>
          </a:xfrm>
          <a:custGeom>
            <a:avLst/>
            <a:gdLst/>
            <a:ahLst/>
            <a:rect l="l" t="t" r="r" b="b"/>
            <a:pathLst>
              <a:path w="5409" h="1614">
                <a:moveTo>
                  <a:pt x="18901" y="7590"/>
                </a:moveTo>
                <a:cubicBezTo>
                  <a:pt x="18896" y="7615"/>
                  <a:pt x="18870" y="7702"/>
                  <a:pt x="18852" y="7714"/>
                </a:cubicBezTo>
                <a:cubicBezTo>
                  <a:pt x="18818" y="7737"/>
                  <a:pt x="18796" y="7773"/>
                  <a:pt x="18752" y="7789"/>
                </a:cubicBezTo>
                <a:cubicBezTo>
                  <a:pt x="18736" y="7795"/>
                  <a:pt x="18691" y="7811"/>
                  <a:pt x="18678" y="7838"/>
                </a:cubicBezTo>
                <a:cubicBezTo>
                  <a:pt x="18658" y="7878"/>
                  <a:pt x="18627" y="7840"/>
                  <a:pt x="18604" y="7888"/>
                </a:cubicBezTo>
                <a:cubicBezTo>
                  <a:pt x="18604" y="7913"/>
                  <a:pt x="18604" y="7921"/>
                  <a:pt x="18579" y="7913"/>
                </a:cubicBezTo>
                <a:cubicBezTo>
                  <a:pt x="18590" y="7856"/>
                  <a:pt x="18612" y="7830"/>
                  <a:pt x="18653" y="7789"/>
                </a:cubicBezTo>
                <a:cubicBezTo>
                  <a:pt x="18661" y="7781"/>
                  <a:pt x="18670" y="7772"/>
                  <a:pt x="18678" y="7764"/>
                </a:cubicBezTo>
              </a:path>
              <a:path w="5409" h="1614">
                <a:moveTo>
                  <a:pt x="18752" y="7689"/>
                </a:moveTo>
                <a:cubicBezTo>
                  <a:pt x="18769" y="7668"/>
                  <a:pt x="18792" y="7620"/>
                  <a:pt x="18802" y="7615"/>
                </a:cubicBezTo>
                <a:cubicBezTo>
                  <a:pt x="18823" y="7605"/>
                  <a:pt x="18879" y="7592"/>
                  <a:pt x="18901" y="7590"/>
                </a:cubicBezTo>
                <a:cubicBezTo>
                  <a:pt x="18909" y="7590"/>
                  <a:pt x="18918" y="7590"/>
                  <a:pt x="18926" y="7590"/>
                </a:cubicBezTo>
                <a:cubicBezTo>
                  <a:pt x="18914" y="7640"/>
                  <a:pt x="18869" y="7639"/>
                  <a:pt x="18852" y="7665"/>
                </a:cubicBezTo>
                <a:cubicBezTo>
                  <a:pt x="18831" y="7697"/>
                  <a:pt x="18796" y="7666"/>
                  <a:pt x="18777" y="7689"/>
                </a:cubicBezTo>
                <a:cubicBezTo>
                  <a:pt x="18756" y="7715"/>
                  <a:pt x="18670" y="7714"/>
                  <a:pt x="18703" y="7714"/>
                </a:cubicBezTo>
                <a:cubicBezTo>
                  <a:pt x="18757" y="7714"/>
                  <a:pt x="18739" y="7702"/>
                  <a:pt x="18777" y="7689"/>
                </a:cubicBezTo>
              </a:path>
              <a:path w="5409" h="1614">
                <a:moveTo>
                  <a:pt x="18852" y="7590"/>
                </a:moveTo>
                <a:cubicBezTo>
                  <a:pt x="18817" y="7607"/>
                  <a:pt x="18806" y="7601"/>
                  <a:pt x="18777" y="7615"/>
                </a:cubicBezTo>
                <a:cubicBezTo>
                  <a:pt x="18748" y="7629"/>
                  <a:pt x="18738" y="7623"/>
                  <a:pt x="18703" y="7640"/>
                </a:cubicBezTo>
                <a:cubicBezTo>
                  <a:pt x="18688" y="7648"/>
                  <a:pt x="18649" y="7676"/>
                  <a:pt x="18628" y="7689"/>
                </a:cubicBezTo>
                <a:cubicBezTo>
                  <a:pt x="18592" y="7711"/>
                  <a:pt x="18568" y="7724"/>
                  <a:pt x="18529" y="7739"/>
                </a:cubicBezTo>
                <a:cubicBezTo>
                  <a:pt x="18468" y="7763"/>
                  <a:pt x="18417" y="7773"/>
                  <a:pt x="18355" y="7789"/>
                </a:cubicBezTo>
                <a:cubicBezTo>
                  <a:pt x="18309" y="7801"/>
                  <a:pt x="18254" y="7824"/>
                  <a:pt x="18207" y="7838"/>
                </a:cubicBezTo>
                <a:cubicBezTo>
                  <a:pt x="18161" y="7851"/>
                  <a:pt x="18097" y="7871"/>
                  <a:pt x="18058" y="7888"/>
                </a:cubicBezTo>
                <a:cubicBezTo>
                  <a:pt x="17990" y="7918"/>
                  <a:pt x="17924" y="7931"/>
                  <a:pt x="17859" y="7962"/>
                </a:cubicBezTo>
                <a:cubicBezTo>
                  <a:pt x="17818" y="7982"/>
                  <a:pt x="17778" y="8019"/>
                  <a:pt x="17735" y="8037"/>
                </a:cubicBezTo>
                <a:cubicBezTo>
                  <a:pt x="17669" y="8065"/>
                  <a:pt x="17626" y="8078"/>
                  <a:pt x="17562" y="8111"/>
                </a:cubicBezTo>
                <a:cubicBezTo>
                  <a:pt x="17471" y="8158"/>
                  <a:pt x="17343" y="8189"/>
                  <a:pt x="17264" y="8235"/>
                </a:cubicBezTo>
                <a:cubicBezTo>
                  <a:pt x="17193" y="8276"/>
                  <a:pt x="17112" y="8315"/>
                  <a:pt x="17041" y="8359"/>
                </a:cubicBezTo>
                <a:cubicBezTo>
                  <a:pt x="16963" y="8407"/>
                  <a:pt x="16901" y="8443"/>
                  <a:pt x="16818" y="8483"/>
                </a:cubicBezTo>
                <a:cubicBezTo>
                  <a:pt x="16752" y="8515"/>
                  <a:pt x="16689" y="8568"/>
                  <a:pt x="16619" y="8607"/>
                </a:cubicBezTo>
                <a:cubicBezTo>
                  <a:pt x="16528" y="8658"/>
                  <a:pt x="16435" y="8695"/>
                  <a:pt x="16346" y="8756"/>
                </a:cubicBezTo>
                <a:cubicBezTo>
                  <a:pt x="16280" y="8801"/>
                  <a:pt x="16216" y="8843"/>
                  <a:pt x="16148" y="8880"/>
                </a:cubicBezTo>
                <a:cubicBezTo>
                  <a:pt x="16118" y="8896"/>
                  <a:pt x="16129" y="8890"/>
                  <a:pt x="16098" y="8905"/>
                </a:cubicBezTo>
              </a:path>
              <a:path w="5409" h="1614">
                <a:moveTo>
                  <a:pt x="18976" y="7615"/>
                </a:moveTo>
                <a:cubicBezTo>
                  <a:pt x="18998" y="7638"/>
                  <a:pt x="19003" y="7646"/>
                  <a:pt x="19025" y="7640"/>
                </a:cubicBezTo>
                <a:cubicBezTo>
                  <a:pt x="19042" y="7653"/>
                  <a:pt x="19067" y="7672"/>
                  <a:pt x="19100" y="7689"/>
                </a:cubicBezTo>
                <a:cubicBezTo>
                  <a:pt x="19124" y="7702"/>
                  <a:pt x="19173" y="7731"/>
                  <a:pt x="19199" y="7739"/>
                </a:cubicBezTo>
                <a:cubicBezTo>
                  <a:pt x="19207" y="7739"/>
                  <a:pt x="19216" y="7739"/>
                  <a:pt x="19224" y="7739"/>
                </a:cubicBezTo>
                <a:cubicBezTo>
                  <a:pt x="19253" y="7774"/>
                  <a:pt x="19235" y="7779"/>
                  <a:pt x="19298" y="7813"/>
                </a:cubicBezTo>
                <a:cubicBezTo>
                  <a:pt x="19332" y="7831"/>
                  <a:pt x="19390" y="7844"/>
                  <a:pt x="19422" y="7863"/>
                </a:cubicBezTo>
                <a:cubicBezTo>
                  <a:pt x="19477" y="7895"/>
                  <a:pt x="19535" y="7933"/>
                  <a:pt x="19571" y="7962"/>
                </a:cubicBezTo>
                <a:cubicBezTo>
                  <a:pt x="19644" y="7988"/>
                  <a:pt x="19661" y="7999"/>
                  <a:pt x="19720" y="8037"/>
                </a:cubicBezTo>
                <a:cubicBezTo>
                  <a:pt x="19750" y="8056"/>
                  <a:pt x="19818" y="8069"/>
                  <a:pt x="19844" y="8086"/>
                </a:cubicBezTo>
                <a:cubicBezTo>
                  <a:pt x="19887" y="8114"/>
                  <a:pt x="19927" y="8131"/>
                  <a:pt x="19968" y="8161"/>
                </a:cubicBezTo>
                <a:cubicBezTo>
                  <a:pt x="20013" y="8193"/>
                  <a:pt x="20022" y="8192"/>
                  <a:pt x="20067" y="8210"/>
                </a:cubicBezTo>
                <a:cubicBezTo>
                  <a:pt x="20093" y="8226"/>
                  <a:pt x="20124" y="8254"/>
                  <a:pt x="20166" y="8285"/>
                </a:cubicBezTo>
                <a:cubicBezTo>
                  <a:pt x="20219" y="8324"/>
                  <a:pt x="20287" y="8345"/>
                  <a:pt x="20340" y="8384"/>
                </a:cubicBezTo>
                <a:cubicBezTo>
                  <a:pt x="20369" y="8405"/>
                  <a:pt x="20388" y="8419"/>
                  <a:pt x="20414" y="8434"/>
                </a:cubicBezTo>
                <a:cubicBezTo>
                  <a:pt x="20422" y="8438"/>
                  <a:pt x="20464" y="8470"/>
                  <a:pt x="20489" y="8483"/>
                </a:cubicBezTo>
                <a:cubicBezTo>
                  <a:pt x="20522" y="8501"/>
                  <a:pt x="20560" y="8501"/>
                  <a:pt x="20588" y="8533"/>
                </a:cubicBezTo>
                <a:cubicBezTo>
                  <a:pt x="20588" y="8541"/>
                  <a:pt x="20588" y="8550"/>
                  <a:pt x="20588" y="8558"/>
                </a:cubicBezTo>
                <a:cubicBezTo>
                  <a:pt x="20623" y="8573"/>
                  <a:pt x="20678" y="8589"/>
                  <a:pt x="20712" y="8607"/>
                </a:cubicBezTo>
                <a:cubicBezTo>
                  <a:pt x="20774" y="8641"/>
                  <a:pt x="20804" y="8668"/>
                  <a:pt x="20861" y="8706"/>
                </a:cubicBezTo>
                <a:cubicBezTo>
                  <a:pt x="20885" y="8722"/>
                  <a:pt x="20931" y="8741"/>
                  <a:pt x="20960" y="8756"/>
                </a:cubicBezTo>
                <a:cubicBezTo>
                  <a:pt x="21001" y="8777"/>
                  <a:pt x="21038" y="8805"/>
                  <a:pt x="21084" y="8830"/>
                </a:cubicBezTo>
                <a:cubicBezTo>
                  <a:pt x="21125" y="8853"/>
                  <a:pt x="21184" y="8855"/>
                  <a:pt x="21233" y="8880"/>
                </a:cubicBezTo>
                <a:cubicBezTo>
                  <a:pt x="21281" y="8905"/>
                  <a:pt x="21334" y="8932"/>
                  <a:pt x="21382" y="8954"/>
                </a:cubicBezTo>
                <a:cubicBezTo>
                  <a:pt x="21404" y="8977"/>
                  <a:pt x="21409" y="8985"/>
                  <a:pt x="21431" y="8979"/>
                </a:cubicBezTo>
              </a:path>
              <a:path w="5409" h="1614">
                <a:moveTo>
                  <a:pt x="16123" y="8930"/>
                </a:moveTo>
                <a:cubicBezTo>
                  <a:pt x="16202" y="8930"/>
                  <a:pt x="16280" y="8930"/>
                  <a:pt x="16346" y="8930"/>
                </a:cubicBezTo>
                <a:cubicBezTo>
                  <a:pt x="16411" y="8930"/>
                  <a:pt x="16469" y="8910"/>
                  <a:pt x="16520" y="8905"/>
                </a:cubicBezTo>
                <a:cubicBezTo>
                  <a:pt x="16748" y="8880"/>
                  <a:pt x="16994" y="8912"/>
                  <a:pt x="17214" y="8930"/>
                </a:cubicBezTo>
                <a:cubicBezTo>
                  <a:pt x="17272" y="8935"/>
                  <a:pt x="17342" y="8950"/>
                  <a:pt x="17388" y="8954"/>
                </a:cubicBezTo>
                <a:cubicBezTo>
                  <a:pt x="17470" y="8962"/>
                  <a:pt x="17557" y="8972"/>
                  <a:pt x="17636" y="8979"/>
                </a:cubicBezTo>
                <a:cubicBezTo>
                  <a:pt x="17705" y="8985"/>
                  <a:pt x="17770" y="8999"/>
                  <a:pt x="17835" y="9004"/>
                </a:cubicBezTo>
                <a:cubicBezTo>
                  <a:pt x="17909" y="9010"/>
                  <a:pt x="17989" y="9023"/>
                  <a:pt x="18058" y="9029"/>
                </a:cubicBezTo>
                <a:cubicBezTo>
                  <a:pt x="18129" y="9035"/>
                  <a:pt x="18197" y="9042"/>
                  <a:pt x="18256" y="9054"/>
                </a:cubicBezTo>
                <a:cubicBezTo>
                  <a:pt x="18303" y="9063"/>
                  <a:pt x="18359" y="9074"/>
                  <a:pt x="18405" y="9079"/>
                </a:cubicBezTo>
                <a:cubicBezTo>
                  <a:pt x="18470" y="9086"/>
                  <a:pt x="18518" y="9091"/>
                  <a:pt x="18579" y="9103"/>
                </a:cubicBezTo>
                <a:cubicBezTo>
                  <a:pt x="18626" y="9112"/>
                  <a:pt x="18682" y="9124"/>
                  <a:pt x="18728" y="9128"/>
                </a:cubicBezTo>
                <a:cubicBezTo>
                  <a:pt x="18817" y="9137"/>
                  <a:pt x="18917" y="9147"/>
                  <a:pt x="19000" y="9153"/>
                </a:cubicBezTo>
                <a:cubicBezTo>
                  <a:pt x="19067" y="9158"/>
                  <a:pt x="19138" y="9173"/>
                  <a:pt x="19199" y="9178"/>
                </a:cubicBezTo>
                <a:cubicBezTo>
                  <a:pt x="19259" y="9183"/>
                  <a:pt x="19377" y="9205"/>
                  <a:pt x="19422" y="9203"/>
                </a:cubicBezTo>
                <a:cubicBezTo>
                  <a:pt x="19475" y="9200"/>
                  <a:pt x="19491" y="9181"/>
                  <a:pt x="19546" y="9178"/>
                </a:cubicBezTo>
                <a:cubicBezTo>
                  <a:pt x="19587" y="9176"/>
                  <a:pt x="19639" y="9207"/>
                  <a:pt x="19670" y="9203"/>
                </a:cubicBezTo>
                <a:cubicBezTo>
                  <a:pt x="19732" y="9195"/>
                  <a:pt x="19775" y="9178"/>
                  <a:pt x="19844" y="9178"/>
                </a:cubicBezTo>
                <a:cubicBezTo>
                  <a:pt x="19954" y="9178"/>
                  <a:pt x="20064" y="9160"/>
                  <a:pt x="20166" y="9153"/>
                </a:cubicBezTo>
                <a:cubicBezTo>
                  <a:pt x="20249" y="9147"/>
                  <a:pt x="20338" y="9134"/>
                  <a:pt x="20414" y="9128"/>
                </a:cubicBezTo>
                <a:cubicBezTo>
                  <a:pt x="20470" y="9124"/>
                  <a:pt x="20546" y="9106"/>
                  <a:pt x="20588" y="9103"/>
                </a:cubicBezTo>
                <a:cubicBezTo>
                  <a:pt x="20873" y="9080"/>
                  <a:pt x="21241" y="9071"/>
                  <a:pt x="21506" y="9128"/>
                </a:cubicBezTo>
                <a:cubicBezTo>
                  <a:pt x="21504" y="9128"/>
                  <a:pt x="21409" y="9113"/>
                  <a:pt x="21357" y="9103"/>
                </a:cubicBezTo>
              </a:path>
              <a:path w="5409" h="1614">
                <a:moveTo>
                  <a:pt x="17512" y="7913"/>
                </a:moveTo>
                <a:cubicBezTo>
                  <a:pt x="17560" y="7897"/>
                  <a:pt x="17535" y="7881"/>
                  <a:pt x="17512" y="7863"/>
                </a:cubicBezTo>
                <a:cubicBezTo>
                  <a:pt x="17504" y="7855"/>
                  <a:pt x="17495" y="7846"/>
                  <a:pt x="17487" y="7838"/>
                </a:cubicBezTo>
                <a:cubicBezTo>
                  <a:pt x="17506" y="7914"/>
                  <a:pt x="17570" y="8013"/>
                  <a:pt x="17611" y="8086"/>
                </a:cubicBezTo>
                <a:cubicBezTo>
                  <a:pt x="17680" y="8209"/>
                  <a:pt x="17735" y="8310"/>
                  <a:pt x="17835" y="8409"/>
                </a:cubicBezTo>
              </a:path>
              <a:path w="5409" h="1614">
                <a:moveTo>
                  <a:pt x="20216" y="7987"/>
                </a:moveTo>
                <a:cubicBezTo>
                  <a:pt x="20278" y="7987"/>
                  <a:pt x="20084" y="8075"/>
                  <a:pt x="20067" y="8086"/>
                </a:cubicBezTo>
                <a:cubicBezTo>
                  <a:pt x="19992" y="8133"/>
                  <a:pt x="19902" y="8231"/>
                  <a:pt x="19844" y="8260"/>
                </a:cubicBezTo>
                <a:cubicBezTo>
                  <a:pt x="19805" y="8279"/>
                  <a:pt x="19802" y="8335"/>
                  <a:pt x="19769" y="8384"/>
                </a:cubicBezTo>
                <a:cubicBezTo>
                  <a:pt x="19761" y="8392"/>
                  <a:pt x="19753" y="8401"/>
                  <a:pt x="19745" y="840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3160" y="6045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32" y="16793"/>
                </a:moveTo>
                <a:lnTo>
                  <a:pt x="2232" y="16793"/>
                </a:lnTo>
                <a:lnTo>
                  <a:pt x="2232" y="16793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calene triangle: three sides of different lengths (no sides are the same)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3809880"/>
            <a:ext cx="1218960" cy="99072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809880"/>
            <a:ext cx="2819520" cy="129564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276720" y="4800240"/>
            <a:ext cx="4038480" cy="30492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3040" y="64152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30720" y="3813120"/>
            <a:ext cx="4108320" cy="1330560"/>
          </a:xfrm>
          <a:custGeom>
            <a:avLst/>
            <a:gdLst/>
            <a:ahLst/>
            <a:rect l="l" t="t" r="r" b="b"/>
            <a:pathLst>
              <a:path w="11411" h="3697">
                <a:moveTo>
                  <a:pt x="12402" y="10592"/>
                </a:moveTo>
                <a:cubicBezTo>
                  <a:pt x="12410" y="10592"/>
                  <a:pt x="12419" y="10592"/>
                  <a:pt x="12427" y="10592"/>
                </a:cubicBezTo>
                <a:cubicBezTo>
                  <a:pt x="12406" y="10612"/>
                  <a:pt x="12367" y="10660"/>
                  <a:pt x="12328" y="10691"/>
                </a:cubicBezTo>
                <a:cubicBezTo>
                  <a:pt x="12267" y="10740"/>
                  <a:pt x="12188" y="10766"/>
                  <a:pt x="12129" y="10815"/>
                </a:cubicBezTo>
                <a:cubicBezTo>
                  <a:pt x="12088" y="10849"/>
                  <a:pt x="12070" y="10865"/>
                  <a:pt x="12030" y="10889"/>
                </a:cubicBezTo>
                <a:cubicBezTo>
                  <a:pt x="11982" y="10918"/>
                  <a:pt x="11952" y="10934"/>
                  <a:pt x="11906" y="10964"/>
                </a:cubicBezTo>
                <a:cubicBezTo>
                  <a:pt x="11881" y="10980"/>
                  <a:pt x="11825" y="10997"/>
                  <a:pt x="11807" y="11013"/>
                </a:cubicBezTo>
                <a:cubicBezTo>
                  <a:pt x="11774" y="11043"/>
                  <a:pt x="11755" y="11071"/>
                  <a:pt x="11733" y="11088"/>
                </a:cubicBezTo>
                <a:cubicBezTo>
                  <a:pt x="11696" y="11116"/>
                  <a:pt x="11668" y="11125"/>
                  <a:pt x="11633" y="11162"/>
                </a:cubicBezTo>
                <a:cubicBezTo>
                  <a:pt x="11591" y="11207"/>
                  <a:pt x="11551" y="11254"/>
                  <a:pt x="11509" y="11311"/>
                </a:cubicBezTo>
                <a:cubicBezTo>
                  <a:pt x="11476" y="11355"/>
                  <a:pt x="11439" y="11404"/>
                  <a:pt x="11410" y="11435"/>
                </a:cubicBezTo>
                <a:cubicBezTo>
                  <a:pt x="11388" y="11455"/>
                  <a:pt x="11338" y="11488"/>
                  <a:pt x="11311" y="11509"/>
                </a:cubicBezTo>
                <a:cubicBezTo>
                  <a:pt x="11269" y="11543"/>
                  <a:pt x="11232" y="11579"/>
                  <a:pt x="11187" y="11609"/>
                </a:cubicBezTo>
                <a:cubicBezTo>
                  <a:pt x="11154" y="11631"/>
                  <a:pt x="11119" y="11640"/>
                  <a:pt x="11088" y="11658"/>
                </a:cubicBezTo>
                <a:cubicBezTo>
                  <a:pt x="11066" y="11671"/>
                  <a:pt x="11025" y="11711"/>
                  <a:pt x="10988" y="11733"/>
                </a:cubicBezTo>
                <a:cubicBezTo>
                  <a:pt x="10944" y="11759"/>
                  <a:pt x="10893" y="11806"/>
                  <a:pt x="10864" y="11832"/>
                </a:cubicBezTo>
                <a:cubicBezTo>
                  <a:pt x="10835" y="11858"/>
                  <a:pt x="10786" y="11887"/>
                  <a:pt x="10765" y="11906"/>
                </a:cubicBezTo>
                <a:cubicBezTo>
                  <a:pt x="10690" y="11973"/>
                  <a:pt x="10616" y="12038"/>
                  <a:pt x="10542" y="12105"/>
                </a:cubicBezTo>
                <a:cubicBezTo>
                  <a:pt x="10502" y="12141"/>
                  <a:pt x="10441" y="12185"/>
                  <a:pt x="10393" y="12229"/>
                </a:cubicBezTo>
                <a:cubicBezTo>
                  <a:pt x="10322" y="12294"/>
                  <a:pt x="10235" y="12407"/>
                  <a:pt x="10170" y="12452"/>
                </a:cubicBezTo>
                <a:cubicBezTo>
                  <a:pt x="10120" y="12487"/>
                  <a:pt x="10050" y="12516"/>
                  <a:pt x="9996" y="12551"/>
                </a:cubicBezTo>
                <a:cubicBezTo>
                  <a:pt x="9928" y="12595"/>
                  <a:pt x="9858" y="12647"/>
                  <a:pt x="9798" y="12700"/>
                </a:cubicBezTo>
                <a:cubicBezTo>
                  <a:pt x="9759" y="12734"/>
                  <a:pt x="9678" y="12769"/>
                  <a:pt x="9649" y="12799"/>
                </a:cubicBezTo>
                <a:cubicBezTo>
                  <a:pt x="9611" y="12839"/>
                  <a:pt x="9559" y="12884"/>
                  <a:pt x="9525" y="12923"/>
                </a:cubicBezTo>
                <a:cubicBezTo>
                  <a:pt x="9497" y="12955"/>
                  <a:pt x="9467" y="13024"/>
                  <a:pt x="9426" y="13072"/>
                </a:cubicBezTo>
                <a:cubicBezTo>
                  <a:pt x="9404" y="13098"/>
                  <a:pt x="9331" y="13152"/>
                  <a:pt x="9302" y="13196"/>
                </a:cubicBezTo>
                <a:cubicBezTo>
                  <a:pt x="9286" y="13220"/>
                  <a:pt x="9271" y="13266"/>
                  <a:pt x="9252" y="13295"/>
                </a:cubicBezTo>
              </a:path>
              <a:path w="11411" h="3697">
                <a:moveTo>
                  <a:pt x="12452" y="10666"/>
                </a:moveTo>
                <a:cubicBezTo>
                  <a:pt x="12452" y="10658"/>
                  <a:pt x="12452" y="10649"/>
                  <a:pt x="12452" y="10641"/>
                </a:cubicBezTo>
                <a:cubicBezTo>
                  <a:pt x="12497" y="10665"/>
                  <a:pt x="12555" y="10691"/>
                  <a:pt x="12601" y="10716"/>
                </a:cubicBezTo>
                <a:cubicBezTo>
                  <a:pt x="12688" y="10764"/>
                  <a:pt x="12789" y="10791"/>
                  <a:pt x="12874" y="10840"/>
                </a:cubicBezTo>
                <a:cubicBezTo>
                  <a:pt x="12889" y="10849"/>
                  <a:pt x="12942" y="10898"/>
                  <a:pt x="12973" y="10914"/>
                </a:cubicBezTo>
                <a:cubicBezTo>
                  <a:pt x="13004" y="10930"/>
                  <a:pt x="13039" y="10947"/>
                  <a:pt x="13072" y="10964"/>
                </a:cubicBezTo>
                <a:cubicBezTo>
                  <a:pt x="13154" y="11005"/>
                  <a:pt x="13243" y="11053"/>
                  <a:pt x="13320" y="11088"/>
                </a:cubicBezTo>
                <a:cubicBezTo>
                  <a:pt x="13377" y="11114"/>
                  <a:pt x="13439" y="11138"/>
                  <a:pt x="13494" y="11162"/>
                </a:cubicBezTo>
                <a:cubicBezTo>
                  <a:pt x="13608" y="11212"/>
                  <a:pt x="13736" y="11262"/>
                  <a:pt x="13841" y="11311"/>
                </a:cubicBezTo>
                <a:cubicBezTo>
                  <a:pt x="13954" y="11364"/>
                  <a:pt x="14058" y="11427"/>
                  <a:pt x="14163" y="11485"/>
                </a:cubicBezTo>
                <a:cubicBezTo>
                  <a:pt x="14238" y="11526"/>
                  <a:pt x="14337" y="11564"/>
                  <a:pt x="14412" y="11609"/>
                </a:cubicBezTo>
                <a:cubicBezTo>
                  <a:pt x="14468" y="11643"/>
                  <a:pt x="14460" y="11650"/>
                  <a:pt x="14511" y="11683"/>
                </a:cubicBezTo>
                <a:cubicBezTo>
                  <a:pt x="14548" y="11707"/>
                  <a:pt x="14572" y="11730"/>
                  <a:pt x="14610" y="11757"/>
                </a:cubicBezTo>
                <a:cubicBezTo>
                  <a:pt x="14681" y="11808"/>
                  <a:pt x="14693" y="11819"/>
                  <a:pt x="14759" y="11857"/>
                </a:cubicBezTo>
                <a:cubicBezTo>
                  <a:pt x="14798" y="11879"/>
                  <a:pt x="14842" y="11887"/>
                  <a:pt x="14883" y="11906"/>
                </a:cubicBezTo>
                <a:cubicBezTo>
                  <a:pt x="14925" y="11925"/>
                  <a:pt x="14967" y="11963"/>
                  <a:pt x="15007" y="11981"/>
                </a:cubicBezTo>
                <a:cubicBezTo>
                  <a:pt x="15060" y="12005"/>
                  <a:pt x="15120" y="12024"/>
                  <a:pt x="15180" y="12055"/>
                </a:cubicBezTo>
                <a:cubicBezTo>
                  <a:pt x="15355" y="12145"/>
                  <a:pt x="15529" y="12230"/>
                  <a:pt x="15701" y="12303"/>
                </a:cubicBezTo>
                <a:cubicBezTo>
                  <a:pt x="15779" y="12336"/>
                  <a:pt x="15855" y="12399"/>
                  <a:pt x="15925" y="12427"/>
                </a:cubicBezTo>
                <a:cubicBezTo>
                  <a:pt x="16001" y="12457"/>
                  <a:pt x="16075" y="12473"/>
                  <a:pt x="16148" y="12502"/>
                </a:cubicBezTo>
                <a:cubicBezTo>
                  <a:pt x="16235" y="12536"/>
                  <a:pt x="16315" y="12593"/>
                  <a:pt x="16396" y="12626"/>
                </a:cubicBezTo>
                <a:cubicBezTo>
                  <a:pt x="16436" y="12642"/>
                  <a:pt x="16483" y="12659"/>
                  <a:pt x="16520" y="12675"/>
                </a:cubicBezTo>
                <a:cubicBezTo>
                  <a:pt x="16568" y="12695"/>
                  <a:pt x="16624" y="12706"/>
                  <a:pt x="16669" y="12725"/>
                </a:cubicBezTo>
                <a:cubicBezTo>
                  <a:pt x="16717" y="12746"/>
                  <a:pt x="16772" y="12755"/>
                  <a:pt x="16818" y="12774"/>
                </a:cubicBezTo>
                <a:cubicBezTo>
                  <a:pt x="16874" y="12797"/>
                  <a:pt x="16928" y="12822"/>
                  <a:pt x="16991" y="12849"/>
                </a:cubicBezTo>
                <a:cubicBezTo>
                  <a:pt x="17056" y="12877"/>
                  <a:pt x="17098" y="12899"/>
                  <a:pt x="17165" y="12923"/>
                </a:cubicBezTo>
                <a:cubicBezTo>
                  <a:pt x="17222" y="12943"/>
                  <a:pt x="17282" y="12952"/>
                  <a:pt x="17338" y="12973"/>
                </a:cubicBezTo>
                <a:cubicBezTo>
                  <a:pt x="17421" y="13005"/>
                  <a:pt x="17501" y="13047"/>
                  <a:pt x="17587" y="13072"/>
                </a:cubicBezTo>
                <a:cubicBezTo>
                  <a:pt x="17677" y="13099"/>
                  <a:pt x="17748" y="13107"/>
                  <a:pt x="17835" y="13146"/>
                </a:cubicBezTo>
                <a:cubicBezTo>
                  <a:pt x="17906" y="13178"/>
                  <a:pt x="17979" y="13238"/>
                  <a:pt x="18058" y="13271"/>
                </a:cubicBezTo>
                <a:cubicBezTo>
                  <a:pt x="18143" y="13307"/>
                  <a:pt x="18224" y="13336"/>
                  <a:pt x="18306" y="13370"/>
                </a:cubicBezTo>
                <a:cubicBezTo>
                  <a:pt x="18363" y="13393"/>
                  <a:pt x="18420" y="13419"/>
                  <a:pt x="18479" y="13444"/>
                </a:cubicBezTo>
                <a:cubicBezTo>
                  <a:pt x="18550" y="13474"/>
                  <a:pt x="18629" y="13512"/>
                  <a:pt x="18703" y="13543"/>
                </a:cubicBezTo>
                <a:cubicBezTo>
                  <a:pt x="18763" y="13568"/>
                  <a:pt x="18834" y="13594"/>
                  <a:pt x="18901" y="13618"/>
                </a:cubicBezTo>
                <a:cubicBezTo>
                  <a:pt x="18934" y="13630"/>
                  <a:pt x="18967" y="13632"/>
                  <a:pt x="19000" y="13643"/>
                </a:cubicBezTo>
                <a:cubicBezTo>
                  <a:pt x="19050" y="13660"/>
                  <a:pt x="19103" y="13675"/>
                  <a:pt x="19149" y="13692"/>
                </a:cubicBezTo>
                <a:cubicBezTo>
                  <a:pt x="19255" y="13732"/>
                  <a:pt x="19371" y="13776"/>
                  <a:pt x="19472" y="13816"/>
                </a:cubicBezTo>
                <a:cubicBezTo>
                  <a:pt x="19537" y="13842"/>
                  <a:pt x="19579" y="13867"/>
                  <a:pt x="19645" y="13891"/>
                </a:cubicBezTo>
                <a:cubicBezTo>
                  <a:pt x="19694" y="13909"/>
                  <a:pt x="19745" y="13923"/>
                  <a:pt x="19794" y="13940"/>
                </a:cubicBezTo>
                <a:cubicBezTo>
                  <a:pt x="19833" y="13954"/>
                  <a:pt x="19880" y="13954"/>
                  <a:pt x="19918" y="13965"/>
                </a:cubicBezTo>
                <a:cubicBezTo>
                  <a:pt x="19963" y="13978"/>
                  <a:pt x="20016" y="14000"/>
                  <a:pt x="20067" y="14015"/>
                </a:cubicBezTo>
                <a:cubicBezTo>
                  <a:pt x="20106" y="14026"/>
                  <a:pt x="20153" y="14023"/>
                  <a:pt x="20191" y="14039"/>
                </a:cubicBezTo>
                <a:cubicBezTo>
                  <a:pt x="20217" y="14050"/>
                  <a:pt x="20189" y="14054"/>
                  <a:pt x="20216" y="14064"/>
                </a:cubicBezTo>
              </a:path>
              <a:path w="11411" h="3697">
                <a:moveTo>
                  <a:pt x="9277" y="13419"/>
                </a:moveTo>
                <a:cubicBezTo>
                  <a:pt x="9451" y="13419"/>
                  <a:pt x="9633" y="13437"/>
                  <a:pt x="9798" y="13444"/>
                </a:cubicBezTo>
                <a:cubicBezTo>
                  <a:pt x="9845" y="13446"/>
                  <a:pt x="9867" y="13443"/>
                  <a:pt x="9897" y="13444"/>
                </a:cubicBezTo>
                <a:cubicBezTo>
                  <a:pt x="9951" y="13447"/>
                  <a:pt x="10000" y="13438"/>
                  <a:pt x="10071" y="13444"/>
                </a:cubicBezTo>
                <a:cubicBezTo>
                  <a:pt x="10124" y="13449"/>
                  <a:pt x="10190" y="13459"/>
                  <a:pt x="10244" y="13469"/>
                </a:cubicBezTo>
                <a:cubicBezTo>
                  <a:pt x="10302" y="13480"/>
                  <a:pt x="10360" y="13510"/>
                  <a:pt x="10418" y="13519"/>
                </a:cubicBezTo>
                <a:cubicBezTo>
                  <a:pt x="10494" y="13531"/>
                  <a:pt x="10565" y="13533"/>
                  <a:pt x="10641" y="13543"/>
                </a:cubicBezTo>
                <a:cubicBezTo>
                  <a:pt x="10707" y="13552"/>
                  <a:pt x="10770" y="13559"/>
                  <a:pt x="10840" y="13568"/>
                </a:cubicBezTo>
                <a:cubicBezTo>
                  <a:pt x="10936" y="13580"/>
                  <a:pt x="11041" y="13602"/>
                  <a:pt x="11137" y="13618"/>
                </a:cubicBezTo>
                <a:cubicBezTo>
                  <a:pt x="11216" y="13631"/>
                  <a:pt x="11304" y="13652"/>
                  <a:pt x="11385" y="13667"/>
                </a:cubicBezTo>
                <a:cubicBezTo>
                  <a:pt x="11467" y="13682"/>
                  <a:pt x="11550" y="13703"/>
                  <a:pt x="11633" y="13717"/>
                </a:cubicBezTo>
                <a:cubicBezTo>
                  <a:pt x="11701" y="13728"/>
                  <a:pt x="11765" y="13730"/>
                  <a:pt x="11832" y="13742"/>
                </a:cubicBezTo>
                <a:cubicBezTo>
                  <a:pt x="11915" y="13757"/>
                  <a:pt x="11995" y="13777"/>
                  <a:pt x="12080" y="13791"/>
                </a:cubicBezTo>
                <a:cubicBezTo>
                  <a:pt x="12170" y="13806"/>
                  <a:pt x="12263" y="13829"/>
                  <a:pt x="12353" y="13841"/>
                </a:cubicBezTo>
                <a:cubicBezTo>
                  <a:pt x="12469" y="13857"/>
                  <a:pt x="12583" y="13854"/>
                  <a:pt x="12700" y="13866"/>
                </a:cubicBezTo>
                <a:cubicBezTo>
                  <a:pt x="12816" y="13878"/>
                  <a:pt x="12931" y="13907"/>
                  <a:pt x="13047" y="13915"/>
                </a:cubicBezTo>
                <a:cubicBezTo>
                  <a:pt x="13201" y="13926"/>
                  <a:pt x="13345" y="13954"/>
                  <a:pt x="13494" y="13965"/>
                </a:cubicBezTo>
                <a:cubicBezTo>
                  <a:pt x="13661" y="13977"/>
                  <a:pt x="13822" y="13988"/>
                  <a:pt x="13990" y="13990"/>
                </a:cubicBezTo>
                <a:cubicBezTo>
                  <a:pt x="14167" y="13992"/>
                  <a:pt x="14337" y="13998"/>
                  <a:pt x="14511" y="14015"/>
                </a:cubicBezTo>
                <a:cubicBezTo>
                  <a:pt x="14594" y="14023"/>
                  <a:pt x="14677" y="14035"/>
                  <a:pt x="14759" y="14039"/>
                </a:cubicBezTo>
                <a:cubicBezTo>
                  <a:pt x="14992" y="14050"/>
                  <a:pt x="15224" y="14030"/>
                  <a:pt x="15453" y="14064"/>
                </a:cubicBezTo>
                <a:cubicBezTo>
                  <a:pt x="15563" y="14081"/>
                  <a:pt x="15667" y="14101"/>
                  <a:pt x="15776" y="14114"/>
                </a:cubicBezTo>
                <a:cubicBezTo>
                  <a:pt x="15909" y="14130"/>
                  <a:pt x="16038" y="14137"/>
                  <a:pt x="16173" y="14139"/>
                </a:cubicBezTo>
                <a:cubicBezTo>
                  <a:pt x="16366" y="14142"/>
                  <a:pt x="16553" y="14146"/>
                  <a:pt x="16743" y="14163"/>
                </a:cubicBezTo>
                <a:cubicBezTo>
                  <a:pt x="16851" y="14172"/>
                  <a:pt x="16960" y="14204"/>
                  <a:pt x="17066" y="14213"/>
                </a:cubicBezTo>
                <a:cubicBezTo>
                  <a:pt x="17158" y="14221"/>
                  <a:pt x="17252" y="14228"/>
                  <a:pt x="17338" y="14238"/>
                </a:cubicBezTo>
                <a:cubicBezTo>
                  <a:pt x="17437" y="14250"/>
                  <a:pt x="17536" y="14251"/>
                  <a:pt x="17636" y="14263"/>
                </a:cubicBezTo>
                <a:cubicBezTo>
                  <a:pt x="17721" y="14273"/>
                  <a:pt x="17797" y="14284"/>
                  <a:pt x="17884" y="14288"/>
                </a:cubicBezTo>
                <a:cubicBezTo>
                  <a:pt x="18259" y="14304"/>
                  <a:pt x="18629" y="14267"/>
                  <a:pt x="19000" y="14263"/>
                </a:cubicBezTo>
                <a:cubicBezTo>
                  <a:pt x="19185" y="14261"/>
                  <a:pt x="19365" y="14244"/>
                  <a:pt x="19546" y="14238"/>
                </a:cubicBezTo>
                <a:cubicBezTo>
                  <a:pt x="19917" y="14226"/>
                  <a:pt x="20291" y="14238"/>
                  <a:pt x="20662" y="14238"/>
                </a:cubicBezTo>
                <a:cubicBezTo>
                  <a:pt x="20632" y="14218"/>
                  <a:pt x="20619" y="14180"/>
                  <a:pt x="20588" y="14163"/>
                </a:cubicBezTo>
                <a:cubicBezTo>
                  <a:pt x="20529" y="14130"/>
                  <a:pt x="20472" y="14109"/>
                  <a:pt x="20414" y="14089"/>
                </a:cubicBezTo>
                <a:cubicBezTo>
                  <a:pt x="20338" y="14063"/>
                  <a:pt x="20268" y="14052"/>
                  <a:pt x="20191" y="14039"/>
                </a:cubicBezTo>
                <a:cubicBezTo>
                  <a:pt x="20167" y="14035"/>
                  <a:pt x="20141" y="14043"/>
                  <a:pt x="20117" y="1403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assify the triangle by its sid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724280"/>
            <a:ext cx="3171960" cy="679680"/>
          </a:xfrm>
          <a:prstGeom prst="triangle">
            <a:avLst>
              <a:gd name="adj" fmla="val 5608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5486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1320" y="4179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086" y="11609"/>
                </a:moveTo>
                <a:lnTo>
                  <a:pt x="8086" y="11609"/>
                </a:lnTo>
                <a:lnTo>
                  <a:pt x="8086" y="11609"/>
                </a:lnTo>
                <a:lnTo>
                  <a:pt x="8086" y="11609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1320" y="2303640"/>
            <a:ext cx="1187640" cy="304560"/>
          </a:xfrm>
          <a:custGeom>
            <a:avLst/>
            <a:gdLst/>
            <a:ahLst/>
            <a:rect l="l" t="t" r="r" b="b"/>
            <a:pathLst>
              <a:path w="3300" h="844">
                <a:moveTo>
                  <a:pt x="8756" y="6400"/>
                </a:moveTo>
                <a:cubicBezTo>
                  <a:pt x="8756" y="6593"/>
                  <a:pt x="8769" y="6779"/>
                  <a:pt x="8781" y="6970"/>
                </a:cubicBezTo>
                <a:cubicBezTo>
                  <a:pt x="8787" y="7066"/>
                  <a:pt x="8771" y="7107"/>
                  <a:pt x="8756" y="7193"/>
                </a:cubicBezTo>
              </a:path>
              <a:path w="3300" h="844">
                <a:moveTo>
                  <a:pt x="8086" y="6524"/>
                </a:moveTo>
                <a:cubicBezTo>
                  <a:pt x="8427" y="6524"/>
                  <a:pt x="8793" y="6482"/>
                  <a:pt x="9128" y="6499"/>
                </a:cubicBezTo>
                <a:cubicBezTo>
                  <a:pt x="9153" y="6507"/>
                  <a:pt x="9178" y="6516"/>
                  <a:pt x="9203" y="6524"/>
                </a:cubicBezTo>
              </a:path>
              <a:path w="3300" h="844">
                <a:moveTo>
                  <a:pt x="8409" y="7218"/>
                </a:moveTo>
                <a:cubicBezTo>
                  <a:pt x="8644" y="7209"/>
                  <a:pt x="8870" y="7167"/>
                  <a:pt x="9103" y="7144"/>
                </a:cubicBezTo>
                <a:cubicBezTo>
                  <a:pt x="9179" y="7144"/>
                  <a:pt x="9205" y="7144"/>
                  <a:pt x="9252" y="7119"/>
                </a:cubicBezTo>
              </a:path>
              <a:path w="3300" h="844">
                <a:moveTo>
                  <a:pt x="9674" y="6672"/>
                </a:moveTo>
                <a:cubicBezTo>
                  <a:pt x="9514" y="6710"/>
                  <a:pt x="9425" y="6735"/>
                  <a:pt x="9302" y="6846"/>
                </a:cubicBezTo>
                <a:cubicBezTo>
                  <a:pt x="9424" y="6953"/>
                  <a:pt x="9612" y="6922"/>
                  <a:pt x="9773" y="6995"/>
                </a:cubicBezTo>
                <a:cubicBezTo>
                  <a:pt x="9798" y="7012"/>
                  <a:pt x="9822" y="7028"/>
                  <a:pt x="9847" y="7045"/>
                </a:cubicBezTo>
                <a:cubicBezTo>
                  <a:pt x="9724" y="7168"/>
                  <a:pt x="9588" y="7241"/>
                  <a:pt x="9401" y="7193"/>
                </a:cubicBezTo>
                <a:cubicBezTo>
                  <a:pt x="9384" y="7177"/>
                  <a:pt x="9368" y="7160"/>
                  <a:pt x="9351" y="7144"/>
                </a:cubicBezTo>
              </a:path>
              <a:path w="3300" h="844">
                <a:moveTo>
                  <a:pt x="10244" y="6697"/>
                </a:moveTo>
                <a:cubicBezTo>
                  <a:pt x="10118" y="6788"/>
                  <a:pt x="9936" y="6883"/>
                  <a:pt x="9971" y="7069"/>
                </a:cubicBezTo>
                <a:cubicBezTo>
                  <a:pt x="10010" y="7276"/>
                  <a:pt x="10345" y="7198"/>
                  <a:pt x="10468" y="7119"/>
                </a:cubicBezTo>
                <a:cubicBezTo>
                  <a:pt x="10691" y="6975"/>
                  <a:pt x="10594" y="6816"/>
                  <a:pt x="10393" y="6796"/>
                </a:cubicBezTo>
                <a:cubicBezTo>
                  <a:pt x="10360" y="6796"/>
                  <a:pt x="10327" y="6796"/>
                  <a:pt x="10294" y="6796"/>
                </a:cubicBezTo>
              </a:path>
              <a:path w="3300" h="844">
                <a:moveTo>
                  <a:pt x="10939" y="6672"/>
                </a:moveTo>
                <a:cubicBezTo>
                  <a:pt x="10839" y="6704"/>
                  <a:pt x="10764" y="6760"/>
                  <a:pt x="10691" y="6796"/>
                </a:cubicBezTo>
                <a:cubicBezTo>
                  <a:pt x="10822" y="6872"/>
                  <a:pt x="10986" y="6887"/>
                  <a:pt x="11088" y="6995"/>
                </a:cubicBezTo>
                <a:cubicBezTo>
                  <a:pt x="11088" y="7003"/>
                  <a:pt x="11088" y="7012"/>
                  <a:pt x="11088" y="7020"/>
                </a:cubicBezTo>
                <a:cubicBezTo>
                  <a:pt x="10962" y="7120"/>
                  <a:pt x="10854" y="7141"/>
                  <a:pt x="10691" y="7094"/>
                </a:cubicBezTo>
                <a:cubicBezTo>
                  <a:pt x="10683" y="7086"/>
                  <a:pt x="10674" y="7077"/>
                  <a:pt x="10666" y="7069"/>
                </a:cubicBezTo>
              </a:path>
              <a:path w="3300" h="844">
                <a:moveTo>
                  <a:pt x="11361" y="7218"/>
                </a:moveTo>
                <a:cubicBezTo>
                  <a:pt x="11369" y="7226"/>
                  <a:pt x="11377" y="7235"/>
                  <a:pt x="11385" y="724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81120" y="3562200"/>
            <a:ext cx="204840" cy="144720"/>
          </a:xfrm>
          <a:custGeom>
            <a:avLst/>
            <a:gdLst/>
            <a:ahLst/>
            <a:rect l="l" t="t" r="r" b="b"/>
            <a:pathLst>
              <a:path w="572" h="398">
                <a:moveTo>
                  <a:pt x="4688" y="9897"/>
                </a:moveTo>
                <a:cubicBezTo>
                  <a:pt x="4627" y="9897"/>
                  <a:pt x="4638" y="9925"/>
                  <a:pt x="4589" y="9947"/>
                </a:cubicBezTo>
                <a:cubicBezTo>
                  <a:pt x="4564" y="9947"/>
                  <a:pt x="4556" y="9947"/>
                  <a:pt x="4564" y="9971"/>
                </a:cubicBezTo>
                <a:cubicBezTo>
                  <a:pt x="4688" y="9971"/>
                  <a:pt x="4812" y="9971"/>
                  <a:pt x="4936" y="9971"/>
                </a:cubicBezTo>
                <a:cubicBezTo>
                  <a:pt x="4840" y="10019"/>
                  <a:pt x="4750" y="10054"/>
                  <a:pt x="4638" y="10096"/>
                </a:cubicBezTo>
                <a:cubicBezTo>
                  <a:pt x="4622" y="10104"/>
                  <a:pt x="4605" y="10112"/>
                  <a:pt x="4589" y="10120"/>
                </a:cubicBezTo>
              </a:path>
              <a:path w="572" h="398">
                <a:moveTo>
                  <a:pt x="4390" y="10195"/>
                </a:moveTo>
                <a:cubicBezTo>
                  <a:pt x="4501" y="10195"/>
                  <a:pt x="4604" y="10177"/>
                  <a:pt x="4713" y="10170"/>
                </a:cubicBezTo>
                <a:cubicBezTo>
                  <a:pt x="4803" y="10164"/>
                  <a:pt x="4873" y="10158"/>
                  <a:pt x="4961" y="10145"/>
                </a:cubicBezTo>
                <a:cubicBezTo>
                  <a:pt x="4836" y="10145"/>
                  <a:pt x="4680" y="10157"/>
                  <a:pt x="4564" y="10195"/>
                </a:cubicBezTo>
                <a:cubicBezTo>
                  <a:pt x="4454" y="10250"/>
                  <a:pt x="4435" y="10243"/>
                  <a:pt x="4390" y="10294"/>
                </a:cubicBezTo>
                <a:cubicBezTo>
                  <a:pt x="4512" y="10254"/>
                  <a:pt x="4646" y="10178"/>
                  <a:pt x="4762" y="1012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760" y="2741760"/>
            <a:ext cx="107640" cy="54000"/>
          </a:xfrm>
          <a:custGeom>
            <a:avLst/>
            <a:gdLst/>
            <a:ahLst/>
            <a:rect l="l" t="t" r="r" b="b"/>
            <a:pathLst>
              <a:path w="298" h="150">
                <a:moveTo>
                  <a:pt x="1439" y="7615"/>
                </a:moveTo>
                <a:cubicBezTo>
                  <a:pt x="1537" y="7675"/>
                  <a:pt x="1360" y="7664"/>
                  <a:pt x="1290" y="7689"/>
                </a:cubicBezTo>
                <a:cubicBezTo>
                  <a:pt x="1144" y="7741"/>
                  <a:pt x="1410" y="7670"/>
                  <a:pt x="1439" y="7665"/>
                </a:cubicBezTo>
                <a:cubicBezTo>
                  <a:pt x="1455" y="7665"/>
                  <a:pt x="1472" y="7665"/>
                  <a:pt x="1488" y="7665"/>
                </a:cubicBezTo>
                <a:cubicBezTo>
                  <a:pt x="1402" y="7665"/>
                  <a:pt x="1250" y="7674"/>
                  <a:pt x="1191" y="7739"/>
                </a:cubicBezTo>
                <a:cubicBezTo>
                  <a:pt x="1144" y="7791"/>
                  <a:pt x="1320" y="7751"/>
                  <a:pt x="1389" y="773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76840" y="2374920"/>
            <a:ext cx="250920" cy="9360"/>
          </a:xfrm>
          <a:custGeom>
            <a:avLst/>
            <a:gdLst/>
            <a:ahLst/>
            <a:rect l="l" t="t" r="r" b="b"/>
            <a:pathLst>
              <a:path w="695" h="26">
                <a:moveTo>
                  <a:pt x="13271" y="6598"/>
                </a:moveTo>
                <a:cubicBezTo>
                  <a:pt x="13466" y="6598"/>
                  <a:pt x="13677" y="6633"/>
                  <a:pt x="13866" y="6623"/>
                </a:cubicBezTo>
                <a:cubicBezTo>
                  <a:pt x="13926" y="6603"/>
                  <a:pt x="13941" y="6584"/>
                  <a:pt x="13965" y="662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31000" y="2367000"/>
            <a:ext cx="206280" cy="17280"/>
          </a:xfrm>
          <a:custGeom>
            <a:avLst/>
            <a:gdLst/>
            <a:ahLst/>
            <a:rect l="l" t="t" r="r" b="b"/>
            <a:pathLst>
              <a:path w="571" h="51">
                <a:moveTo>
                  <a:pt x="19000" y="6598"/>
                </a:moveTo>
                <a:cubicBezTo>
                  <a:pt x="18906" y="6565"/>
                  <a:pt x="19066" y="6597"/>
                  <a:pt x="19075" y="6598"/>
                </a:cubicBezTo>
                <a:cubicBezTo>
                  <a:pt x="19182" y="6606"/>
                  <a:pt x="19470" y="6572"/>
                  <a:pt x="19546" y="6623"/>
                </a:cubicBezTo>
                <a:cubicBezTo>
                  <a:pt x="19538" y="6623"/>
                  <a:pt x="19529" y="6623"/>
                  <a:pt x="19521" y="662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03920" y="3652920"/>
            <a:ext cx="189000" cy="17280"/>
          </a:xfrm>
          <a:custGeom>
            <a:avLst/>
            <a:gdLst/>
            <a:ahLst/>
            <a:rect l="l" t="t" r="r" b="b"/>
            <a:pathLst>
              <a:path w="522" h="51">
                <a:moveTo>
                  <a:pt x="16123" y="10170"/>
                </a:moveTo>
                <a:cubicBezTo>
                  <a:pt x="16277" y="10192"/>
                  <a:pt x="16390" y="10161"/>
                  <a:pt x="16545" y="10145"/>
                </a:cubicBezTo>
                <a:cubicBezTo>
                  <a:pt x="16603" y="10145"/>
                  <a:pt x="16611" y="10145"/>
                  <a:pt x="16644" y="1014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27880" y="3402000"/>
            <a:ext cx="857160" cy="706320"/>
          </a:xfrm>
          <a:custGeom>
            <a:avLst/>
            <a:gdLst/>
            <a:ahLst/>
            <a:rect l="l" t="t" r="r" b="b"/>
            <a:pathLst>
              <a:path w="2382" h="1960">
                <a:moveTo>
                  <a:pt x="18231" y="10145"/>
                </a:moveTo>
                <a:cubicBezTo>
                  <a:pt x="18351" y="10111"/>
                  <a:pt x="18484" y="10064"/>
                  <a:pt x="18604" y="10021"/>
                </a:cubicBezTo>
                <a:cubicBezTo>
                  <a:pt x="18620" y="10013"/>
                  <a:pt x="18637" y="10004"/>
                  <a:pt x="18653" y="9996"/>
                </a:cubicBezTo>
                <a:cubicBezTo>
                  <a:pt x="18636" y="9945"/>
                  <a:pt x="18508" y="9877"/>
                  <a:pt x="18455" y="9847"/>
                </a:cubicBezTo>
                <a:cubicBezTo>
                  <a:pt x="18318" y="9770"/>
                  <a:pt x="18179" y="9788"/>
                  <a:pt x="18132" y="9971"/>
                </a:cubicBezTo>
                <a:cubicBezTo>
                  <a:pt x="18091" y="10133"/>
                  <a:pt x="18143" y="10404"/>
                  <a:pt x="18355" y="10393"/>
                </a:cubicBezTo>
                <a:cubicBezTo>
                  <a:pt x="18521" y="10346"/>
                  <a:pt x="18572" y="10332"/>
                  <a:pt x="18678" y="10294"/>
                </a:cubicBezTo>
              </a:path>
              <a:path w="2382" h="1960">
                <a:moveTo>
                  <a:pt x="19273" y="9823"/>
                </a:moveTo>
                <a:cubicBezTo>
                  <a:pt x="19197" y="9798"/>
                  <a:pt x="19140" y="9758"/>
                  <a:pt x="19050" y="9798"/>
                </a:cubicBezTo>
                <a:cubicBezTo>
                  <a:pt x="18899" y="9865"/>
                  <a:pt x="18867" y="10132"/>
                  <a:pt x="18926" y="10269"/>
                </a:cubicBezTo>
                <a:cubicBezTo>
                  <a:pt x="18998" y="10436"/>
                  <a:pt x="19202" y="10361"/>
                  <a:pt x="19273" y="10244"/>
                </a:cubicBezTo>
                <a:cubicBezTo>
                  <a:pt x="19300" y="10200"/>
                  <a:pt x="19323" y="9909"/>
                  <a:pt x="19323" y="10021"/>
                </a:cubicBezTo>
                <a:cubicBezTo>
                  <a:pt x="19323" y="10317"/>
                  <a:pt x="19291" y="10621"/>
                  <a:pt x="19298" y="10914"/>
                </a:cubicBezTo>
                <a:cubicBezTo>
                  <a:pt x="19305" y="11232"/>
                  <a:pt x="19363" y="11404"/>
                  <a:pt x="19670" y="11361"/>
                </a:cubicBezTo>
                <a:cubicBezTo>
                  <a:pt x="19770" y="11117"/>
                  <a:pt x="19776" y="11021"/>
                  <a:pt x="19571" y="10840"/>
                </a:cubicBezTo>
                <a:cubicBezTo>
                  <a:pt x="19456" y="10747"/>
                  <a:pt x="19424" y="10721"/>
                  <a:pt x="19348" y="10666"/>
                </a:cubicBezTo>
              </a:path>
              <a:path w="2382" h="1960">
                <a:moveTo>
                  <a:pt x="19546" y="9922"/>
                </a:moveTo>
                <a:cubicBezTo>
                  <a:pt x="19546" y="10020"/>
                  <a:pt x="19493" y="10267"/>
                  <a:pt x="19621" y="10319"/>
                </a:cubicBezTo>
                <a:cubicBezTo>
                  <a:pt x="19797" y="10391"/>
                  <a:pt x="19927" y="10143"/>
                  <a:pt x="19968" y="10021"/>
                </a:cubicBezTo>
                <a:cubicBezTo>
                  <a:pt x="19999" y="9930"/>
                  <a:pt x="20005" y="9872"/>
                  <a:pt x="19968" y="9798"/>
                </a:cubicBezTo>
                <a:cubicBezTo>
                  <a:pt x="19983" y="9916"/>
                  <a:pt x="20011" y="10075"/>
                  <a:pt x="20092" y="10170"/>
                </a:cubicBezTo>
                <a:cubicBezTo>
                  <a:pt x="20166" y="10220"/>
                  <a:pt x="20191" y="10237"/>
                  <a:pt x="20241" y="10170"/>
                </a:cubicBezTo>
              </a:path>
              <a:path w="2382" h="1960">
                <a:moveTo>
                  <a:pt x="20439" y="9723"/>
                </a:moveTo>
                <a:cubicBezTo>
                  <a:pt x="20439" y="9877"/>
                  <a:pt x="20452" y="10020"/>
                  <a:pt x="20489" y="10170"/>
                </a:cubicBezTo>
                <a:cubicBezTo>
                  <a:pt x="20507" y="10227"/>
                  <a:pt x="20515" y="10270"/>
                  <a:pt x="20513" y="10220"/>
                </a:cubicBezTo>
              </a:path>
              <a:path w="2382" h="1960">
                <a:moveTo>
                  <a:pt x="20265" y="9451"/>
                </a:moveTo>
                <a:cubicBezTo>
                  <a:pt x="20293" y="9451"/>
                  <a:pt x="20304" y="9453"/>
                  <a:pt x="20315" y="947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45240" y="3652920"/>
            <a:ext cx="1800" cy="7920"/>
          </a:xfrm>
          <a:custGeom>
            <a:avLst/>
            <a:gdLst/>
            <a:ahLst/>
            <a:rect l="l" t="t" r="r" b="b"/>
            <a:pathLst>
              <a:path w="1" h="26">
                <a:moveTo>
                  <a:pt x="20960" y="10145"/>
                </a:moveTo>
                <a:cubicBezTo>
                  <a:pt x="20960" y="10153"/>
                  <a:pt x="20960" y="10162"/>
                  <a:pt x="20960" y="1017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72120" y="4786200"/>
            <a:ext cx="1081080" cy="401760"/>
          </a:xfrm>
          <a:custGeom>
            <a:avLst/>
            <a:gdLst/>
            <a:ahLst/>
            <a:rect l="l" t="t" r="r" b="b"/>
            <a:pathLst>
              <a:path w="3003" h="1118">
                <a:moveTo>
                  <a:pt x="17388" y="13816"/>
                </a:moveTo>
                <a:cubicBezTo>
                  <a:pt x="17460" y="13792"/>
                  <a:pt x="17348" y="13776"/>
                  <a:pt x="17314" y="13767"/>
                </a:cubicBezTo>
                <a:cubicBezTo>
                  <a:pt x="17173" y="13730"/>
                  <a:pt x="17054" y="13766"/>
                  <a:pt x="16966" y="13891"/>
                </a:cubicBezTo>
                <a:cubicBezTo>
                  <a:pt x="16950" y="13924"/>
                  <a:pt x="16933" y="13957"/>
                  <a:pt x="16917" y="13990"/>
                </a:cubicBezTo>
                <a:cubicBezTo>
                  <a:pt x="17042" y="14073"/>
                  <a:pt x="17144" y="13988"/>
                  <a:pt x="17289" y="14015"/>
                </a:cubicBezTo>
                <a:cubicBezTo>
                  <a:pt x="17452" y="14045"/>
                  <a:pt x="17554" y="14179"/>
                  <a:pt x="17413" y="14312"/>
                </a:cubicBezTo>
                <a:cubicBezTo>
                  <a:pt x="17268" y="14449"/>
                  <a:pt x="17019" y="14450"/>
                  <a:pt x="16892" y="14288"/>
                </a:cubicBezTo>
                <a:cubicBezTo>
                  <a:pt x="16864" y="14176"/>
                  <a:pt x="16864" y="14134"/>
                  <a:pt x="16966" y="14089"/>
                </a:cubicBezTo>
              </a:path>
              <a:path w="3003" h="1118">
                <a:moveTo>
                  <a:pt x="17934" y="13816"/>
                </a:moveTo>
                <a:cubicBezTo>
                  <a:pt x="18073" y="13934"/>
                  <a:pt x="17919" y="13735"/>
                  <a:pt x="17884" y="13717"/>
                </a:cubicBezTo>
                <a:cubicBezTo>
                  <a:pt x="17868" y="13717"/>
                  <a:pt x="17851" y="13717"/>
                  <a:pt x="17835" y="13717"/>
                </a:cubicBezTo>
                <a:cubicBezTo>
                  <a:pt x="17732" y="13896"/>
                  <a:pt x="17628" y="14064"/>
                  <a:pt x="17760" y="14263"/>
                </a:cubicBezTo>
                <a:cubicBezTo>
                  <a:pt x="17887" y="14453"/>
                  <a:pt x="18050" y="14340"/>
                  <a:pt x="18207" y="14288"/>
                </a:cubicBezTo>
              </a:path>
              <a:path w="3003" h="1118">
                <a:moveTo>
                  <a:pt x="18678" y="13990"/>
                </a:moveTo>
                <a:cubicBezTo>
                  <a:pt x="18678" y="13902"/>
                  <a:pt x="18674" y="13795"/>
                  <a:pt x="18554" y="13791"/>
                </a:cubicBezTo>
                <a:cubicBezTo>
                  <a:pt x="18345" y="13784"/>
                  <a:pt x="18228" y="14039"/>
                  <a:pt x="18256" y="14213"/>
                </a:cubicBezTo>
                <a:cubicBezTo>
                  <a:pt x="18273" y="14246"/>
                  <a:pt x="18289" y="14279"/>
                  <a:pt x="18306" y="14312"/>
                </a:cubicBezTo>
                <a:cubicBezTo>
                  <a:pt x="18488" y="14323"/>
                  <a:pt x="18622" y="14271"/>
                  <a:pt x="18678" y="14064"/>
                </a:cubicBezTo>
                <a:cubicBezTo>
                  <a:pt x="18694" y="14005"/>
                  <a:pt x="18641" y="13875"/>
                  <a:pt x="18678" y="14039"/>
                </a:cubicBezTo>
                <a:cubicBezTo>
                  <a:pt x="18714" y="14101"/>
                  <a:pt x="18825" y="14383"/>
                  <a:pt x="18951" y="14337"/>
                </a:cubicBezTo>
                <a:cubicBezTo>
                  <a:pt x="19048" y="14240"/>
                  <a:pt x="19088" y="14188"/>
                  <a:pt x="19124" y="14089"/>
                </a:cubicBezTo>
              </a:path>
              <a:path w="3003" h="1118">
                <a:moveTo>
                  <a:pt x="19000" y="13295"/>
                </a:moveTo>
                <a:cubicBezTo>
                  <a:pt x="19021" y="13501"/>
                  <a:pt x="19071" y="13690"/>
                  <a:pt x="19124" y="13891"/>
                </a:cubicBezTo>
                <a:cubicBezTo>
                  <a:pt x="19168" y="14057"/>
                  <a:pt x="19201" y="14241"/>
                  <a:pt x="19298" y="14387"/>
                </a:cubicBezTo>
                <a:cubicBezTo>
                  <a:pt x="19321" y="14410"/>
                  <a:pt x="19329" y="14421"/>
                  <a:pt x="19323" y="14387"/>
                </a:cubicBezTo>
              </a:path>
              <a:path w="3003" h="1118">
                <a:moveTo>
                  <a:pt x="19794" y="14163"/>
                </a:moveTo>
                <a:cubicBezTo>
                  <a:pt x="19710" y="14257"/>
                  <a:pt x="19706" y="14245"/>
                  <a:pt x="19695" y="14362"/>
                </a:cubicBezTo>
                <a:cubicBezTo>
                  <a:pt x="19785" y="14392"/>
                  <a:pt x="19896" y="14405"/>
                  <a:pt x="19869" y="14263"/>
                </a:cubicBezTo>
                <a:cubicBezTo>
                  <a:pt x="19839" y="14233"/>
                  <a:pt x="19825" y="14222"/>
                  <a:pt x="19794" y="142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ify the triangles by its sid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) 12in, 3in, 3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) 9cm, 9cm, 9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) 14m, 7m, 14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) 3in, 6in, 7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241280" y="4830840"/>
            <a:ext cx="401760" cy="19080"/>
          </a:xfrm>
          <a:custGeom>
            <a:avLst/>
            <a:gdLst/>
            <a:ahLst/>
            <a:rect l="l" t="t" r="r" b="b"/>
            <a:pathLst>
              <a:path w="1117" h="51">
                <a:moveTo>
                  <a:pt x="3473" y="13469"/>
                </a:moveTo>
                <a:cubicBezTo>
                  <a:pt x="3423" y="13469"/>
                  <a:pt x="3795" y="13444"/>
                  <a:pt x="3795" y="13444"/>
                </a:cubicBezTo>
                <a:cubicBezTo>
                  <a:pt x="4036" y="13417"/>
                  <a:pt x="4272" y="13419"/>
                  <a:pt x="4514" y="13419"/>
                </a:cubicBezTo>
                <a:cubicBezTo>
                  <a:pt x="4557" y="13419"/>
                  <a:pt x="4552" y="13409"/>
                  <a:pt x="4564" y="1344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84200" y="3705120"/>
            <a:ext cx="982800" cy="260280"/>
          </a:xfrm>
          <a:custGeom>
            <a:avLst/>
            <a:gdLst/>
            <a:ahLst/>
            <a:rect l="l" t="t" r="r" b="b"/>
            <a:pathLst>
              <a:path w="2729" h="720">
                <a:moveTo>
                  <a:pt x="6102" y="10964"/>
                </a:moveTo>
                <a:cubicBezTo>
                  <a:pt x="6202" y="10983"/>
                  <a:pt x="6292" y="10988"/>
                  <a:pt x="6400" y="10988"/>
                </a:cubicBezTo>
                <a:cubicBezTo>
                  <a:pt x="6483" y="10988"/>
                  <a:pt x="6504" y="10999"/>
                  <a:pt x="6573" y="11013"/>
                </a:cubicBezTo>
              </a:path>
              <a:path w="2729" h="720">
                <a:moveTo>
                  <a:pt x="3845" y="10443"/>
                </a:moveTo>
                <a:cubicBezTo>
                  <a:pt x="4009" y="10443"/>
                  <a:pt x="4156" y="10385"/>
                  <a:pt x="4316" y="10344"/>
                </a:cubicBezTo>
                <a:cubicBezTo>
                  <a:pt x="4345" y="10336"/>
                  <a:pt x="4657" y="10238"/>
                  <a:pt x="4713" y="10294"/>
                </a:cubicBezTo>
                <a:cubicBezTo>
                  <a:pt x="4747" y="10328"/>
                  <a:pt x="4647" y="10319"/>
                  <a:pt x="4638" y="1031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41720" y="3616200"/>
            <a:ext cx="231480" cy="36720"/>
          </a:xfrm>
          <a:custGeom>
            <a:avLst/>
            <a:gdLst/>
            <a:ahLst/>
            <a:rect l="l" t="t" r="r" b="b"/>
            <a:pathLst>
              <a:path w="646" h="100">
                <a:moveTo>
                  <a:pt x="6276" y="10145"/>
                </a:moveTo>
                <a:cubicBezTo>
                  <a:pt x="6156" y="10145"/>
                  <a:pt x="6323" y="10123"/>
                  <a:pt x="6350" y="10120"/>
                </a:cubicBezTo>
                <a:cubicBezTo>
                  <a:pt x="6456" y="10106"/>
                  <a:pt x="6775" y="10003"/>
                  <a:pt x="6871" y="10046"/>
                </a:cubicBezTo>
                <a:cubicBezTo>
                  <a:pt x="6871" y="10054"/>
                  <a:pt x="6871" y="10063"/>
                  <a:pt x="6871" y="1007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89160" y="3598920"/>
            <a:ext cx="295560" cy="36360"/>
          </a:xfrm>
          <a:custGeom>
            <a:avLst/>
            <a:gdLst/>
            <a:ahLst/>
            <a:rect l="l" t="t" r="r" b="b"/>
            <a:pathLst>
              <a:path w="820" h="101">
                <a:moveTo>
                  <a:pt x="8607" y="10071"/>
                </a:moveTo>
                <a:cubicBezTo>
                  <a:pt x="8599" y="10071"/>
                  <a:pt x="8590" y="10071"/>
                  <a:pt x="8582" y="10071"/>
                </a:cubicBezTo>
                <a:cubicBezTo>
                  <a:pt x="8670" y="10124"/>
                  <a:pt x="8775" y="10053"/>
                  <a:pt x="8880" y="10046"/>
                </a:cubicBezTo>
                <a:cubicBezTo>
                  <a:pt x="9047" y="10035"/>
                  <a:pt x="9224" y="10034"/>
                  <a:pt x="9376" y="9996"/>
                </a:cubicBezTo>
                <a:cubicBezTo>
                  <a:pt x="9401" y="9996"/>
                  <a:pt x="9409" y="9996"/>
                  <a:pt x="9401" y="1002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720" y="2455920"/>
            <a:ext cx="214200" cy="125280"/>
          </a:xfrm>
          <a:custGeom>
            <a:avLst/>
            <a:gdLst/>
            <a:ahLst/>
            <a:rect l="l" t="t" r="r" b="b"/>
            <a:pathLst>
              <a:path w="596" h="349">
                <a:moveTo>
                  <a:pt x="6276" y="7144"/>
                </a:moveTo>
                <a:cubicBezTo>
                  <a:pt x="6352" y="7134"/>
                  <a:pt x="6424" y="7117"/>
                  <a:pt x="6499" y="7094"/>
                </a:cubicBezTo>
                <a:cubicBezTo>
                  <a:pt x="6556" y="7075"/>
                  <a:pt x="6563" y="7066"/>
                  <a:pt x="6598" y="7069"/>
                </a:cubicBezTo>
                <a:cubicBezTo>
                  <a:pt x="6509" y="7120"/>
                  <a:pt x="6381" y="7151"/>
                  <a:pt x="6276" y="7169"/>
                </a:cubicBezTo>
                <a:cubicBezTo>
                  <a:pt x="6259" y="7169"/>
                  <a:pt x="6243" y="7169"/>
                  <a:pt x="6226" y="7169"/>
                </a:cubicBezTo>
                <a:cubicBezTo>
                  <a:pt x="6287" y="7154"/>
                  <a:pt x="6388" y="7122"/>
                  <a:pt x="6449" y="7094"/>
                </a:cubicBezTo>
                <a:cubicBezTo>
                  <a:pt x="6472" y="7071"/>
                  <a:pt x="6476" y="7063"/>
                  <a:pt x="6499" y="7069"/>
                </a:cubicBezTo>
              </a:path>
              <a:path w="596" h="349">
                <a:moveTo>
                  <a:pt x="6052" y="6846"/>
                </a:moveTo>
                <a:cubicBezTo>
                  <a:pt x="6188" y="6846"/>
                  <a:pt x="6314" y="6830"/>
                  <a:pt x="6449" y="6821"/>
                </a:cubicBezTo>
                <a:cubicBezTo>
                  <a:pt x="6532" y="6821"/>
                  <a:pt x="6548" y="6821"/>
                  <a:pt x="6598" y="6821"/>
                </a:cubicBezTo>
                <a:cubicBezTo>
                  <a:pt x="6449" y="6840"/>
                  <a:pt x="6301" y="6846"/>
                  <a:pt x="6152" y="6871"/>
                </a:cubicBezTo>
                <a:cubicBezTo>
                  <a:pt x="6086" y="6882"/>
                  <a:pt x="5985" y="6896"/>
                  <a:pt x="6052" y="6896"/>
                </a:cubicBezTo>
                <a:cubicBezTo>
                  <a:pt x="6152" y="6856"/>
                  <a:pt x="6355" y="6806"/>
                  <a:pt x="6474" y="6846"/>
                </a:cubicBezTo>
                <a:cubicBezTo>
                  <a:pt x="6474" y="6854"/>
                  <a:pt x="6474" y="6863"/>
                  <a:pt x="6474" y="687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90880" y="2438280"/>
            <a:ext cx="260280" cy="196920"/>
          </a:xfrm>
          <a:custGeom>
            <a:avLst/>
            <a:gdLst/>
            <a:ahLst/>
            <a:rect l="l" t="t" r="r" b="b"/>
            <a:pathLst>
              <a:path w="720" h="546">
                <a:moveTo>
                  <a:pt x="8632" y="7268"/>
                </a:moveTo>
                <a:cubicBezTo>
                  <a:pt x="8591" y="7268"/>
                  <a:pt x="8517" y="7268"/>
                  <a:pt x="8558" y="7268"/>
                </a:cubicBezTo>
                <a:cubicBezTo>
                  <a:pt x="8715" y="7268"/>
                  <a:pt x="8872" y="7268"/>
                  <a:pt x="9029" y="7268"/>
                </a:cubicBezTo>
                <a:cubicBezTo>
                  <a:pt x="8913" y="7285"/>
                  <a:pt x="8785" y="7309"/>
                  <a:pt x="8657" y="7317"/>
                </a:cubicBezTo>
                <a:cubicBezTo>
                  <a:pt x="8552" y="7323"/>
                  <a:pt x="8457" y="7319"/>
                  <a:pt x="8359" y="7293"/>
                </a:cubicBezTo>
                <a:cubicBezTo>
                  <a:pt x="8440" y="7277"/>
                  <a:pt x="8528" y="7224"/>
                  <a:pt x="8607" y="7193"/>
                </a:cubicBezTo>
                <a:cubicBezTo>
                  <a:pt x="8736" y="7142"/>
                  <a:pt x="8384" y="7102"/>
                  <a:pt x="8334" y="7094"/>
                </a:cubicBezTo>
                <a:cubicBezTo>
                  <a:pt x="8285" y="7086"/>
                  <a:pt x="8586" y="7000"/>
                  <a:pt x="8607" y="6995"/>
                </a:cubicBezTo>
                <a:cubicBezTo>
                  <a:pt x="8698" y="6977"/>
                  <a:pt x="8739" y="7002"/>
                  <a:pt x="8731" y="6945"/>
                </a:cubicBezTo>
                <a:cubicBezTo>
                  <a:pt x="8648" y="6945"/>
                  <a:pt x="8566" y="6945"/>
                  <a:pt x="8483" y="6945"/>
                </a:cubicBezTo>
                <a:cubicBezTo>
                  <a:pt x="8533" y="6931"/>
                  <a:pt x="8919" y="6822"/>
                  <a:pt x="8781" y="6796"/>
                </a:cubicBezTo>
                <a:cubicBezTo>
                  <a:pt x="8657" y="6796"/>
                  <a:pt x="8616" y="6796"/>
                  <a:pt x="8533" y="6796"/>
                </a:cubicBezTo>
                <a:cubicBezTo>
                  <a:pt x="8369" y="6796"/>
                  <a:pt x="8533" y="6783"/>
                  <a:pt x="8582" y="677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71960" y="2062080"/>
            <a:ext cx="1125360" cy="287280"/>
          </a:xfrm>
          <a:custGeom>
            <a:avLst/>
            <a:gdLst/>
            <a:ahLst/>
            <a:rect l="l" t="t" r="r" b="b"/>
            <a:pathLst>
              <a:path w="3126" h="795">
                <a:moveTo>
                  <a:pt x="12055" y="5953"/>
                </a:moveTo>
                <a:cubicBezTo>
                  <a:pt x="12055" y="5928"/>
                  <a:pt x="12055" y="5920"/>
                  <a:pt x="12055" y="5904"/>
                </a:cubicBezTo>
                <a:cubicBezTo>
                  <a:pt x="12001" y="6063"/>
                  <a:pt x="12063" y="6232"/>
                  <a:pt x="12055" y="6400"/>
                </a:cubicBezTo>
                <a:cubicBezTo>
                  <a:pt x="12047" y="6433"/>
                  <a:pt x="12038" y="6466"/>
                  <a:pt x="12030" y="6499"/>
                </a:cubicBezTo>
              </a:path>
              <a:path w="3126" h="795">
                <a:moveTo>
                  <a:pt x="11311" y="5779"/>
                </a:moveTo>
                <a:cubicBezTo>
                  <a:pt x="11529" y="5737"/>
                  <a:pt x="11757" y="5733"/>
                  <a:pt x="11981" y="5730"/>
                </a:cubicBezTo>
                <a:cubicBezTo>
                  <a:pt x="12002" y="5730"/>
                  <a:pt x="12530" y="5706"/>
                  <a:pt x="12526" y="5755"/>
                </a:cubicBezTo>
                <a:cubicBezTo>
                  <a:pt x="12510" y="5771"/>
                  <a:pt x="12493" y="5788"/>
                  <a:pt x="12477" y="5804"/>
                </a:cubicBezTo>
              </a:path>
              <a:path w="3126" h="795">
                <a:moveTo>
                  <a:pt x="11410" y="6524"/>
                </a:moveTo>
                <a:cubicBezTo>
                  <a:pt x="11684" y="6516"/>
                  <a:pt x="11955" y="6480"/>
                  <a:pt x="12229" y="6474"/>
                </a:cubicBezTo>
                <a:cubicBezTo>
                  <a:pt x="12321" y="6472"/>
                  <a:pt x="12350" y="6483"/>
                  <a:pt x="12427" y="6449"/>
                </a:cubicBezTo>
              </a:path>
              <a:path w="3126" h="795">
                <a:moveTo>
                  <a:pt x="13246" y="6077"/>
                </a:moveTo>
                <a:cubicBezTo>
                  <a:pt x="13089" y="6041"/>
                  <a:pt x="12977" y="6045"/>
                  <a:pt x="12824" y="6102"/>
                </a:cubicBezTo>
                <a:cubicBezTo>
                  <a:pt x="12807" y="6110"/>
                  <a:pt x="12791" y="6119"/>
                  <a:pt x="12774" y="6127"/>
                </a:cubicBezTo>
                <a:cubicBezTo>
                  <a:pt x="12907" y="6149"/>
                  <a:pt x="13049" y="6192"/>
                  <a:pt x="13171" y="6251"/>
                </a:cubicBezTo>
                <a:cubicBezTo>
                  <a:pt x="13242" y="6297"/>
                  <a:pt x="13267" y="6309"/>
                  <a:pt x="13246" y="6375"/>
                </a:cubicBezTo>
                <a:cubicBezTo>
                  <a:pt x="13110" y="6471"/>
                  <a:pt x="12943" y="6522"/>
                  <a:pt x="12774" y="6424"/>
                </a:cubicBezTo>
                <a:cubicBezTo>
                  <a:pt x="12766" y="6408"/>
                  <a:pt x="12758" y="6391"/>
                  <a:pt x="12750" y="6375"/>
                </a:cubicBezTo>
              </a:path>
              <a:path w="3126" h="795">
                <a:moveTo>
                  <a:pt x="13692" y="6077"/>
                </a:moveTo>
                <a:cubicBezTo>
                  <a:pt x="13563" y="6041"/>
                  <a:pt x="13488" y="6062"/>
                  <a:pt x="13419" y="6201"/>
                </a:cubicBezTo>
                <a:cubicBezTo>
                  <a:pt x="13335" y="6371"/>
                  <a:pt x="13420" y="6499"/>
                  <a:pt x="13593" y="6524"/>
                </a:cubicBezTo>
                <a:cubicBezTo>
                  <a:pt x="13805" y="6555"/>
                  <a:pt x="13974" y="6455"/>
                  <a:pt x="13940" y="6226"/>
                </a:cubicBezTo>
                <a:cubicBezTo>
                  <a:pt x="13917" y="6069"/>
                  <a:pt x="13840" y="6071"/>
                  <a:pt x="13717" y="6052"/>
                </a:cubicBezTo>
              </a:path>
              <a:path w="3126" h="795">
                <a:moveTo>
                  <a:pt x="14387" y="6400"/>
                </a:moveTo>
                <a:cubicBezTo>
                  <a:pt x="14415" y="6400"/>
                  <a:pt x="14425" y="6402"/>
                  <a:pt x="14436" y="642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133800"/>
            <a:ext cx="1063800" cy="652320"/>
          </a:xfrm>
          <a:custGeom>
            <a:avLst/>
            <a:gdLst/>
            <a:ahLst/>
            <a:rect l="l" t="t" r="r" b="b"/>
            <a:pathLst>
              <a:path w="2953" h="1812">
                <a:moveTo>
                  <a:pt x="13122" y="8756"/>
                </a:moveTo>
                <a:cubicBezTo>
                  <a:pt x="13095" y="8676"/>
                  <a:pt x="12942" y="8838"/>
                  <a:pt x="12923" y="8855"/>
                </a:cubicBezTo>
                <a:cubicBezTo>
                  <a:pt x="12880" y="8894"/>
                  <a:pt x="12522" y="9220"/>
                  <a:pt x="12774" y="9252"/>
                </a:cubicBezTo>
                <a:cubicBezTo>
                  <a:pt x="12925" y="9227"/>
                  <a:pt x="12976" y="9218"/>
                  <a:pt x="13072" y="9178"/>
                </a:cubicBezTo>
                <a:cubicBezTo>
                  <a:pt x="13089" y="9170"/>
                  <a:pt x="13105" y="9161"/>
                  <a:pt x="13122" y="9153"/>
                </a:cubicBezTo>
                <a:cubicBezTo>
                  <a:pt x="12984" y="9236"/>
                  <a:pt x="12834" y="9341"/>
                  <a:pt x="12774" y="9500"/>
                </a:cubicBezTo>
                <a:cubicBezTo>
                  <a:pt x="12753" y="9633"/>
                  <a:pt x="12741" y="9667"/>
                  <a:pt x="12774" y="9748"/>
                </a:cubicBezTo>
                <a:cubicBezTo>
                  <a:pt x="13016" y="9800"/>
                  <a:pt x="13079" y="9705"/>
                  <a:pt x="13271" y="9550"/>
                </a:cubicBezTo>
              </a:path>
              <a:path w="2953" h="1812">
                <a:moveTo>
                  <a:pt x="13742" y="9128"/>
                </a:moveTo>
                <a:cubicBezTo>
                  <a:pt x="13597" y="9096"/>
                  <a:pt x="13502" y="9211"/>
                  <a:pt x="13444" y="9351"/>
                </a:cubicBezTo>
                <a:cubicBezTo>
                  <a:pt x="13371" y="9528"/>
                  <a:pt x="13527" y="9657"/>
                  <a:pt x="13692" y="9599"/>
                </a:cubicBezTo>
                <a:cubicBezTo>
                  <a:pt x="13785" y="9566"/>
                  <a:pt x="13811" y="9470"/>
                  <a:pt x="13866" y="9401"/>
                </a:cubicBezTo>
                <a:cubicBezTo>
                  <a:pt x="13866" y="9700"/>
                  <a:pt x="13789" y="10110"/>
                  <a:pt x="13891" y="10393"/>
                </a:cubicBezTo>
                <a:cubicBezTo>
                  <a:pt x="13956" y="10480"/>
                  <a:pt x="13966" y="10508"/>
                  <a:pt x="14039" y="10517"/>
                </a:cubicBezTo>
                <a:cubicBezTo>
                  <a:pt x="14179" y="10290"/>
                  <a:pt x="14235" y="10090"/>
                  <a:pt x="14015" y="9897"/>
                </a:cubicBezTo>
                <a:cubicBezTo>
                  <a:pt x="13929" y="9833"/>
                  <a:pt x="13912" y="9808"/>
                  <a:pt x="13841" y="9823"/>
                </a:cubicBezTo>
              </a:path>
              <a:path w="2953" h="1812">
                <a:moveTo>
                  <a:pt x="14412" y="9252"/>
                </a:moveTo>
                <a:cubicBezTo>
                  <a:pt x="14507" y="9227"/>
                  <a:pt x="14498" y="9418"/>
                  <a:pt x="14511" y="9500"/>
                </a:cubicBezTo>
                <a:cubicBezTo>
                  <a:pt x="14535" y="9619"/>
                  <a:pt x="14541" y="9655"/>
                  <a:pt x="14585" y="9723"/>
                </a:cubicBezTo>
                <a:cubicBezTo>
                  <a:pt x="14794" y="9691"/>
                  <a:pt x="14857" y="9575"/>
                  <a:pt x="14932" y="9376"/>
                </a:cubicBezTo>
                <a:cubicBezTo>
                  <a:pt x="14972" y="9237"/>
                  <a:pt x="14989" y="9214"/>
                  <a:pt x="14982" y="9128"/>
                </a:cubicBezTo>
                <a:cubicBezTo>
                  <a:pt x="14892" y="9128"/>
                  <a:pt x="14957" y="9383"/>
                  <a:pt x="14982" y="9475"/>
                </a:cubicBezTo>
                <a:cubicBezTo>
                  <a:pt x="15030" y="9649"/>
                  <a:pt x="15038" y="9649"/>
                  <a:pt x="15180" y="9649"/>
                </a:cubicBezTo>
              </a:path>
              <a:path w="2953" h="1812">
                <a:moveTo>
                  <a:pt x="15577" y="9252"/>
                </a:moveTo>
                <a:cubicBezTo>
                  <a:pt x="15591" y="9364"/>
                  <a:pt x="15619" y="9468"/>
                  <a:pt x="15652" y="9575"/>
                </a:cubicBezTo>
              </a:path>
              <a:path w="2953" h="1812">
                <a:moveTo>
                  <a:pt x="15478" y="8706"/>
                </a:moveTo>
                <a:cubicBezTo>
                  <a:pt x="15503" y="8723"/>
                  <a:pt x="15528" y="8739"/>
                  <a:pt x="15553" y="875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84920" y="3394080"/>
            <a:ext cx="9360" cy="17280"/>
          </a:xfrm>
          <a:custGeom>
            <a:avLst/>
            <a:gdLst/>
            <a:ahLst/>
            <a:rect l="l" t="t" r="r" b="b"/>
            <a:pathLst>
              <a:path w="26" h="50">
                <a:moveTo>
                  <a:pt x="16346" y="9426"/>
                </a:moveTo>
                <a:cubicBezTo>
                  <a:pt x="16354" y="9442"/>
                  <a:pt x="16363" y="9459"/>
                  <a:pt x="16371" y="947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81240" y="4813200"/>
            <a:ext cx="330120" cy="36720"/>
          </a:xfrm>
          <a:custGeom>
            <a:avLst/>
            <a:gdLst/>
            <a:ahLst/>
            <a:rect l="l" t="t" r="r" b="b"/>
            <a:pathLst>
              <a:path w="918" h="100">
                <a:moveTo>
                  <a:pt x="8558" y="13469"/>
                </a:moveTo>
                <a:cubicBezTo>
                  <a:pt x="8698" y="13433"/>
                  <a:pt x="8822" y="13430"/>
                  <a:pt x="8979" y="13419"/>
                </a:cubicBezTo>
                <a:cubicBezTo>
                  <a:pt x="9000" y="13417"/>
                  <a:pt x="9479" y="13391"/>
                  <a:pt x="9475" y="13395"/>
                </a:cubicBezTo>
                <a:cubicBezTo>
                  <a:pt x="9459" y="13403"/>
                  <a:pt x="9442" y="13411"/>
                  <a:pt x="9426" y="1341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49800" y="4295880"/>
            <a:ext cx="1332000" cy="258480"/>
          </a:xfrm>
          <a:custGeom>
            <a:avLst/>
            <a:gdLst/>
            <a:ahLst/>
            <a:rect l="l" t="t" r="r" b="b"/>
            <a:pathLst>
              <a:path w="3697" h="720">
                <a:moveTo>
                  <a:pt x="12576" y="12030"/>
                </a:moveTo>
                <a:cubicBezTo>
                  <a:pt x="12596" y="12168"/>
                  <a:pt x="12636" y="12294"/>
                  <a:pt x="12675" y="12427"/>
                </a:cubicBezTo>
                <a:cubicBezTo>
                  <a:pt x="12696" y="12500"/>
                  <a:pt x="12735" y="12571"/>
                  <a:pt x="12675" y="12551"/>
                </a:cubicBezTo>
              </a:path>
              <a:path w="3697" h="720">
                <a:moveTo>
                  <a:pt x="11807" y="12030"/>
                </a:moveTo>
                <a:cubicBezTo>
                  <a:pt x="12146" y="12019"/>
                  <a:pt x="12486" y="11991"/>
                  <a:pt x="12824" y="11956"/>
                </a:cubicBezTo>
                <a:cubicBezTo>
                  <a:pt x="12911" y="11947"/>
                  <a:pt x="13165" y="11848"/>
                  <a:pt x="13097" y="12005"/>
                </a:cubicBezTo>
              </a:path>
              <a:path w="3697" h="720">
                <a:moveTo>
                  <a:pt x="12328" y="12650"/>
                </a:moveTo>
                <a:cubicBezTo>
                  <a:pt x="12563" y="12642"/>
                  <a:pt x="12818" y="12639"/>
                  <a:pt x="13047" y="12576"/>
                </a:cubicBezTo>
                <a:cubicBezTo>
                  <a:pt x="13179" y="12523"/>
                  <a:pt x="13227" y="12501"/>
                  <a:pt x="13295" y="12427"/>
                </a:cubicBezTo>
              </a:path>
              <a:path w="3697" h="720">
                <a:moveTo>
                  <a:pt x="13767" y="12005"/>
                </a:moveTo>
                <a:cubicBezTo>
                  <a:pt x="13590" y="12036"/>
                  <a:pt x="13512" y="12119"/>
                  <a:pt x="13370" y="12229"/>
                </a:cubicBezTo>
                <a:cubicBezTo>
                  <a:pt x="13540" y="12253"/>
                  <a:pt x="13727" y="12276"/>
                  <a:pt x="13891" y="12328"/>
                </a:cubicBezTo>
                <a:cubicBezTo>
                  <a:pt x="13987" y="12377"/>
                  <a:pt x="14020" y="12390"/>
                  <a:pt x="14015" y="12477"/>
                </a:cubicBezTo>
                <a:cubicBezTo>
                  <a:pt x="13830" y="12578"/>
                  <a:pt x="13603" y="12683"/>
                  <a:pt x="13395" y="12551"/>
                </a:cubicBezTo>
                <a:cubicBezTo>
                  <a:pt x="13341" y="12471"/>
                  <a:pt x="13328" y="12440"/>
                  <a:pt x="13395" y="12378"/>
                </a:cubicBezTo>
              </a:path>
              <a:path w="3697" h="720">
                <a:moveTo>
                  <a:pt x="14486" y="12005"/>
                </a:moveTo>
                <a:cubicBezTo>
                  <a:pt x="14308" y="12019"/>
                  <a:pt x="14241" y="12070"/>
                  <a:pt x="14188" y="12254"/>
                </a:cubicBezTo>
                <a:cubicBezTo>
                  <a:pt x="14128" y="12462"/>
                  <a:pt x="14260" y="12617"/>
                  <a:pt x="14486" y="12601"/>
                </a:cubicBezTo>
                <a:cubicBezTo>
                  <a:pt x="14659" y="12589"/>
                  <a:pt x="15036" y="12345"/>
                  <a:pt x="14808" y="12154"/>
                </a:cubicBezTo>
                <a:cubicBezTo>
                  <a:pt x="14709" y="12134"/>
                  <a:pt x="14694" y="12126"/>
                  <a:pt x="14635" y="12129"/>
                </a:cubicBezTo>
              </a:path>
              <a:path w="3697" h="720">
                <a:moveTo>
                  <a:pt x="15503" y="12402"/>
                </a:moveTo>
                <a:lnTo>
                  <a:pt x="15503" y="12402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75080" y="5402160"/>
            <a:ext cx="2162160" cy="376200"/>
          </a:xfrm>
          <a:custGeom>
            <a:avLst/>
            <a:gdLst/>
            <a:ahLst/>
            <a:rect l="l" t="t" r="r" b="b"/>
            <a:pathLst>
              <a:path w="6004" h="1043">
                <a:moveTo>
                  <a:pt x="12750" y="15230"/>
                </a:moveTo>
                <a:cubicBezTo>
                  <a:pt x="12793" y="15230"/>
                  <a:pt x="12775" y="15215"/>
                  <a:pt x="12750" y="15180"/>
                </a:cubicBezTo>
                <a:cubicBezTo>
                  <a:pt x="12666" y="15061"/>
                  <a:pt x="12525" y="15094"/>
                  <a:pt x="12427" y="15180"/>
                </a:cubicBezTo>
                <a:cubicBezTo>
                  <a:pt x="12322" y="15271"/>
                  <a:pt x="12280" y="15380"/>
                  <a:pt x="12254" y="15503"/>
                </a:cubicBezTo>
                <a:cubicBezTo>
                  <a:pt x="12400" y="15592"/>
                  <a:pt x="12552" y="15523"/>
                  <a:pt x="12725" y="15553"/>
                </a:cubicBezTo>
                <a:cubicBezTo>
                  <a:pt x="12915" y="15586"/>
                  <a:pt x="13054" y="15719"/>
                  <a:pt x="12923" y="15900"/>
                </a:cubicBezTo>
                <a:cubicBezTo>
                  <a:pt x="12791" y="16082"/>
                  <a:pt x="12466" y="16107"/>
                  <a:pt x="12278" y="15999"/>
                </a:cubicBezTo>
                <a:cubicBezTo>
                  <a:pt x="12237" y="15958"/>
                  <a:pt x="12195" y="15916"/>
                  <a:pt x="12154" y="15875"/>
                </a:cubicBezTo>
              </a:path>
              <a:path w="6004" h="1043">
                <a:moveTo>
                  <a:pt x="13667" y="15652"/>
                </a:moveTo>
                <a:cubicBezTo>
                  <a:pt x="13667" y="15694"/>
                  <a:pt x="13676" y="15618"/>
                  <a:pt x="13667" y="15577"/>
                </a:cubicBezTo>
                <a:cubicBezTo>
                  <a:pt x="13647" y="15516"/>
                  <a:pt x="13649" y="15502"/>
                  <a:pt x="13618" y="15478"/>
                </a:cubicBezTo>
                <a:cubicBezTo>
                  <a:pt x="13489" y="15507"/>
                  <a:pt x="13404" y="15602"/>
                  <a:pt x="13395" y="15751"/>
                </a:cubicBezTo>
                <a:cubicBezTo>
                  <a:pt x="13376" y="16057"/>
                  <a:pt x="13629" y="16035"/>
                  <a:pt x="13841" y="15974"/>
                </a:cubicBezTo>
                <a:cubicBezTo>
                  <a:pt x="13907" y="15949"/>
                  <a:pt x="13973" y="15925"/>
                  <a:pt x="14039" y="15900"/>
                </a:cubicBezTo>
              </a:path>
              <a:path w="6004" h="1043">
                <a:moveTo>
                  <a:pt x="14635" y="15503"/>
                </a:moveTo>
                <a:cubicBezTo>
                  <a:pt x="14583" y="15424"/>
                  <a:pt x="14454" y="15499"/>
                  <a:pt x="14387" y="15553"/>
                </a:cubicBezTo>
                <a:cubicBezTo>
                  <a:pt x="14265" y="15652"/>
                  <a:pt x="14139" y="15898"/>
                  <a:pt x="14362" y="15974"/>
                </a:cubicBezTo>
                <a:cubicBezTo>
                  <a:pt x="14549" y="16038"/>
                  <a:pt x="14655" y="15800"/>
                  <a:pt x="14635" y="15652"/>
                </a:cubicBezTo>
                <a:cubicBezTo>
                  <a:pt x="14627" y="15644"/>
                  <a:pt x="14618" y="15635"/>
                  <a:pt x="14610" y="15627"/>
                </a:cubicBezTo>
                <a:cubicBezTo>
                  <a:pt x="14652" y="15711"/>
                  <a:pt x="14773" y="15860"/>
                  <a:pt x="14883" y="15875"/>
                </a:cubicBezTo>
                <a:cubicBezTo>
                  <a:pt x="15076" y="15902"/>
                  <a:pt x="15089" y="15691"/>
                  <a:pt x="15131" y="15577"/>
                </a:cubicBezTo>
              </a:path>
              <a:path w="6004" h="1043">
                <a:moveTo>
                  <a:pt x="14908" y="15007"/>
                </a:moveTo>
                <a:cubicBezTo>
                  <a:pt x="14949" y="15175"/>
                  <a:pt x="15031" y="15371"/>
                  <a:pt x="15106" y="15528"/>
                </a:cubicBezTo>
                <a:cubicBezTo>
                  <a:pt x="15172" y="15666"/>
                  <a:pt x="15353" y="15772"/>
                  <a:pt x="15230" y="15825"/>
                </a:cubicBezTo>
              </a:path>
              <a:path w="6004" h="1043">
                <a:moveTo>
                  <a:pt x="15652" y="15627"/>
                </a:moveTo>
                <a:cubicBezTo>
                  <a:pt x="15633" y="15658"/>
                  <a:pt x="15595" y="15723"/>
                  <a:pt x="15652" y="15726"/>
                </a:cubicBezTo>
                <a:cubicBezTo>
                  <a:pt x="15791" y="15734"/>
                  <a:pt x="15712" y="15703"/>
                  <a:pt x="15652" y="15677"/>
                </a:cubicBezTo>
              </a:path>
              <a:path w="6004" h="1043">
                <a:moveTo>
                  <a:pt x="15677" y="15677"/>
                </a:moveTo>
                <a:cubicBezTo>
                  <a:pt x="15733" y="15643"/>
                  <a:pt x="15829" y="15617"/>
                  <a:pt x="15900" y="15602"/>
                </a:cubicBezTo>
                <a:cubicBezTo>
                  <a:pt x="15997" y="15581"/>
                  <a:pt x="16099" y="15563"/>
                  <a:pt x="16197" y="15553"/>
                </a:cubicBezTo>
                <a:cubicBezTo>
                  <a:pt x="16179" y="15460"/>
                  <a:pt x="16096" y="15336"/>
                  <a:pt x="15999" y="15304"/>
                </a:cubicBezTo>
                <a:cubicBezTo>
                  <a:pt x="15833" y="15250"/>
                  <a:pt x="15685" y="15347"/>
                  <a:pt x="15627" y="15503"/>
                </a:cubicBezTo>
                <a:cubicBezTo>
                  <a:pt x="15533" y="15757"/>
                  <a:pt x="15798" y="15900"/>
                  <a:pt x="16024" y="15875"/>
                </a:cubicBezTo>
                <a:cubicBezTo>
                  <a:pt x="16299" y="15844"/>
                  <a:pt x="16383" y="15726"/>
                  <a:pt x="16520" y="15528"/>
                </a:cubicBezTo>
              </a:path>
              <a:path w="6004" h="1043">
                <a:moveTo>
                  <a:pt x="16570" y="15304"/>
                </a:moveTo>
                <a:cubicBezTo>
                  <a:pt x="16674" y="15409"/>
                  <a:pt x="16740" y="15537"/>
                  <a:pt x="16842" y="15652"/>
                </a:cubicBezTo>
                <a:cubicBezTo>
                  <a:pt x="16842" y="15537"/>
                  <a:pt x="16768" y="15450"/>
                  <a:pt x="16768" y="15329"/>
                </a:cubicBezTo>
                <a:cubicBezTo>
                  <a:pt x="16768" y="15137"/>
                  <a:pt x="17045" y="15133"/>
                  <a:pt x="17165" y="15180"/>
                </a:cubicBezTo>
                <a:cubicBezTo>
                  <a:pt x="17421" y="15281"/>
                  <a:pt x="17313" y="15427"/>
                  <a:pt x="17388" y="15577"/>
                </a:cubicBezTo>
                <a:cubicBezTo>
                  <a:pt x="17396" y="15569"/>
                  <a:pt x="17405" y="15561"/>
                  <a:pt x="17413" y="15553"/>
                </a:cubicBezTo>
              </a:path>
              <a:path w="6004" h="1043">
                <a:moveTo>
                  <a:pt x="17686" y="15304"/>
                </a:moveTo>
                <a:cubicBezTo>
                  <a:pt x="17744" y="15304"/>
                  <a:pt x="17888" y="15270"/>
                  <a:pt x="17934" y="15280"/>
                </a:cubicBezTo>
                <a:cubicBezTo>
                  <a:pt x="17934" y="15288"/>
                  <a:pt x="17934" y="15296"/>
                  <a:pt x="17934" y="15304"/>
                </a:cubicBezTo>
                <a:cubicBezTo>
                  <a:pt x="17908" y="15194"/>
                  <a:pt x="17884" y="15106"/>
                  <a:pt x="17835" y="15007"/>
                </a:cubicBezTo>
                <a:cubicBezTo>
                  <a:pt x="17695" y="15069"/>
                  <a:pt x="17608" y="15262"/>
                  <a:pt x="17686" y="15429"/>
                </a:cubicBezTo>
                <a:cubicBezTo>
                  <a:pt x="17779" y="15628"/>
                  <a:pt x="18031" y="15516"/>
                  <a:pt x="18157" y="1545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Vocabular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cute triangle: has all acute ang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3048120"/>
            <a:ext cx="1676520" cy="1523880"/>
          </a:xfrm>
          <a:prstGeom prst="triangle">
            <a:avLst>
              <a:gd name="adj" fmla="val 7253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97320" y="2536920"/>
            <a:ext cx="527040" cy="52200"/>
          </a:xfrm>
          <a:custGeom>
            <a:avLst/>
            <a:gdLst/>
            <a:ahLst/>
            <a:rect l="l" t="t" r="r" b="b"/>
            <a:pathLst>
              <a:path w="1465" h="149">
                <a:moveTo>
                  <a:pt x="14461" y="7045"/>
                </a:moveTo>
                <a:cubicBezTo>
                  <a:pt x="14387" y="7045"/>
                  <a:pt x="14583" y="7045"/>
                  <a:pt x="14585" y="7045"/>
                </a:cubicBezTo>
                <a:cubicBezTo>
                  <a:pt x="14759" y="7045"/>
                  <a:pt x="14932" y="7045"/>
                  <a:pt x="15106" y="7045"/>
                </a:cubicBezTo>
                <a:cubicBezTo>
                  <a:pt x="15202" y="7045"/>
                  <a:pt x="15290" y="7063"/>
                  <a:pt x="15379" y="7069"/>
                </a:cubicBezTo>
                <a:cubicBezTo>
                  <a:pt x="15454" y="7074"/>
                  <a:pt x="15330" y="7069"/>
                  <a:pt x="15255" y="7069"/>
                </a:cubicBezTo>
                <a:cubicBezTo>
                  <a:pt x="15023" y="7069"/>
                  <a:pt x="14793" y="7045"/>
                  <a:pt x="14560" y="7045"/>
                </a:cubicBezTo>
                <a:cubicBezTo>
                  <a:pt x="14449" y="7045"/>
                  <a:pt x="14401" y="7045"/>
                  <a:pt x="14511" y="7045"/>
                </a:cubicBezTo>
                <a:cubicBezTo>
                  <a:pt x="14916" y="7045"/>
                  <a:pt x="15321" y="7045"/>
                  <a:pt x="15726" y="7045"/>
                </a:cubicBezTo>
                <a:cubicBezTo>
                  <a:pt x="15986" y="7045"/>
                  <a:pt x="15686" y="7037"/>
                  <a:pt x="15602" y="7045"/>
                </a:cubicBezTo>
                <a:cubicBezTo>
                  <a:pt x="15363" y="7067"/>
                  <a:pt x="15123" y="7104"/>
                  <a:pt x="14883" y="7119"/>
                </a:cubicBezTo>
                <a:cubicBezTo>
                  <a:pt x="14775" y="7126"/>
                  <a:pt x="14551" y="7144"/>
                  <a:pt x="14660" y="7144"/>
                </a:cubicBezTo>
                <a:cubicBezTo>
                  <a:pt x="14999" y="7144"/>
                  <a:pt x="15338" y="7144"/>
                  <a:pt x="15677" y="7144"/>
                </a:cubicBezTo>
                <a:cubicBezTo>
                  <a:pt x="15787" y="7144"/>
                  <a:pt x="16066" y="7144"/>
                  <a:pt x="15726" y="7144"/>
                </a:cubicBezTo>
                <a:cubicBezTo>
                  <a:pt x="15404" y="7144"/>
                  <a:pt x="15081" y="7144"/>
                  <a:pt x="14759" y="7144"/>
                </a:cubicBezTo>
                <a:cubicBezTo>
                  <a:pt x="14652" y="7144"/>
                  <a:pt x="14478" y="7144"/>
                  <a:pt x="14585" y="7144"/>
                </a:cubicBezTo>
                <a:cubicBezTo>
                  <a:pt x="14884" y="7144"/>
                  <a:pt x="15179" y="7123"/>
                  <a:pt x="15478" y="7119"/>
                </a:cubicBezTo>
                <a:cubicBezTo>
                  <a:pt x="15597" y="7117"/>
                  <a:pt x="15894" y="7127"/>
                  <a:pt x="15776" y="7144"/>
                </a:cubicBezTo>
                <a:cubicBezTo>
                  <a:pt x="15551" y="7176"/>
                  <a:pt x="15308" y="7153"/>
                  <a:pt x="15081" y="7169"/>
                </a:cubicBezTo>
                <a:cubicBezTo>
                  <a:pt x="15047" y="7171"/>
                  <a:pt x="14536" y="7193"/>
                  <a:pt x="14660" y="7193"/>
                </a:cubicBezTo>
                <a:cubicBezTo>
                  <a:pt x="14958" y="7193"/>
                  <a:pt x="15254" y="7169"/>
                  <a:pt x="15553" y="7169"/>
                </a:cubicBezTo>
                <a:cubicBezTo>
                  <a:pt x="15599" y="7169"/>
                  <a:pt x="15808" y="7132"/>
                  <a:pt x="15701" y="7169"/>
                </a:cubicBezTo>
                <a:cubicBezTo>
                  <a:pt x="15685" y="7177"/>
                  <a:pt x="15668" y="7185"/>
                  <a:pt x="15652" y="719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ight triangle: has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on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right ang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2971800"/>
            <a:ext cx="4419360" cy="190512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4495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4495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7240" y="7938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37120" y="2394000"/>
            <a:ext cx="803160" cy="17280"/>
          </a:xfrm>
          <a:custGeom>
            <a:avLst/>
            <a:gdLst/>
            <a:ahLst/>
            <a:rect l="l" t="t" r="r" b="b"/>
            <a:pathLst>
              <a:path w="2233" h="50">
                <a:moveTo>
                  <a:pt x="13990" y="6697"/>
                </a:moveTo>
                <a:cubicBezTo>
                  <a:pt x="14256" y="6697"/>
                  <a:pt x="14519" y="6682"/>
                  <a:pt x="14784" y="6672"/>
                </a:cubicBezTo>
                <a:cubicBezTo>
                  <a:pt x="15140" y="6658"/>
                  <a:pt x="15493" y="6648"/>
                  <a:pt x="15850" y="6648"/>
                </a:cubicBezTo>
                <a:cubicBezTo>
                  <a:pt x="15974" y="6648"/>
                  <a:pt x="16098" y="6648"/>
                  <a:pt x="16222" y="664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84920" y="2581200"/>
            <a:ext cx="1428840" cy="749520"/>
          </a:xfrm>
          <a:custGeom>
            <a:avLst/>
            <a:gdLst/>
            <a:ahLst/>
            <a:rect l="l" t="t" r="r" b="b"/>
            <a:pathLst>
              <a:path w="3970" h="2084">
                <a:moveTo>
                  <a:pt x="16346" y="7466"/>
                </a:moveTo>
                <a:cubicBezTo>
                  <a:pt x="16346" y="7508"/>
                  <a:pt x="16341" y="7500"/>
                  <a:pt x="16346" y="7541"/>
                </a:cubicBezTo>
                <a:cubicBezTo>
                  <a:pt x="16362" y="7674"/>
                  <a:pt x="16408" y="7805"/>
                  <a:pt x="16421" y="7938"/>
                </a:cubicBezTo>
                <a:cubicBezTo>
                  <a:pt x="16429" y="8026"/>
                  <a:pt x="16440" y="8128"/>
                  <a:pt x="16446" y="8210"/>
                </a:cubicBezTo>
                <a:cubicBezTo>
                  <a:pt x="16453" y="8306"/>
                  <a:pt x="16455" y="8390"/>
                  <a:pt x="16470" y="8483"/>
                </a:cubicBezTo>
                <a:cubicBezTo>
                  <a:pt x="16485" y="8575"/>
                  <a:pt x="16484" y="8661"/>
                  <a:pt x="16495" y="8756"/>
                </a:cubicBezTo>
                <a:cubicBezTo>
                  <a:pt x="16509" y="8878"/>
                  <a:pt x="16513" y="9035"/>
                  <a:pt x="16545" y="9153"/>
                </a:cubicBezTo>
                <a:cubicBezTo>
                  <a:pt x="16561" y="9211"/>
                  <a:pt x="16566" y="9232"/>
                  <a:pt x="16619" y="9252"/>
                </a:cubicBezTo>
                <a:cubicBezTo>
                  <a:pt x="16690" y="9279"/>
                  <a:pt x="16765" y="9231"/>
                  <a:pt x="16818" y="9227"/>
                </a:cubicBezTo>
                <a:cubicBezTo>
                  <a:pt x="16876" y="9223"/>
                  <a:pt x="16945" y="9208"/>
                  <a:pt x="16991" y="9203"/>
                </a:cubicBezTo>
                <a:cubicBezTo>
                  <a:pt x="17055" y="9196"/>
                  <a:pt x="17132" y="9182"/>
                  <a:pt x="17190" y="9178"/>
                </a:cubicBezTo>
                <a:cubicBezTo>
                  <a:pt x="17264" y="9173"/>
                  <a:pt x="17346" y="9158"/>
                  <a:pt x="17413" y="9153"/>
                </a:cubicBezTo>
                <a:cubicBezTo>
                  <a:pt x="17503" y="9146"/>
                  <a:pt x="17599" y="9133"/>
                  <a:pt x="17686" y="9128"/>
                </a:cubicBezTo>
                <a:cubicBezTo>
                  <a:pt x="17820" y="9120"/>
                  <a:pt x="17951" y="9124"/>
                  <a:pt x="18083" y="9103"/>
                </a:cubicBezTo>
                <a:cubicBezTo>
                  <a:pt x="18195" y="9085"/>
                  <a:pt x="18291" y="9081"/>
                  <a:pt x="18405" y="9079"/>
                </a:cubicBezTo>
                <a:cubicBezTo>
                  <a:pt x="18573" y="9075"/>
                  <a:pt x="18738" y="9065"/>
                  <a:pt x="18901" y="9054"/>
                </a:cubicBezTo>
                <a:cubicBezTo>
                  <a:pt x="19294" y="9026"/>
                  <a:pt x="19714" y="9058"/>
                  <a:pt x="20092" y="9029"/>
                </a:cubicBezTo>
                <a:cubicBezTo>
                  <a:pt x="20165" y="9023"/>
                  <a:pt x="20241" y="9029"/>
                  <a:pt x="20315" y="9029"/>
                </a:cubicBezTo>
                <a:cubicBezTo>
                  <a:pt x="20311" y="8975"/>
                  <a:pt x="20292" y="8872"/>
                  <a:pt x="20290" y="8855"/>
                </a:cubicBezTo>
                <a:cubicBezTo>
                  <a:pt x="20285" y="8796"/>
                  <a:pt x="20277" y="8755"/>
                  <a:pt x="20265" y="8706"/>
                </a:cubicBezTo>
                <a:cubicBezTo>
                  <a:pt x="20257" y="8673"/>
                  <a:pt x="20248" y="8635"/>
                  <a:pt x="20241" y="8607"/>
                </a:cubicBezTo>
                <a:cubicBezTo>
                  <a:pt x="20232" y="8571"/>
                  <a:pt x="20225" y="8539"/>
                  <a:pt x="20216" y="8508"/>
                </a:cubicBezTo>
                <a:cubicBezTo>
                  <a:pt x="20207" y="8476"/>
                  <a:pt x="20200" y="8466"/>
                  <a:pt x="20191" y="8434"/>
                </a:cubicBezTo>
                <a:cubicBezTo>
                  <a:pt x="20180" y="8394"/>
                  <a:pt x="20182" y="8348"/>
                  <a:pt x="20166" y="8310"/>
                </a:cubicBezTo>
                <a:cubicBezTo>
                  <a:pt x="20146" y="8262"/>
                  <a:pt x="20132" y="8240"/>
                  <a:pt x="20117" y="8186"/>
                </a:cubicBezTo>
                <a:cubicBezTo>
                  <a:pt x="20106" y="8147"/>
                  <a:pt x="20097" y="8129"/>
                  <a:pt x="20092" y="8086"/>
                </a:cubicBezTo>
                <a:cubicBezTo>
                  <a:pt x="20083" y="8006"/>
                  <a:pt x="20073" y="7913"/>
                  <a:pt x="20067" y="7838"/>
                </a:cubicBezTo>
                <a:cubicBezTo>
                  <a:pt x="20052" y="7657"/>
                  <a:pt x="20057" y="7471"/>
                  <a:pt x="20042" y="7293"/>
                </a:cubicBezTo>
                <a:cubicBezTo>
                  <a:pt x="20038" y="7243"/>
                  <a:pt x="20066" y="7180"/>
                  <a:pt x="20067" y="716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97360" y="2732040"/>
            <a:ext cx="1732320" cy="304920"/>
          </a:xfrm>
          <a:custGeom>
            <a:avLst/>
            <a:gdLst/>
            <a:ahLst/>
            <a:rect l="l" t="t" r="r" b="b"/>
            <a:pathLst>
              <a:path w="4814" h="845">
                <a:moveTo>
                  <a:pt x="15825" y="7615"/>
                </a:moveTo>
                <a:cubicBezTo>
                  <a:pt x="15895" y="7615"/>
                  <a:pt x="16029" y="7615"/>
                  <a:pt x="16123" y="7615"/>
                </a:cubicBezTo>
                <a:cubicBezTo>
                  <a:pt x="16520" y="7615"/>
                  <a:pt x="16882" y="7722"/>
                  <a:pt x="17264" y="7813"/>
                </a:cubicBezTo>
                <a:cubicBezTo>
                  <a:pt x="17706" y="7918"/>
                  <a:pt x="18157" y="7963"/>
                  <a:pt x="18604" y="8037"/>
                </a:cubicBezTo>
                <a:cubicBezTo>
                  <a:pt x="18968" y="8097"/>
                  <a:pt x="19331" y="8152"/>
                  <a:pt x="19695" y="8210"/>
                </a:cubicBezTo>
                <a:cubicBezTo>
                  <a:pt x="19914" y="8245"/>
                  <a:pt x="20158" y="8247"/>
                  <a:pt x="20365" y="8334"/>
                </a:cubicBezTo>
                <a:cubicBezTo>
                  <a:pt x="20446" y="8368"/>
                  <a:pt x="20533" y="8374"/>
                  <a:pt x="20613" y="8409"/>
                </a:cubicBezTo>
                <a:cubicBezTo>
                  <a:pt x="20638" y="8409"/>
                  <a:pt x="20646" y="8409"/>
                  <a:pt x="20638" y="843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86280" y="2697120"/>
            <a:ext cx="1608120" cy="758880"/>
          </a:xfrm>
          <a:custGeom>
            <a:avLst/>
            <a:gdLst/>
            <a:ahLst/>
            <a:rect l="l" t="t" r="r" b="b"/>
            <a:pathLst>
              <a:path w="4466" h="2109">
                <a:moveTo>
                  <a:pt x="20538" y="7491"/>
                </a:moveTo>
                <a:cubicBezTo>
                  <a:pt x="20457" y="7572"/>
                  <a:pt x="20373" y="7623"/>
                  <a:pt x="20265" y="7689"/>
                </a:cubicBezTo>
                <a:cubicBezTo>
                  <a:pt x="19992" y="7855"/>
                  <a:pt x="19694" y="7943"/>
                  <a:pt x="19397" y="8062"/>
                </a:cubicBezTo>
                <a:cubicBezTo>
                  <a:pt x="18959" y="8237"/>
                  <a:pt x="18511" y="8383"/>
                  <a:pt x="18083" y="8582"/>
                </a:cubicBezTo>
                <a:cubicBezTo>
                  <a:pt x="17739" y="8742"/>
                  <a:pt x="17388" y="8874"/>
                  <a:pt x="17041" y="9029"/>
                </a:cubicBezTo>
                <a:cubicBezTo>
                  <a:pt x="16806" y="9134"/>
                  <a:pt x="16585" y="9239"/>
                  <a:pt x="16371" y="9376"/>
                </a:cubicBezTo>
                <a:cubicBezTo>
                  <a:pt x="16261" y="9446"/>
                  <a:pt x="16168" y="9512"/>
                  <a:pt x="16073" y="959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ccps</cp:lastModifiedBy>
  <dcterms:modified xsi:type="dcterms:W3CDTF">2010-01-28T18:42:18Z</dcterms:modified>
  <cp:revision>20</cp:revision>
  <dc:subject/>
  <dc:title>Unit 6: Geometry</dc:title>
</cp:coreProperties>
</file>